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B40-CEC0-4C7C-9A8A-D27C079A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60B-B0EC-49FA-AA14-3C5E23F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03D-D3C4-4575-9977-EEF75797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8D7-0790-43B0-8182-C56E1CA0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DB6-2CF0-4025-A02E-F79CDA3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502-68BC-4270-93A9-9A683541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C7B-9BF1-4FF8-835C-0527B24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D27-CAD5-4DB1-A7A8-85E33ECB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FCF-D90E-4330-8E1C-E9303BC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BEF-7B33-4232-8D48-4DEE88C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474-7C9B-4200-BBC6-741712B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69E-2D30-4591-9473-ABE5FA79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3945-442A-4D13-8885-26AC53DE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38280" y="517680"/>
            <a:ext cx="9207000" cy="8416440"/>
            <a:chOff x="638280" y="517680"/>
            <a:chExt cx="9207000" cy="8416440"/>
          </a:xfrm>
        </p:grpSpPr>
        <p:sp>
          <p:nvSpPr>
            <p:cNvPr id="42" name=""/>
            <p:cNvSpPr/>
            <p:nvPr/>
          </p:nvSpPr>
          <p:spPr>
            <a:xfrm flipV="1">
              <a:off x="3722760" y="2343240"/>
              <a:ext cx="4917960" cy="49212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84920" y="3227400"/>
              <a:ext cx="1917720" cy="1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8515440" y="2394360"/>
              <a:ext cx="699840" cy="21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5480" y="5730840"/>
              <a:ext cx="3273480" cy="3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8067240" y="4062240"/>
              <a:ext cx="158292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72360" y="4889520"/>
              <a:ext cx="2028960" cy="1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661080" y="3985920"/>
              <a:ext cx="349200" cy="352440"/>
              <a:chOff x="6661080" y="3985920"/>
              <a:chExt cx="349200" cy="35244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6661080" y="3989520"/>
                <a:ext cx="342720" cy="344160"/>
                <a:chOff x="6661080" y="3989520"/>
                <a:chExt cx="342720" cy="34416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6661080" y="39895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661080" y="39895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 flipV="1">
                <a:off x="6662520" y="398592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14760" y="4532400"/>
              <a:ext cx="142920" cy="139680"/>
              <a:chOff x="6314760" y="4532400"/>
              <a:chExt cx="142920" cy="139680"/>
            </a:xfrm>
          </p:grpSpPr>
          <p:sp>
            <p:nvSpPr>
              <p:cNvPr id="54" name=""/>
              <p:cNvSpPr/>
              <p:nvPr/>
            </p:nvSpPr>
            <p:spPr>
              <a:xfrm>
                <a:off x="6382080" y="45324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6314760" y="46022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783960" y="5067000"/>
              <a:ext cx="1629720" cy="1500840"/>
              <a:chOff x="3783960" y="5067000"/>
              <a:chExt cx="1629720" cy="15008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783960" y="5067000"/>
                <a:ext cx="1629720" cy="1500840"/>
                <a:chOff x="3783960" y="5067000"/>
                <a:chExt cx="1629720" cy="1500840"/>
              </a:xfrm>
            </p:grpSpPr>
            <p:sp>
              <p:nvSpPr>
                <p:cNvPr id="58" name=""/>
                <p:cNvSpPr/>
                <p:nvPr/>
              </p:nvSpPr>
              <p:spPr>
                <a:xfrm flipH="1">
                  <a:off x="4090320" y="5550480"/>
                  <a:ext cx="1018080" cy="1016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8103000">
                  <a:off x="3990960" y="6281640"/>
                  <a:ext cx="107640" cy="290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8103000">
                  <a:off x="3816720" y="6200280"/>
                  <a:ext cx="171360" cy="1634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3000">
                  <a:off x="4177440" y="6094800"/>
                  <a:ext cx="473400" cy="109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8103000">
                  <a:off x="4530240" y="5793840"/>
                  <a:ext cx="1843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rot="10800000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4928040" y="5069160"/>
                  <a:ext cx="485640" cy="486000"/>
                  <a:chOff x="4928040" y="5069160"/>
                  <a:chExt cx="485640" cy="4860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rot="8103000">
                    <a:off x="4999320" y="513972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flipV="1">
                    <a:off x="4928040" y="5311440"/>
                    <a:ext cx="485640" cy="144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" name=""/>
                <p:cNvSpPr/>
                <p:nvPr/>
              </p:nvSpPr>
              <p:spPr>
                <a:xfrm>
                  <a:off x="5166000" y="5067000"/>
                  <a:ext cx="3240" cy="49500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 flipV="1">
                  <a:off x="4718520" y="5544720"/>
                  <a:ext cx="98640" cy="9900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4714560" y="5546520"/>
                  <a:ext cx="101160" cy="10116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 flipH="1" flipV="1">
                <a:off x="5061240" y="5508000"/>
                <a:ext cx="91800" cy="9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3267000" y="4009680"/>
              <a:ext cx="4923000" cy="4924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24280" y="738648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74120" y="55594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7602480" y="5751360"/>
              <a:ext cx="362160" cy="3621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81080" y="5647680"/>
              <a:ext cx="6714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5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8861400" y="5672160"/>
              <a:ext cx="142560" cy="139680"/>
              <a:chOff x="8861400" y="5672160"/>
              <a:chExt cx="142560" cy="139680"/>
            </a:xfrm>
          </p:grpSpPr>
          <p:sp>
            <p:nvSpPr>
              <p:cNvPr id="76" name=""/>
              <p:cNvSpPr/>
              <p:nvPr/>
            </p:nvSpPr>
            <p:spPr>
              <a:xfrm>
                <a:off x="8928000" y="5672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8861400" y="574200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 flipH="1" flipV="1">
              <a:off x="7722720" y="7341840"/>
              <a:ext cx="1352520" cy="13539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7964640" y="6113160"/>
              <a:ext cx="1309680" cy="13078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8585280" y="7315200"/>
              <a:ext cx="142920" cy="139680"/>
              <a:chOff x="8585280" y="7315200"/>
              <a:chExt cx="142920" cy="139680"/>
            </a:xfrm>
          </p:grpSpPr>
          <p:sp>
            <p:nvSpPr>
              <p:cNvPr id="81" name=""/>
              <p:cNvSpPr/>
              <p:nvPr/>
            </p:nvSpPr>
            <p:spPr>
              <a:xfrm>
                <a:off x="8660880" y="7315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85280" y="73850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072280" y="7704000"/>
              <a:ext cx="142920" cy="139680"/>
              <a:chOff x="8072280" y="7704000"/>
              <a:chExt cx="142920" cy="139680"/>
            </a:xfrm>
          </p:grpSpPr>
          <p:sp>
            <p:nvSpPr>
              <p:cNvPr id="84" name=""/>
              <p:cNvSpPr/>
              <p:nvPr/>
            </p:nvSpPr>
            <p:spPr>
              <a:xfrm>
                <a:off x="8148240" y="7704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72280" y="7773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512120" y="7597440"/>
              <a:ext cx="347760" cy="352440"/>
              <a:chOff x="7512120" y="7597440"/>
              <a:chExt cx="347760" cy="3524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7515360" y="7601040"/>
                <a:ext cx="342720" cy="344520"/>
                <a:chOff x="7515360" y="7601040"/>
                <a:chExt cx="342720" cy="344520"/>
              </a:xfrm>
            </p:grpSpPr>
            <p:sp>
              <p:nvSpPr>
                <p:cNvPr id="88" name=""/>
                <p:cNvSpPr/>
                <p:nvPr/>
              </p:nvSpPr>
              <p:spPr>
                <a:xfrm flipH="1">
                  <a:off x="7515360" y="76010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7515360" y="76010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 flipH="1" flipV="1">
                <a:off x="7512120" y="75974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846920" y="6636960"/>
              <a:ext cx="347760" cy="352440"/>
              <a:chOff x="7846920" y="6636960"/>
              <a:chExt cx="347760" cy="3524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7850160" y="6640560"/>
                <a:ext cx="343080" cy="344520"/>
                <a:chOff x="7850160" y="6640560"/>
                <a:chExt cx="343080" cy="34452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7849800" y="664056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850160" y="664056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 flipH="1" flipV="1">
                <a:off x="7846920" y="66369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7659360" y="73699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8359920" y="6500880"/>
              <a:ext cx="142560" cy="139680"/>
              <a:chOff x="8359920" y="6500880"/>
              <a:chExt cx="142560" cy="139680"/>
            </a:xfrm>
          </p:grpSpPr>
          <p:sp>
            <p:nvSpPr>
              <p:cNvPr id="98" name=""/>
              <p:cNvSpPr/>
              <p:nvPr/>
            </p:nvSpPr>
            <p:spPr>
              <a:xfrm>
                <a:off x="8436240" y="65008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359920" y="65707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6257520" y="8215200"/>
              <a:ext cx="228276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4960" y="80424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8836560" y="71780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869960" y="795888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678800" y="8143920"/>
              <a:ext cx="142920" cy="139680"/>
              <a:chOff x="7678800" y="8143920"/>
              <a:chExt cx="142920" cy="139680"/>
            </a:xfrm>
          </p:grpSpPr>
          <p:sp>
            <p:nvSpPr>
              <p:cNvPr id="105" name=""/>
              <p:cNvSpPr/>
              <p:nvPr/>
            </p:nvSpPr>
            <p:spPr>
              <a:xfrm>
                <a:off x="7754760" y="81439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78800" y="82137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 flipV="1">
              <a:off x="7850160" y="5883120"/>
              <a:ext cx="1440" cy="765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51600" y="6997680"/>
              <a:ext cx="0" cy="1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857720" y="7165800"/>
              <a:ext cx="979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74120" y="47196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74120" y="38908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73400" y="571752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E 105/1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51480" y="55810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246800" y="47458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85000" y="4530240"/>
              <a:ext cx="347760" cy="352440"/>
              <a:chOff x="6885000" y="4530240"/>
              <a:chExt cx="347760" cy="3524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888240" y="4533840"/>
                <a:ext cx="343080" cy="344520"/>
                <a:chOff x="6888240" y="4533840"/>
                <a:chExt cx="343080" cy="34452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6887880" y="45338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6888240" y="453384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 flipH="1" flipV="1">
                <a:off x="6885000" y="45302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89680" y="5381280"/>
              <a:ext cx="347760" cy="352440"/>
              <a:chOff x="5989680" y="5381280"/>
              <a:chExt cx="347760" cy="3524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5992920" y="5384880"/>
                <a:ext cx="343080" cy="344520"/>
                <a:chOff x="5992920" y="5384880"/>
                <a:chExt cx="343080" cy="344520"/>
              </a:xfrm>
            </p:grpSpPr>
            <p:sp>
              <p:nvSpPr>
                <p:cNvPr id="122" name=""/>
                <p:cNvSpPr/>
                <p:nvPr/>
              </p:nvSpPr>
              <p:spPr>
                <a:xfrm flipH="1">
                  <a:off x="5992560" y="538488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5992920" y="538488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 flipH="1" flipV="1">
                <a:off x="5989680" y="53812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8862840" y="4822920"/>
              <a:ext cx="142560" cy="139680"/>
              <a:chOff x="8862840" y="4822920"/>
              <a:chExt cx="142560" cy="139680"/>
            </a:xfrm>
          </p:grpSpPr>
          <p:sp>
            <p:nvSpPr>
              <p:cNvPr id="126" name=""/>
              <p:cNvSpPr/>
              <p:nvPr/>
            </p:nvSpPr>
            <p:spPr>
              <a:xfrm>
                <a:off x="8929440" y="48229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8862840" y="489276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8859960" y="4005360"/>
              <a:ext cx="142560" cy="139680"/>
              <a:chOff x="8859960" y="4005360"/>
              <a:chExt cx="142560" cy="139680"/>
            </a:xfrm>
          </p:grpSpPr>
          <p:sp>
            <p:nvSpPr>
              <p:cNvPr id="129" name=""/>
              <p:cNvSpPr/>
              <p:nvPr/>
            </p:nvSpPr>
            <p:spPr>
              <a:xfrm>
                <a:off x="8926560" y="4005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8859960" y="407520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861400" y="3165480"/>
              <a:ext cx="142560" cy="139680"/>
              <a:chOff x="8861400" y="3165480"/>
              <a:chExt cx="142560" cy="139680"/>
            </a:xfrm>
          </p:grpSpPr>
          <p:sp>
            <p:nvSpPr>
              <p:cNvPr id="132" name=""/>
              <p:cNvSpPr/>
              <p:nvPr/>
            </p:nvSpPr>
            <p:spPr>
              <a:xfrm>
                <a:off x="8928000" y="3165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861400" y="32353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861400" y="2330280"/>
              <a:ext cx="142560" cy="139680"/>
              <a:chOff x="8861400" y="2330280"/>
              <a:chExt cx="142560" cy="13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928000" y="2330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861400" y="24001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7637040" y="30884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275240" y="2873160"/>
              <a:ext cx="347400" cy="352440"/>
              <a:chOff x="7275240" y="2873160"/>
              <a:chExt cx="347400" cy="352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7278840" y="2876760"/>
                <a:ext cx="342720" cy="344520"/>
                <a:chOff x="7278840" y="2876760"/>
                <a:chExt cx="342720" cy="34452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7278840" y="28767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78840" y="28767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 flipV="1">
                <a:off x="7275240" y="287316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18907200">
              <a:off x="5475600" y="4920120"/>
              <a:ext cx="91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05/106 N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8308800" y="7313760"/>
              <a:ext cx="142920" cy="139680"/>
              <a:chOff x="8308800" y="7313760"/>
              <a:chExt cx="142920" cy="139680"/>
            </a:xfrm>
          </p:grpSpPr>
          <p:sp>
            <p:nvSpPr>
              <p:cNvPr id="145" name=""/>
              <p:cNvSpPr/>
              <p:nvPr/>
            </p:nvSpPr>
            <p:spPr>
              <a:xfrm>
                <a:off x="8384400" y="73137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08800" y="73836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 txBox="1"/>
            <p:nvPr/>
          </p:nvSpPr>
          <p:spPr>
            <a:xfrm>
              <a:off x="638280" y="517680"/>
              <a:ext cx="847800" cy="361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1f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WSNT</a:t>
              </a:r>
              <a:endPara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1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521000" y="522360"/>
              <a:ext cx="161640" cy="142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0f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EH</a:t>
              </a:r>
              <a:endParaRPr b="1" i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86080" y="480960"/>
            <a:ext cx="241200" cy="2253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1495440" y="-4017960"/>
            <a:ext cx="10449000" cy="12552480"/>
            <a:chOff x="1495440" y="-4017960"/>
            <a:chExt cx="10449000" cy="12552480"/>
          </a:xfrm>
        </p:grpSpPr>
        <p:sp>
          <p:nvSpPr>
            <p:cNvPr id="898" name=""/>
            <p:cNvSpPr/>
            <p:nvPr/>
          </p:nvSpPr>
          <p:spPr>
            <a:xfrm flipV="1">
              <a:off x="4950000" y="1806480"/>
              <a:ext cx="1400040" cy="1400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175080" y="5545080"/>
              <a:ext cx="912600" cy="29131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165720" y="6621480"/>
              <a:ext cx="1244880" cy="18493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184440" y="6505560"/>
              <a:ext cx="2716200" cy="1946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389720" y="5248080"/>
              <a:ext cx="1400400" cy="14000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95880" y="8381880"/>
              <a:ext cx="152640" cy="15264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7741800" y="980640"/>
              <a:ext cx="1747800" cy="17528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8199360" y="1441440"/>
              <a:ext cx="1292400" cy="1292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465280" y="-4017960"/>
              <a:ext cx="6194520" cy="61898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109040" y="-812880"/>
              <a:ext cx="1017720" cy="101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8103000">
              <a:off x="4009680" y="-81360"/>
              <a:ext cx="108000" cy="2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8103000">
              <a:off x="3836520" y="-161640"/>
              <a:ext cx="171720" cy="16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8103000">
              <a:off x="4196880" y="-26676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8103000">
              <a:off x="4547880" y="-57276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4738680" y="-817560"/>
              <a:ext cx="9864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733640" y="-815040"/>
              <a:ext cx="101160" cy="101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5081760" y="-853560"/>
              <a:ext cx="91800" cy="9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1495440" y="-2351160"/>
              <a:ext cx="6713640" cy="67104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959080" y="102564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7621200" y="-609840"/>
              <a:ext cx="361800" cy="36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00160" y="-713520"/>
              <a:ext cx="6714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5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7983000" y="-247680"/>
              <a:ext cx="1310040" cy="13082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680320" y="954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04360" y="10238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534440" y="123984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534440" y="1239840"/>
              <a:ext cx="34272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7530840" y="1236240"/>
              <a:ext cx="34740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869240" y="27936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869240" y="279360"/>
              <a:ext cx="34272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7866000" y="27576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678440" y="10090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67560" y="147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91600" y="2174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229080" y="1854360"/>
              <a:ext cx="233028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74040" y="16844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8855640" y="8168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3840" y="17827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97880" y="1852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7869240" y="-478080"/>
              <a:ext cx="1440" cy="765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0680" y="636480"/>
              <a:ext cx="0" cy="1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876800" y="804960"/>
              <a:ext cx="979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92480" y="-643680"/>
              <a:ext cx="71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E 105/1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404200" y="9525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327880" y="10224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8879040" y="3457440"/>
              <a:ext cx="3065400" cy="30672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051680" y="1606320"/>
              <a:ext cx="4010040" cy="4011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889040" y="159804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167680" y="13431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91360" y="14130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686520" y="25758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W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431280" y="26146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354960" y="2684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558360" y="3025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482040" y="3095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18878400">
              <a:off x="3699720" y="35665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1600" y="313128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8907200">
              <a:off x="7628760" y="456156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69200" y="405612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69200" y="405612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8271000" y="405252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8200" y="5013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490880" y="5083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415440" y="59151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9348480" y="59850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8899400">
              <a:off x="9777240" y="3119040"/>
              <a:ext cx="266760" cy="25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18899400">
              <a:off x="9790920" y="3134520"/>
              <a:ext cx="241200" cy="23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817560" y="3161160"/>
              <a:ext cx="180000" cy="18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9285480" y="3350880"/>
              <a:ext cx="526320" cy="52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224280" y="3827520"/>
              <a:ext cx="110880" cy="11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18899400">
              <a:off x="9466560" y="34387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8899400">
              <a:off x="8971200" y="386172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899920" y="4033440"/>
              <a:ext cx="486000" cy="10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9142560" y="3783960"/>
              <a:ext cx="3240" cy="494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488520" y="3763800"/>
              <a:ext cx="9864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9485280" y="3764160"/>
              <a:ext cx="101160" cy="101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7051680" y="1682280"/>
              <a:ext cx="349200" cy="352440"/>
              <a:chOff x="7051680" y="1682280"/>
              <a:chExt cx="349200" cy="352440"/>
            </a:xfrm>
          </p:grpSpPr>
          <p:sp>
            <p:nvSpPr>
              <p:cNvPr id="974" name=""/>
              <p:cNvSpPr/>
              <p:nvPr/>
            </p:nvSpPr>
            <p:spPr>
              <a:xfrm>
                <a:off x="7051680" y="16858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051680" y="1685880"/>
                <a:ext cx="343080" cy="34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7053480" y="1682280"/>
                <a:ext cx="34740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6327360" y="1792440"/>
              <a:ext cx="142920" cy="139680"/>
              <a:chOff x="6327360" y="1792440"/>
              <a:chExt cx="142920" cy="139680"/>
            </a:xfrm>
          </p:grpSpPr>
          <p:sp>
            <p:nvSpPr>
              <p:cNvPr id="978" name=""/>
              <p:cNvSpPr/>
              <p:nvPr/>
            </p:nvSpPr>
            <p:spPr>
              <a:xfrm>
                <a:off x="6394320" y="17924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6327360" y="186228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6445440" y="172800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30 Sü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2313000" y="974520"/>
              <a:ext cx="3767040" cy="37717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4754160" y="1690560"/>
              <a:ext cx="1080" cy="6480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4754160" y="1042560"/>
              <a:ext cx="1080" cy="6476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62320" y="4627440"/>
              <a:ext cx="0" cy="34848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46200" y="4241880"/>
              <a:ext cx="0" cy="3484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7400" y="1341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59000" y="1407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3586680" y="1009800"/>
              <a:ext cx="2160" cy="12571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3063960" y="1857240"/>
              <a:ext cx="342720" cy="344520"/>
              <a:chOff x="3063960" y="1857240"/>
              <a:chExt cx="342720" cy="344520"/>
            </a:xfrm>
          </p:grpSpPr>
          <p:sp>
            <p:nvSpPr>
              <p:cNvPr id="990" name=""/>
              <p:cNvSpPr/>
              <p:nvPr/>
            </p:nvSpPr>
            <p:spPr>
              <a:xfrm flipH="1">
                <a:off x="3063960" y="18572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3063960" y="185724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 flipH="1" flipV="1">
              <a:off x="3060720" y="185400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336480" y="10072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75120" y="1800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98800" y="18702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420720" y="21092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2680" y="15429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46360" y="16128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3406680" y="1236600"/>
              <a:ext cx="1800" cy="347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405240" y="1577880"/>
              <a:ext cx="1440" cy="347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234680" y="18604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4235040" y="1860480"/>
              <a:ext cx="34308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4232160" y="185400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508280" y="10072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65640" y="18194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89680" y="188928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4592520" y="21092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57760" y="1584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81440" y="16542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4578480" y="1236600"/>
              <a:ext cx="1440" cy="347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4576680" y="1577880"/>
              <a:ext cx="1800" cy="347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71840" y="1413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95880" y="14828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46600" y="550080"/>
              <a:ext cx="24300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35320" y="267408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02720" y="2968200"/>
              <a:ext cx="1017720" cy="101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8903000">
              <a:off x="4413240" y="2962440"/>
              <a:ext cx="108000" cy="2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8903000">
              <a:off x="4524120" y="3169800"/>
              <a:ext cx="171360" cy="16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8903000">
              <a:off x="3860640" y="3328920"/>
              <a:ext cx="47340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8903000">
              <a:off x="3794040" y="342864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3098520" y="3978720"/>
              <a:ext cx="486000" cy="486000"/>
              <a:chOff x="3098520" y="3978720"/>
              <a:chExt cx="486000" cy="486000"/>
            </a:xfrm>
          </p:grpSpPr>
          <p:sp>
            <p:nvSpPr>
              <p:cNvPr id="1022" name=""/>
              <p:cNvSpPr/>
              <p:nvPr/>
            </p:nvSpPr>
            <p:spPr>
              <a:xfrm rot="18903000">
                <a:off x="3169800" y="404928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98520" y="4221000"/>
                <a:ext cx="486000" cy="18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 flipH="1" flipV="1">
              <a:off x="3342600" y="3971880"/>
              <a:ext cx="2880" cy="495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693960" y="3890880"/>
              <a:ext cx="9864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3696120" y="3886560"/>
              <a:ext cx="100800" cy="10080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60960" y="3938760"/>
              <a:ext cx="91800" cy="9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600">
              <a:off x="2547000" y="587124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2546280" y="5872320"/>
              <a:ext cx="344520" cy="3427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2539800" y="5870520"/>
              <a:ext cx="352440" cy="3477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188800" y="6159960"/>
              <a:ext cx="344520" cy="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6200600">
              <a:off x="2579040" y="4645440"/>
              <a:ext cx="431640" cy="4302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93960" y="5073480"/>
              <a:ext cx="0" cy="74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14760" y="5826240"/>
              <a:ext cx="156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19240" y="5559480"/>
              <a:ext cx="14004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89440" y="5489640"/>
              <a:ext cx="0" cy="1429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6216200">
              <a:off x="2558160" y="538200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rot="16199400">
              <a:off x="2683440" y="5150520"/>
              <a:ext cx="50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J/R/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49800" y="267012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49800" y="267012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151600" y="266652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969160" y="2065320"/>
              <a:ext cx="142560" cy="139680"/>
              <a:chOff x="5969160" y="2065320"/>
              <a:chExt cx="142560" cy="13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035760" y="206532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5969160" y="213516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6054840" y="1858320"/>
              <a:ext cx="24300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8932400">
              <a:off x="5387760" y="229932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30 N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-3150000" y="-631080"/>
            <a:ext cx="24041520" cy="9822600"/>
            <a:chOff x="-3150000" y="-631080"/>
            <a:chExt cx="24041520" cy="9822600"/>
          </a:xfrm>
        </p:grpSpPr>
        <p:sp>
          <p:nvSpPr>
            <p:cNvPr id="1048" name=""/>
            <p:cNvSpPr/>
            <p:nvPr/>
          </p:nvSpPr>
          <p:spPr>
            <a:xfrm>
              <a:off x="1646280" y="2212920"/>
              <a:ext cx="193680" cy="250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-1405080" y="980640"/>
              <a:ext cx="1748160" cy="17528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-947880" y="1441440"/>
              <a:ext cx="1292400" cy="1295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28600" y="2682720"/>
              <a:ext cx="8586720" cy="36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549360" y="-631080"/>
              <a:ext cx="9499680" cy="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9037800" y="6196320"/>
              <a:ext cx="924228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1913040" y="974520"/>
              <a:ext cx="631800" cy="6318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9421920" y="7024680"/>
              <a:ext cx="1146960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1160" y="-104760"/>
              <a:ext cx="10137600" cy="8589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717480" y="1026000"/>
              <a:ext cx="9242640" cy="7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6942240" y="6145200"/>
              <a:ext cx="2216160" cy="2217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7326360" y="6973920"/>
              <a:ext cx="2216160" cy="2217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41280" y="816480"/>
              <a:ext cx="24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1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2576240" y="598536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1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480 - 56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2577680" y="682200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2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550 - 6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-2603880" y="102564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-1163520" y="-247680"/>
              <a:ext cx="1309680" cy="13082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-1612800" y="1239840"/>
              <a:ext cx="342720" cy="344520"/>
              <a:chOff x="-1612800" y="1239840"/>
              <a:chExt cx="342720" cy="344520"/>
            </a:xfrm>
          </p:grpSpPr>
          <p:sp>
            <p:nvSpPr>
              <p:cNvPr id="1066" name=""/>
              <p:cNvSpPr/>
              <p:nvPr/>
            </p:nvSpPr>
            <p:spPr>
              <a:xfrm flipH="1">
                <a:off x="-1612800" y="12398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-1612800" y="123984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 flipH="1" flipV="1">
              <a:off x="-1616040" y="123624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1573200" y="16812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-291600" y="8168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-1373040" y="17827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1449360" y="1852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-1270440" y="804960"/>
              <a:ext cx="979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6920" y="1314360"/>
              <a:ext cx="10137600" cy="10969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906040" y="2413080"/>
              <a:ext cx="1936440" cy="35067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912160" y="1819440"/>
              <a:ext cx="1936800" cy="1239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8921000">
              <a:off x="5773680" y="5692320"/>
              <a:ext cx="4299120" cy="10699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912160" y="4086360"/>
              <a:ext cx="1936800" cy="1830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676600" y="3504600"/>
              <a:ext cx="613872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46200" y="9525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69880" y="10224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73160" y="147780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897200" y="154764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408760" y="9201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541600" y="1147320"/>
              <a:ext cx="347760" cy="352440"/>
              <a:chOff x="2541600" y="1147320"/>
              <a:chExt cx="347760" cy="35244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2544840" y="1150920"/>
                <a:ext cx="343080" cy="344520"/>
                <a:chOff x="2544840" y="1150920"/>
                <a:chExt cx="343080" cy="344520"/>
              </a:xfrm>
            </p:grpSpPr>
            <p:sp>
              <p:nvSpPr>
                <p:cNvPr id="1087" name=""/>
                <p:cNvSpPr/>
                <p:nvPr/>
              </p:nvSpPr>
              <p:spPr>
                <a:xfrm flipH="1">
                  <a:off x="2544480" y="11509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>
                  <a:off x="2544840" y="11509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 flipH="1" flipV="1">
                <a:off x="2541600" y="11473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7689960" y="850680"/>
              <a:ext cx="349200" cy="352440"/>
              <a:chOff x="7689960" y="850680"/>
              <a:chExt cx="349200" cy="352440"/>
            </a:xfrm>
          </p:grpSpPr>
          <p:sp>
            <p:nvSpPr>
              <p:cNvPr id="1091" name=""/>
              <p:cNvSpPr/>
              <p:nvPr/>
            </p:nvSpPr>
            <p:spPr>
              <a:xfrm>
                <a:off x="7689960" y="8542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89960" y="85428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691400" y="85068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288200" y="963720"/>
              <a:ext cx="142560" cy="139680"/>
              <a:chOff x="7288200" y="963720"/>
              <a:chExt cx="142560" cy="139680"/>
            </a:xfrm>
          </p:grpSpPr>
          <p:sp>
            <p:nvSpPr>
              <p:cNvPr id="1095" name=""/>
              <p:cNvSpPr/>
              <p:nvPr/>
            </p:nvSpPr>
            <p:spPr>
              <a:xfrm>
                <a:off x="7354800" y="963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7288200" y="103356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flipV="1">
              <a:off x="-268200" y="3457440"/>
              <a:ext cx="3065400" cy="30672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33360" y="4298760"/>
              <a:ext cx="2930400" cy="2927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3143160" y="4349880"/>
              <a:ext cx="1292400" cy="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516040" y="3457440"/>
              <a:ext cx="2843280" cy="2841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-2095560" y="1606320"/>
              <a:ext cx="4010040" cy="4011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-1258200" y="159804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-979560" y="13431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1055520" y="141300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876840" y="25146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9280" y="257580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W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6767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994200" y="47466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0800000">
              <a:off x="1829880" y="2212560"/>
              <a:ext cx="266760" cy="2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0800000">
              <a:off x="1843200" y="222372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1968480" y="2214360"/>
              <a:ext cx="0" cy="25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06720" y="233856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859120" y="2258640"/>
              <a:ext cx="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34360" y="213048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2883240" y="2154240"/>
              <a:ext cx="348840" cy="352440"/>
              <a:chOff x="2883240" y="2154240"/>
              <a:chExt cx="348840" cy="352440"/>
            </a:xfrm>
          </p:grpSpPr>
          <p:grpSp>
            <p:nvGrpSpPr>
              <p:cNvPr id="1116" name=""/>
              <p:cNvGrpSpPr/>
              <p:nvPr/>
            </p:nvGrpSpPr>
            <p:grpSpPr>
              <a:xfrm>
                <a:off x="2889360" y="2158920"/>
                <a:ext cx="342720" cy="344160"/>
                <a:chOff x="2889360" y="2158920"/>
                <a:chExt cx="342720" cy="344160"/>
              </a:xfrm>
            </p:grpSpPr>
            <p:sp>
              <p:nvSpPr>
                <p:cNvPr id="1117" name=""/>
                <p:cNvSpPr/>
                <p:nvPr/>
              </p:nvSpPr>
              <p:spPr>
                <a:xfrm rot="10800000">
                  <a:off x="2889360" y="21589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>
                  <a:off x="2889360" y="21589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"/>
              <p:cNvSpPr/>
              <p:nvPr/>
            </p:nvSpPr>
            <p:spPr>
              <a:xfrm flipH="1">
                <a:off x="2883240" y="2154240"/>
                <a:ext cx="34740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2565360" y="2139840"/>
              <a:ext cx="142920" cy="139680"/>
              <a:chOff x="2565360" y="2139840"/>
              <a:chExt cx="142920" cy="139680"/>
            </a:xfrm>
          </p:grpSpPr>
          <p:sp>
            <p:nvSpPr>
              <p:cNvPr id="1121" name=""/>
              <p:cNvSpPr/>
              <p:nvPr/>
            </p:nvSpPr>
            <p:spPr>
              <a:xfrm flipV="1">
                <a:off x="2640960" y="213984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565360" y="220968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2192400" y="251460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92400" y="2514600"/>
              <a:ext cx="34272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193840" y="251100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4522680" y="2511000"/>
              <a:ext cx="349200" cy="352440"/>
              <a:chOff x="4522680" y="2511000"/>
              <a:chExt cx="349200" cy="352440"/>
            </a:xfrm>
          </p:grpSpPr>
          <p:sp>
            <p:nvSpPr>
              <p:cNvPr id="1127" name=""/>
              <p:cNvSpPr/>
              <p:nvPr/>
            </p:nvSpPr>
            <p:spPr>
              <a:xfrm>
                <a:off x="4522680" y="25146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522680" y="25146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4524120" y="251100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4121280" y="2624040"/>
              <a:ext cx="142560" cy="139680"/>
              <a:chOff x="4121280" y="2624040"/>
              <a:chExt cx="142560" cy="139680"/>
            </a:xfrm>
          </p:grpSpPr>
          <p:sp>
            <p:nvSpPr>
              <p:cNvPr id="1131" name=""/>
              <p:cNvSpPr/>
              <p:nvPr/>
            </p:nvSpPr>
            <p:spPr>
              <a:xfrm>
                <a:off x="4187880" y="26240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121280" y="26938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1476360" y="25146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1571760" y="2624040"/>
              <a:ext cx="142560" cy="139680"/>
              <a:chOff x="1571760" y="2624040"/>
              <a:chExt cx="142560" cy="139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1638360" y="26240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1571760" y="26938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672560" y="255996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72600" y="2477160"/>
              <a:ext cx="179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1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2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97800" y="25131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7667640" y="2511000"/>
              <a:ext cx="349200" cy="352440"/>
              <a:chOff x="7667640" y="2511000"/>
              <a:chExt cx="349200" cy="352440"/>
            </a:xfrm>
          </p:grpSpPr>
          <p:sp>
            <p:nvSpPr>
              <p:cNvPr id="1141" name=""/>
              <p:cNvSpPr/>
              <p:nvPr/>
            </p:nvSpPr>
            <p:spPr>
              <a:xfrm>
                <a:off x="7667640" y="25146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67640" y="25146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7669080" y="251100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7129440" y="2624040"/>
              <a:ext cx="142560" cy="139680"/>
              <a:chOff x="7129440" y="2624040"/>
              <a:chExt cx="142560" cy="139680"/>
            </a:xfrm>
          </p:grpSpPr>
          <p:sp>
            <p:nvSpPr>
              <p:cNvPr id="1145" name=""/>
              <p:cNvSpPr/>
              <p:nvPr/>
            </p:nvSpPr>
            <p:spPr>
              <a:xfrm>
                <a:off x="7196040" y="26240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129440" y="26938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>
              <a:off x="7222320" y="255996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5800" y="853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00320" y="26193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24000" y="26892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4040" y="26146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08080" y="2684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06440" y="21398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30480" y="220968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120" y="3025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800" y="3095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0800000">
              <a:off x="2637000" y="555120"/>
              <a:ext cx="266400" cy="2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0800000">
              <a:off x="2649600" y="566640"/>
              <a:ext cx="241200" cy="23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774880" y="556920"/>
              <a:ext cx="0" cy="25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13120" y="68112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665520" y="601200"/>
              <a:ext cx="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40760" y="47304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Hs 1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3689640" y="496800"/>
              <a:ext cx="348840" cy="352440"/>
              <a:chOff x="3689640" y="496800"/>
              <a:chExt cx="348840" cy="352440"/>
            </a:xfrm>
          </p:grpSpPr>
          <p:grpSp>
            <p:nvGrpSpPr>
              <p:cNvPr id="1164" name=""/>
              <p:cNvGrpSpPr/>
              <p:nvPr/>
            </p:nvGrpSpPr>
            <p:grpSpPr>
              <a:xfrm>
                <a:off x="3695760" y="501480"/>
                <a:ext cx="342720" cy="344160"/>
                <a:chOff x="3695760" y="501480"/>
                <a:chExt cx="342720" cy="344160"/>
              </a:xfrm>
            </p:grpSpPr>
            <p:sp>
              <p:nvSpPr>
                <p:cNvPr id="1165" name=""/>
                <p:cNvSpPr/>
                <p:nvPr/>
              </p:nvSpPr>
              <p:spPr>
                <a:xfrm rot="10800000">
                  <a:off x="3695760" y="5014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 flipV="1">
                  <a:off x="3695760" y="5014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7" name=""/>
              <p:cNvSpPr/>
              <p:nvPr/>
            </p:nvSpPr>
            <p:spPr>
              <a:xfrm flipH="1">
                <a:off x="3689640" y="496800"/>
                <a:ext cx="34740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3371760" y="482760"/>
              <a:ext cx="142920" cy="139680"/>
              <a:chOff x="3371760" y="482760"/>
              <a:chExt cx="142920" cy="139680"/>
            </a:xfrm>
          </p:grpSpPr>
          <p:sp>
            <p:nvSpPr>
              <p:cNvPr id="1169" name=""/>
              <p:cNvSpPr/>
              <p:nvPr/>
            </p:nvSpPr>
            <p:spPr>
              <a:xfrm flipV="1">
                <a:off x="3447360" y="48276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371760" y="55260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717560" y="493200"/>
              <a:ext cx="351000" cy="352440"/>
              <a:chOff x="1717560" y="493200"/>
              <a:chExt cx="351000" cy="352440"/>
            </a:xfrm>
          </p:grpSpPr>
          <p:sp>
            <p:nvSpPr>
              <p:cNvPr id="1172" name=""/>
              <p:cNvSpPr/>
              <p:nvPr/>
            </p:nvSpPr>
            <p:spPr>
              <a:xfrm>
                <a:off x="1725480" y="4968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725480" y="496800"/>
                <a:ext cx="34308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1717560" y="49320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28600" y="355680"/>
              <a:ext cx="1455840" cy="500040"/>
              <a:chOff x="228600" y="355680"/>
              <a:chExt cx="1455840" cy="500040"/>
            </a:xfrm>
          </p:grpSpPr>
          <p:sp>
            <p:nvSpPr>
              <p:cNvPr id="1176" name=""/>
              <p:cNvSpPr/>
              <p:nvPr/>
            </p:nvSpPr>
            <p:spPr>
              <a:xfrm>
                <a:off x="246240" y="77328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58840" y="49536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28600" y="35568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33520" y="650880"/>
                <a:ext cx="473040" cy="109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950400" y="56844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E 1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413000" y="49392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336320" y="56376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682640" y="690840"/>
                <a:ext cx="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 flipH="1" flipV="1">
              <a:off x="3041640" y="2649600"/>
              <a:ext cx="884160" cy="884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2879640" y="2920680"/>
              <a:ext cx="347760" cy="352440"/>
              <a:chOff x="2879640" y="2920680"/>
              <a:chExt cx="347760" cy="352440"/>
            </a:xfrm>
          </p:grpSpPr>
          <p:grpSp>
            <p:nvGrpSpPr>
              <p:cNvPr id="1186" name=""/>
              <p:cNvGrpSpPr/>
              <p:nvPr/>
            </p:nvGrpSpPr>
            <p:grpSpPr>
              <a:xfrm>
                <a:off x="2882880" y="2924280"/>
                <a:ext cx="342720" cy="344520"/>
                <a:chOff x="2882880" y="2924280"/>
                <a:chExt cx="342720" cy="344520"/>
              </a:xfrm>
            </p:grpSpPr>
            <p:sp>
              <p:nvSpPr>
                <p:cNvPr id="1187" name=""/>
                <p:cNvSpPr/>
                <p:nvPr/>
              </p:nvSpPr>
              <p:spPr>
                <a:xfrm flipH="1">
                  <a:off x="2882880" y="29242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H="1">
                  <a:off x="2882880" y="29242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" name=""/>
              <p:cNvSpPr/>
              <p:nvPr/>
            </p:nvSpPr>
            <p:spPr>
              <a:xfrm flipH="1" flipV="1">
                <a:off x="2879640" y="29206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 flipH="1">
              <a:off x="2896920" y="26949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3666960" y="2625840"/>
              <a:ext cx="142920" cy="139680"/>
              <a:chOff x="3666960" y="2625840"/>
              <a:chExt cx="142920" cy="139680"/>
            </a:xfrm>
          </p:grpSpPr>
          <p:sp>
            <p:nvSpPr>
              <p:cNvPr id="1192" name=""/>
              <p:cNvSpPr/>
              <p:nvPr/>
            </p:nvSpPr>
            <p:spPr>
              <a:xfrm>
                <a:off x="3742560" y="2625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666960" y="26956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 flipH="1">
              <a:off x="3237840" y="328212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443400" y="3065400"/>
              <a:ext cx="142920" cy="139680"/>
              <a:chOff x="3443400" y="3065400"/>
              <a:chExt cx="142920" cy="139680"/>
            </a:xfrm>
          </p:grpSpPr>
          <p:sp>
            <p:nvSpPr>
              <p:cNvPr id="1196" name=""/>
              <p:cNvSpPr/>
              <p:nvPr/>
            </p:nvSpPr>
            <p:spPr>
              <a:xfrm>
                <a:off x="3519360" y="30654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43400" y="31352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2990880" y="3446640"/>
              <a:ext cx="142920" cy="139680"/>
              <a:chOff x="2990880" y="3446640"/>
              <a:chExt cx="142920" cy="139680"/>
            </a:xfrm>
          </p:grpSpPr>
          <p:sp>
            <p:nvSpPr>
              <p:cNvPr id="1199" name=""/>
              <p:cNvSpPr/>
              <p:nvPr/>
            </p:nvSpPr>
            <p:spPr>
              <a:xfrm>
                <a:off x="3066480" y="34466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990880" y="35164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3710160" y="4286160"/>
              <a:ext cx="142560" cy="139680"/>
              <a:chOff x="3710160" y="4286160"/>
              <a:chExt cx="142560" cy="139680"/>
            </a:xfrm>
          </p:grpSpPr>
          <p:sp>
            <p:nvSpPr>
              <p:cNvPr id="1202" name=""/>
              <p:cNvSpPr/>
              <p:nvPr/>
            </p:nvSpPr>
            <p:spPr>
              <a:xfrm>
                <a:off x="3786120" y="4286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10160" y="435600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5977080" y="329616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2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7667640" y="3333240"/>
              <a:ext cx="349200" cy="352440"/>
              <a:chOff x="7667640" y="3333240"/>
              <a:chExt cx="349200" cy="352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667640" y="33368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67640" y="333684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7669080" y="333324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7129440" y="3446640"/>
              <a:ext cx="142560" cy="139680"/>
              <a:chOff x="7129440" y="3446640"/>
              <a:chExt cx="142560" cy="139680"/>
            </a:xfrm>
          </p:grpSpPr>
          <p:sp>
            <p:nvSpPr>
              <p:cNvPr id="1210" name=""/>
              <p:cNvSpPr/>
              <p:nvPr/>
            </p:nvSpPr>
            <p:spPr>
              <a:xfrm>
                <a:off x="7196040" y="34466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7129440" y="35164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7367760" y="338292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02200" y="33368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5190120" y="34617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5322960" y="3688920"/>
              <a:ext cx="347760" cy="352440"/>
              <a:chOff x="5322960" y="3688920"/>
              <a:chExt cx="347760" cy="35244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5326200" y="3692520"/>
                <a:ext cx="343080" cy="344520"/>
                <a:chOff x="5326200" y="3692520"/>
                <a:chExt cx="343080" cy="344520"/>
              </a:xfrm>
            </p:grpSpPr>
            <p:sp>
              <p:nvSpPr>
                <p:cNvPr id="1217" name=""/>
                <p:cNvSpPr/>
                <p:nvPr/>
              </p:nvSpPr>
              <p:spPr>
                <a:xfrm flipH="1">
                  <a:off x="5325840" y="36925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H="1">
                  <a:off x="5326200" y="36925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" name=""/>
              <p:cNvSpPr/>
              <p:nvPr/>
            </p:nvSpPr>
            <p:spPr>
              <a:xfrm flipH="1" flipV="1">
                <a:off x="5322960" y="36889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4267800" y="42490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00280" y="4476240"/>
              <a:ext cx="347400" cy="352440"/>
              <a:chOff x="4400280" y="4476240"/>
              <a:chExt cx="347400" cy="35244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4403880" y="4479840"/>
                <a:ext cx="342720" cy="344520"/>
                <a:chOff x="4403880" y="4479840"/>
                <a:chExt cx="342720" cy="344520"/>
              </a:xfrm>
            </p:grpSpPr>
            <p:sp>
              <p:nvSpPr>
                <p:cNvPr id="1223" name=""/>
                <p:cNvSpPr/>
                <p:nvPr/>
              </p:nvSpPr>
              <p:spPr>
                <a:xfrm flipH="1">
                  <a:off x="4403880" y="44798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4403880" y="44798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H="1" flipV="1">
                <a:off x="4400280" y="447624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144360" y="313128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29000" y="3482280"/>
              <a:ext cx="24300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65240" y="535068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73520" y="4801320"/>
              <a:ext cx="24300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8907200">
              <a:off x="-1518120" y="456156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8907200">
              <a:off x="1473480" y="417744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3 Sü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8907200">
              <a:off x="2089440" y="487440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Sü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8907200">
              <a:off x="2855160" y="548064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-878040" y="4056120"/>
              <a:ext cx="342720" cy="344160"/>
              <a:chOff x="-878040" y="4056120"/>
              <a:chExt cx="342720" cy="344160"/>
            </a:xfrm>
          </p:grpSpPr>
          <p:sp>
            <p:nvSpPr>
              <p:cNvPr id="1235" name=""/>
              <p:cNvSpPr/>
              <p:nvPr/>
            </p:nvSpPr>
            <p:spPr>
              <a:xfrm>
                <a:off x="-878040" y="40561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-878040" y="405612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 flipV="1">
              <a:off x="-876240" y="405252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-1589040" y="5013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-1656000" y="5083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2239920" y="3666960"/>
              <a:ext cx="342720" cy="344160"/>
              <a:chOff x="2239920" y="3666960"/>
              <a:chExt cx="342720" cy="344160"/>
            </a:xfrm>
          </p:grpSpPr>
          <p:sp>
            <p:nvSpPr>
              <p:cNvPr id="1241" name=""/>
              <p:cNvSpPr/>
              <p:nvPr/>
            </p:nvSpPr>
            <p:spPr>
              <a:xfrm>
                <a:off x="2239920" y="36669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239920" y="36669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 flipV="1">
              <a:off x="2241720" y="366372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82560" y="4608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1515600" y="4678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2911320" y="4300560"/>
              <a:ext cx="342720" cy="344160"/>
              <a:chOff x="2911320" y="4300560"/>
              <a:chExt cx="342720" cy="344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2911320" y="43005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911320" y="43005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 flipV="1">
              <a:off x="2913120" y="429696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193840" y="5310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2126880" y="5380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3468600" y="5002200"/>
              <a:ext cx="342720" cy="344160"/>
              <a:chOff x="3468600" y="5002200"/>
              <a:chExt cx="342720" cy="344160"/>
            </a:xfrm>
          </p:grpSpPr>
          <p:sp>
            <p:nvSpPr>
              <p:cNvPr id="1253" name=""/>
              <p:cNvSpPr/>
              <p:nvPr/>
            </p:nvSpPr>
            <p:spPr>
              <a:xfrm>
                <a:off x="3468600" y="50022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468600" y="50022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 flipV="1">
              <a:off x="3470400" y="499860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22480" y="582768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5520" y="589752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1676520" y="5537160"/>
              <a:ext cx="342720" cy="344160"/>
              <a:chOff x="1676520" y="5537160"/>
              <a:chExt cx="342720" cy="344160"/>
            </a:xfrm>
          </p:grpSpPr>
          <p:sp>
            <p:nvSpPr>
              <p:cNvPr id="1259" name=""/>
              <p:cNvSpPr/>
              <p:nvPr/>
            </p:nvSpPr>
            <p:spPr>
              <a:xfrm>
                <a:off x="1676520" y="55371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676520" y="55371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 flipV="1">
              <a:off x="1677960" y="553356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7400" y="660888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820440" y="667872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1047600" y="4873680"/>
              <a:ext cx="342720" cy="344160"/>
              <a:chOff x="1047600" y="4873680"/>
              <a:chExt cx="342720" cy="344160"/>
            </a:xfrm>
          </p:grpSpPr>
          <p:sp>
            <p:nvSpPr>
              <p:cNvPr id="1265" name=""/>
              <p:cNvSpPr/>
              <p:nvPr/>
            </p:nvSpPr>
            <p:spPr>
              <a:xfrm>
                <a:off x="1047600" y="48736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047600" y="487368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 flipV="1">
              <a:off x="1049400" y="487008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8200" y="59151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201240" y="59850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32000" y="4682520"/>
              <a:ext cx="24264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11440" y="41781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8907200">
              <a:off x="217080" y="538956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3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8907200">
              <a:off x="782280" y="613584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78120" y="3063240"/>
              <a:ext cx="872280" cy="875880"/>
              <a:chOff x="78120" y="3063240"/>
              <a:chExt cx="872280" cy="875880"/>
            </a:xfrm>
          </p:grpSpPr>
          <p:sp>
            <p:nvSpPr>
              <p:cNvPr id="1275" name=""/>
              <p:cNvSpPr/>
              <p:nvPr/>
            </p:nvSpPr>
            <p:spPr>
              <a:xfrm rot="18899400">
                <a:off x="631440" y="3119760"/>
                <a:ext cx="266760" cy="2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8899400">
                <a:off x="644400" y="313416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71760" y="3162240"/>
                <a:ext cx="179280" cy="179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138600" y="3353040"/>
                <a:ext cx="526320" cy="52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8120" y="3828240"/>
                <a:ext cx="110880" cy="11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8899400">
                <a:off x="317520" y="34135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1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-246960" y="3791160"/>
              <a:ext cx="486000" cy="485640"/>
              <a:chOff x="-246960" y="3791160"/>
              <a:chExt cx="486000" cy="485640"/>
            </a:xfrm>
          </p:grpSpPr>
          <p:sp>
            <p:nvSpPr>
              <p:cNvPr id="1282" name=""/>
              <p:cNvSpPr/>
              <p:nvPr/>
            </p:nvSpPr>
            <p:spPr>
              <a:xfrm rot="18899400">
                <a:off x="-175320" y="38617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-246960" y="4033440"/>
                <a:ext cx="486000" cy="7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 flipV="1">
              <a:off x="-5040" y="3783960"/>
              <a:ext cx="3600" cy="494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1280" y="3763800"/>
              <a:ext cx="9864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338040" y="3764160"/>
              <a:ext cx="101160" cy="101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-2529000" y="168264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-2529000" y="168264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-2527200" y="167904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-3083040" y="1792440"/>
              <a:ext cx="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-3150000" y="186228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-2986560" y="172800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 rot="16200000">
              <a:off x="1531440" y="2142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33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49440" y="853920"/>
              <a:ext cx="34272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49440" y="853920"/>
              <a:ext cx="34272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50880" y="85068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16080" y="9507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39760" y="10206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0200" y="8557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4668840" y="3441600"/>
              <a:ext cx="142560" cy="139680"/>
              <a:chOff x="4668840" y="3441600"/>
              <a:chExt cx="142560" cy="139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4744800" y="34416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668840" y="35114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4824360" y="3840120"/>
              <a:ext cx="142560" cy="139680"/>
              <a:chOff x="4824360" y="3840120"/>
              <a:chExt cx="142560" cy="139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4900320" y="38401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824360" y="390996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"/>
          <p:cNvGrpSpPr/>
          <p:nvPr/>
        </p:nvGrpSpPr>
        <p:grpSpPr>
          <a:xfrm>
            <a:off x="-2120760" y="-104760"/>
            <a:ext cx="14382360" cy="9296280"/>
            <a:chOff x="-2120760" y="-104760"/>
            <a:chExt cx="14382360" cy="9296280"/>
          </a:xfrm>
        </p:grpSpPr>
        <p:sp>
          <p:nvSpPr>
            <p:cNvPr id="1307" name=""/>
            <p:cNvSpPr/>
            <p:nvPr/>
          </p:nvSpPr>
          <p:spPr>
            <a:xfrm flipV="1">
              <a:off x="-297000" y="1026000"/>
              <a:ext cx="9242640" cy="7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-993600" y="1295280"/>
              <a:ext cx="10137600" cy="46213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8940600" y="102708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-25560" y="6196320"/>
              <a:ext cx="924264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358920" y="7024680"/>
              <a:ext cx="1146960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-863640" y="-104760"/>
              <a:ext cx="10137960" cy="8589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-2120760" y="6145200"/>
              <a:ext cx="2216160" cy="2217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-1736640" y="6973920"/>
              <a:ext cx="2216160" cy="2217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844360" y="829440"/>
              <a:ext cx="22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1 Sü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41440" y="853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513240" y="598536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1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480 - 56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14680" y="682200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2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550 - 6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7192080" y="1067760"/>
              <a:ext cx="1904400" cy="1311480"/>
              <a:chOff x="7192080" y="1067760"/>
              <a:chExt cx="1904400" cy="1311480"/>
            </a:xfrm>
          </p:grpSpPr>
          <p:sp>
            <p:nvSpPr>
              <p:cNvPr id="1320" name=""/>
              <p:cNvSpPr/>
              <p:nvPr/>
            </p:nvSpPr>
            <p:spPr>
              <a:xfrm>
                <a:off x="8023320" y="1141560"/>
                <a:ext cx="156960" cy="2505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1" name=""/>
              <p:cNvGrpSpPr/>
              <p:nvPr/>
            </p:nvGrpSpPr>
            <p:grpSpPr>
              <a:xfrm>
                <a:off x="7256520" y="1209240"/>
                <a:ext cx="1839960" cy="466920"/>
                <a:chOff x="7256520" y="1209240"/>
                <a:chExt cx="1839960" cy="46692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7640640" y="1260360"/>
                  <a:ext cx="1438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8958600" y="1245960"/>
                  <a:ext cx="107640" cy="290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925120" y="1512720"/>
                  <a:ext cx="171360" cy="1634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318520" y="1271520"/>
                  <a:ext cx="473400" cy="109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113680" y="122076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7256520" y="1212840"/>
                  <a:ext cx="342720" cy="344160"/>
                  <a:chOff x="7256520" y="1212840"/>
                  <a:chExt cx="342720" cy="34416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7256520" y="121284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7256520" y="121284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 flipV="1">
                  <a:off x="7258320" y="120924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912440" y="140004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7845120" y="146988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>
                <a:off x="7642080" y="1197000"/>
                <a:ext cx="0" cy="149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5400000">
                <a:off x="7944480" y="10576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7251480" y="1829880"/>
                <a:ext cx="347400" cy="352440"/>
                <a:chOff x="7251480" y="1829880"/>
                <a:chExt cx="347400" cy="352440"/>
              </a:xfrm>
            </p:grpSpPr>
            <p:grpSp>
              <p:nvGrpSpPr>
                <p:cNvPr id="1336" name=""/>
                <p:cNvGrpSpPr/>
                <p:nvPr/>
              </p:nvGrpSpPr>
              <p:grpSpPr>
                <a:xfrm>
                  <a:off x="7255080" y="1833480"/>
                  <a:ext cx="342360" cy="344520"/>
                  <a:chOff x="7255080" y="1833480"/>
                  <a:chExt cx="342360" cy="34452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 flipH="1">
                    <a:off x="7254720" y="1833480"/>
                    <a:ext cx="34236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7255080" y="1833480"/>
                    <a:ext cx="342360" cy="34452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9" name=""/>
                <p:cNvSpPr/>
                <p:nvPr/>
              </p:nvSpPr>
              <p:spPr>
                <a:xfrm flipH="1" flipV="1">
                  <a:off x="7251480" y="182988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7201800" y="1510560"/>
                <a:ext cx="44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Hp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92080" y="2133000"/>
                <a:ext cx="44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Hp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5202360" y="850680"/>
              <a:ext cx="750600" cy="352440"/>
              <a:chOff x="5202360" y="850680"/>
              <a:chExt cx="750600" cy="35244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5603760" y="850680"/>
                <a:ext cx="349200" cy="352440"/>
                <a:chOff x="5603760" y="850680"/>
                <a:chExt cx="349200" cy="35244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5603760" y="8542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603760" y="8542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V="1">
                  <a:off x="5605200" y="85068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5202360" y="963720"/>
                <a:ext cx="142560" cy="139680"/>
                <a:chOff x="5202360" y="963720"/>
                <a:chExt cx="142560" cy="1396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268960" y="96372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>
                  <a:off x="5202360" y="103356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0" name=""/>
            <p:cNvGrpSpPr/>
            <p:nvPr/>
          </p:nvGrpSpPr>
          <p:grpSpPr>
            <a:xfrm>
              <a:off x="3095640" y="6851160"/>
              <a:ext cx="349200" cy="352440"/>
              <a:chOff x="3095640" y="6851160"/>
              <a:chExt cx="349200" cy="352440"/>
            </a:xfrm>
          </p:grpSpPr>
          <p:sp>
            <p:nvSpPr>
              <p:cNvPr id="1351" name=""/>
              <p:cNvSpPr/>
              <p:nvPr/>
            </p:nvSpPr>
            <p:spPr>
              <a:xfrm>
                <a:off x="3095640" y="68547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95640" y="68547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097080" y="68511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2693880" y="6964200"/>
              <a:ext cx="142560" cy="139680"/>
              <a:chOff x="2693880" y="6964200"/>
              <a:chExt cx="142560" cy="139680"/>
            </a:xfrm>
          </p:grpSpPr>
          <p:sp>
            <p:nvSpPr>
              <p:cNvPr id="1355" name=""/>
              <p:cNvSpPr/>
              <p:nvPr/>
            </p:nvSpPr>
            <p:spPr>
              <a:xfrm>
                <a:off x="2760480" y="69642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693880" y="703404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095640" y="6019560"/>
              <a:ext cx="349200" cy="352440"/>
              <a:chOff x="3095640" y="6019560"/>
              <a:chExt cx="349200" cy="352440"/>
            </a:xfrm>
          </p:grpSpPr>
          <p:sp>
            <p:nvSpPr>
              <p:cNvPr id="1358" name=""/>
              <p:cNvSpPr/>
              <p:nvPr/>
            </p:nvSpPr>
            <p:spPr>
              <a:xfrm>
                <a:off x="3095640" y="60231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095640" y="60231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097080" y="60195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2693880" y="6132600"/>
              <a:ext cx="142560" cy="139680"/>
              <a:chOff x="2693880" y="6132600"/>
              <a:chExt cx="142560" cy="139680"/>
            </a:xfrm>
          </p:grpSpPr>
          <p:sp>
            <p:nvSpPr>
              <p:cNvPr id="1362" name=""/>
              <p:cNvSpPr/>
              <p:nvPr/>
            </p:nvSpPr>
            <p:spPr>
              <a:xfrm>
                <a:off x="2760480" y="61326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2693880" y="620244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"/>
          <p:cNvGrpSpPr/>
          <p:nvPr/>
        </p:nvGrpSpPr>
        <p:grpSpPr>
          <a:xfrm>
            <a:off x="-882720" y="-806760"/>
            <a:ext cx="14203440" cy="8334360"/>
            <a:chOff x="-882720" y="-806760"/>
            <a:chExt cx="14203440" cy="8334360"/>
          </a:xfrm>
        </p:grpSpPr>
        <p:sp>
          <p:nvSpPr>
            <p:cNvPr id="1365" name=""/>
            <p:cNvSpPr/>
            <p:nvPr/>
          </p:nvSpPr>
          <p:spPr>
            <a:xfrm flipV="1">
              <a:off x="-150840" y="-631080"/>
              <a:ext cx="9499680" cy="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-165240" y="1027080"/>
              <a:ext cx="332136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1120" y="-8002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912600" y="-608400"/>
              <a:ext cx="361800" cy="36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5280" y="-693000"/>
              <a:ext cx="7232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611360" y="-692280"/>
              <a:ext cx="142560" cy="139680"/>
              <a:chOff x="1611360" y="-692280"/>
              <a:chExt cx="142560" cy="139680"/>
            </a:xfrm>
          </p:grpSpPr>
          <p:sp>
            <p:nvSpPr>
              <p:cNvPr id="1371" name=""/>
              <p:cNvSpPr/>
              <p:nvPr/>
            </p:nvSpPr>
            <p:spPr>
              <a:xfrm>
                <a:off x="1677960" y="-692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1611360" y="-6224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 flipH="1" flipV="1">
              <a:off x="1280880" y="982440"/>
              <a:ext cx="3492360" cy="34909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1274760" y="-246600"/>
              <a:ext cx="4006800" cy="4008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787400" y="955800"/>
              <a:ext cx="142920" cy="139680"/>
              <a:chOff x="1787400" y="955800"/>
              <a:chExt cx="142920" cy="139680"/>
            </a:xfrm>
          </p:grpSpPr>
          <p:sp>
            <p:nvSpPr>
              <p:cNvPr id="1376" name=""/>
              <p:cNvSpPr/>
              <p:nvPr/>
            </p:nvSpPr>
            <p:spPr>
              <a:xfrm>
                <a:off x="1863000" y="9558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787400" y="10256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633680" y="1330200"/>
              <a:ext cx="142560" cy="139680"/>
              <a:chOff x="1633680" y="1330200"/>
              <a:chExt cx="142560" cy="139680"/>
            </a:xfrm>
          </p:grpSpPr>
          <p:sp>
            <p:nvSpPr>
              <p:cNvPr id="1379" name=""/>
              <p:cNvSpPr/>
              <p:nvPr/>
            </p:nvSpPr>
            <p:spPr>
              <a:xfrm>
                <a:off x="1710000" y="1330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633680" y="14000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1012680" y="1193400"/>
              <a:ext cx="347760" cy="352440"/>
              <a:chOff x="1012680" y="1193400"/>
              <a:chExt cx="347760" cy="352440"/>
            </a:xfrm>
          </p:grpSpPr>
          <p:grpSp>
            <p:nvGrpSpPr>
              <p:cNvPr id="1382" name=""/>
              <p:cNvGrpSpPr/>
              <p:nvPr/>
            </p:nvGrpSpPr>
            <p:grpSpPr>
              <a:xfrm>
                <a:off x="1015920" y="1197000"/>
                <a:ext cx="342720" cy="344520"/>
                <a:chOff x="1015920" y="1197000"/>
                <a:chExt cx="342720" cy="344520"/>
              </a:xfrm>
            </p:grpSpPr>
            <p:sp>
              <p:nvSpPr>
                <p:cNvPr id="1383" name=""/>
                <p:cNvSpPr/>
                <p:nvPr/>
              </p:nvSpPr>
              <p:spPr>
                <a:xfrm flipH="1">
                  <a:off x="1015920" y="11970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1015920" y="11970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"/>
              <p:cNvSpPr/>
              <p:nvPr/>
            </p:nvSpPr>
            <p:spPr>
              <a:xfrm flipH="1" flipV="1">
                <a:off x="1012680" y="119340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465120" y="-468720"/>
              <a:ext cx="347760" cy="352440"/>
              <a:chOff x="465120" y="-468720"/>
              <a:chExt cx="347760" cy="35244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468360" y="-465120"/>
                <a:ext cx="343080" cy="344520"/>
                <a:chOff x="468360" y="-465120"/>
                <a:chExt cx="343080" cy="344520"/>
              </a:xfrm>
            </p:grpSpPr>
            <p:sp>
              <p:nvSpPr>
                <p:cNvPr id="1388" name=""/>
                <p:cNvSpPr/>
                <p:nvPr/>
              </p:nvSpPr>
              <p:spPr>
                <a:xfrm flipH="1">
                  <a:off x="468000" y="-4651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468360" y="-4651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 flipH="1" flipV="1">
                <a:off x="465120" y="-4687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1" name=""/>
            <p:cNvSpPr/>
            <p:nvPr/>
          </p:nvSpPr>
          <p:spPr>
            <a:xfrm flipH="1">
              <a:off x="1217160" y="9662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2" name=""/>
            <p:cNvGrpSpPr/>
            <p:nvPr/>
          </p:nvGrpSpPr>
          <p:grpSpPr>
            <a:xfrm>
              <a:off x="1438560" y="-87480"/>
              <a:ext cx="142920" cy="139680"/>
              <a:chOff x="1438560" y="-87480"/>
              <a:chExt cx="142920" cy="139680"/>
            </a:xfrm>
          </p:grpSpPr>
          <p:sp>
            <p:nvSpPr>
              <p:cNvPr id="1393" name=""/>
              <p:cNvSpPr/>
              <p:nvPr/>
            </p:nvSpPr>
            <p:spPr>
              <a:xfrm>
                <a:off x="1514160" y="-87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438560" y="-169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2046240" y="853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-57240" y="6196320"/>
              <a:ext cx="924264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4773600" y="4475160"/>
              <a:ext cx="2178000" cy="21765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5278320" y="3760560"/>
              <a:ext cx="2486160" cy="2485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1368360" y="4344480"/>
              <a:ext cx="2216160" cy="22179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488880" y="3740040"/>
              <a:ext cx="2470320" cy="2471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-882720" y="7024680"/>
              <a:ext cx="1146960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6949800" y="6651720"/>
              <a:ext cx="406440" cy="404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858960" y="6560640"/>
              <a:ext cx="512640" cy="514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6956280" y="-609840"/>
              <a:ext cx="362160" cy="36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51360" y="-8002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5840" y="-6976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062760" y="-695160"/>
              <a:ext cx="142560" cy="139680"/>
              <a:chOff x="6062760" y="-695160"/>
              <a:chExt cx="142560" cy="1396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129360" y="-695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6062760" y="-6253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1893600" y="2103480"/>
              <a:ext cx="1213200" cy="1195200"/>
              <a:chOff x="1893600" y="2103480"/>
              <a:chExt cx="1213200" cy="1195200"/>
            </a:xfrm>
          </p:grpSpPr>
          <p:grpSp>
            <p:nvGrpSpPr>
              <p:cNvPr id="1411" name=""/>
              <p:cNvGrpSpPr/>
              <p:nvPr/>
            </p:nvGrpSpPr>
            <p:grpSpPr>
              <a:xfrm>
                <a:off x="2230560" y="2427840"/>
                <a:ext cx="876240" cy="870840"/>
                <a:chOff x="2230560" y="2427840"/>
                <a:chExt cx="876240" cy="870840"/>
              </a:xfrm>
            </p:grpSpPr>
            <p:sp>
              <p:nvSpPr>
                <p:cNvPr id="1412" name=""/>
                <p:cNvSpPr/>
                <p:nvPr/>
              </p:nvSpPr>
              <p:spPr>
                <a:xfrm rot="2694000">
                  <a:off x="2788200" y="2985120"/>
                  <a:ext cx="266760" cy="2566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2694000">
                  <a:off x="2800800" y="2999160"/>
                  <a:ext cx="241200" cy="229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2828880" y="3020040"/>
                  <a:ext cx="178920" cy="1800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 flipV="1">
                  <a:off x="2289600" y="2488320"/>
                  <a:ext cx="527400" cy="525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>
                  <a:off x="2230560" y="2427840"/>
                  <a:ext cx="110520" cy="11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rot="2694000">
                  <a:off x="2337120" y="28036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1893600" y="2103480"/>
                <a:ext cx="495000" cy="485640"/>
                <a:chOff x="1893600" y="2103480"/>
                <a:chExt cx="495000" cy="485640"/>
              </a:xfrm>
            </p:grpSpPr>
            <p:grpSp>
              <p:nvGrpSpPr>
                <p:cNvPr id="1419" name=""/>
                <p:cNvGrpSpPr/>
                <p:nvPr/>
              </p:nvGrpSpPr>
              <p:grpSpPr>
                <a:xfrm>
                  <a:off x="1898280" y="2103480"/>
                  <a:ext cx="485640" cy="485640"/>
                  <a:chOff x="1898280" y="2103480"/>
                  <a:chExt cx="485640" cy="48564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 rot="2694000">
                    <a:off x="1969560" y="217404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H="1">
                    <a:off x="2140920" y="2103480"/>
                    <a:ext cx="360" cy="48564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2" name=""/>
                <p:cNvSpPr/>
                <p:nvPr/>
              </p:nvSpPr>
              <p:spPr>
                <a:xfrm flipV="1">
                  <a:off x="1893600" y="2340720"/>
                  <a:ext cx="495000" cy="39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"/>
              <p:cNvSpPr/>
              <p:nvPr/>
            </p:nvSpPr>
            <p:spPr>
              <a:xfrm flipH="1">
                <a:off x="2309760" y="2690640"/>
                <a:ext cx="98640" cy="9864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 flipV="1">
                <a:off x="2306520" y="268776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50680" y="-806760"/>
              <a:ext cx="1167480" cy="352440"/>
              <a:chOff x="3550680" y="-806760"/>
              <a:chExt cx="1167480" cy="35244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4368960" y="-806760"/>
                <a:ext cx="349200" cy="352440"/>
                <a:chOff x="4368960" y="-806760"/>
                <a:chExt cx="349200" cy="35244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4368960" y="-803160"/>
                  <a:ext cx="343080" cy="344520"/>
                  <a:chOff x="4368960" y="-803160"/>
                  <a:chExt cx="343080" cy="34452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4368960" y="-80316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4368960" y="-803160"/>
                    <a:ext cx="343080" cy="344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0" name=""/>
                <p:cNvSpPr/>
                <p:nvPr/>
              </p:nvSpPr>
              <p:spPr>
                <a:xfrm flipV="1">
                  <a:off x="4370760" y="-80676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3712320" y="-751680"/>
                <a:ext cx="61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102 Sü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550680" y="-700200"/>
                <a:ext cx="142920" cy="140040"/>
                <a:chOff x="3550680" y="-700200"/>
                <a:chExt cx="142920" cy="14004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621240" y="-700200"/>
                  <a:ext cx="0" cy="1400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3550680" y="-629640"/>
                  <a:ext cx="14292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5" name=""/>
            <p:cNvSpPr/>
            <p:nvPr/>
          </p:nvSpPr>
          <p:spPr>
            <a:xfrm>
              <a:off x="7162920" y="200520"/>
              <a:ext cx="615780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841560" y="20160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035160" y="151920"/>
              <a:ext cx="924120" cy="9241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53400" y="1022760"/>
              <a:ext cx="615780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3584520" y="150840"/>
              <a:ext cx="4194360" cy="41940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222960" y="210600"/>
              <a:ext cx="711360" cy="282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2968560" y="-249480"/>
              <a:ext cx="3997440" cy="3989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6930720" y="123840"/>
              <a:ext cx="142920" cy="139680"/>
              <a:chOff x="6930720" y="123840"/>
              <a:chExt cx="142920" cy="139680"/>
            </a:xfrm>
          </p:grpSpPr>
          <p:sp>
            <p:nvSpPr>
              <p:cNvPr id="1443" name=""/>
              <p:cNvSpPr/>
              <p:nvPr/>
            </p:nvSpPr>
            <p:spPr>
              <a:xfrm>
                <a:off x="6997680" y="123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6930720" y="1936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5138640" y="133200"/>
              <a:ext cx="142560" cy="139680"/>
              <a:chOff x="5138640" y="133200"/>
              <a:chExt cx="142560" cy="139680"/>
            </a:xfrm>
          </p:grpSpPr>
          <p:sp>
            <p:nvSpPr>
              <p:cNvPr id="1446" name=""/>
              <p:cNvSpPr/>
              <p:nvPr/>
            </p:nvSpPr>
            <p:spPr>
              <a:xfrm>
                <a:off x="5205240" y="133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5138640" y="2030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6082920" y="500040"/>
              <a:ext cx="142920" cy="139680"/>
              <a:chOff x="6082920" y="500040"/>
              <a:chExt cx="142920" cy="139680"/>
            </a:xfrm>
          </p:grpSpPr>
          <p:sp>
            <p:nvSpPr>
              <p:cNvPr id="1449" name=""/>
              <p:cNvSpPr/>
              <p:nvPr/>
            </p:nvSpPr>
            <p:spPr>
              <a:xfrm>
                <a:off x="6150240" y="5000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6082920" y="5698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7243920" y="539640"/>
              <a:ext cx="142560" cy="139680"/>
              <a:chOff x="7243920" y="539640"/>
              <a:chExt cx="142560" cy="139680"/>
            </a:xfrm>
          </p:grpSpPr>
          <p:sp>
            <p:nvSpPr>
              <p:cNvPr id="1452" name=""/>
              <p:cNvSpPr/>
              <p:nvPr/>
            </p:nvSpPr>
            <p:spPr>
              <a:xfrm>
                <a:off x="7310160" y="5396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7243920" y="60948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7575480" y="418680"/>
              <a:ext cx="347760" cy="352440"/>
              <a:chOff x="7575480" y="418680"/>
              <a:chExt cx="347760" cy="352440"/>
            </a:xfrm>
          </p:grpSpPr>
          <p:grpSp>
            <p:nvGrpSpPr>
              <p:cNvPr id="1455" name=""/>
              <p:cNvGrpSpPr/>
              <p:nvPr/>
            </p:nvGrpSpPr>
            <p:grpSpPr>
              <a:xfrm>
                <a:off x="7577280" y="422280"/>
                <a:ext cx="342720" cy="344520"/>
                <a:chOff x="7577280" y="422280"/>
                <a:chExt cx="342720" cy="34452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7577280" y="4222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577280" y="4222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 flipV="1">
                <a:off x="7575480" y="4186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7710480" y="1929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07880" y="-123120"/>
              <a:ext cx="63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38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5529240" y="345600"/>
              <a:ext cx="347760" cy="352440"/>
              <a:chOff x="5529240" y="345600"/>
              <a:chExt cx="347760" cy="352440"/>
            </a:xfrm>
          </p:grpSpPr>
          <p:grpSp>
            <p:nvGrpSpPr>
              <p:cNvPr id="1462" name=""/>
              <p:cNvGrpSpPr/>
              <p:nvPr/>
            </p:nvGrpSpPr>
            <p:grpSpPr>
              <a:xfrm>
                <a:off x="5530680" y="349200"/>
                <a:ext cx="343080" cy="344520"/>
                <a:chOff x="5530680" y="349200"/>
                <a:chExt cx="343080" cy="34452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5530680" y="34920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5530680" y="34920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 flipV="1">
                <a:off x="5529240" y="34560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6945120" y="78192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44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6887520" y="-318960"/>
              <a:ext cx="142920" cy="139680"/>
              <a:chOff x="6887520" y="-318960"/>
              <a:chExt cx="142920" cy="139680"/>
            </a:xfrm>
          </p:grpSpPr>
          <p:sp>
            <p:nvSpPr>
              <p:cNvPr id="1468" name=""/>
              <p:cNvSpPr/>
              <p:nvPr/>
            </p:nvSpPr>
            <p:spPr>
              <a:xfrm>
                <a:off x="6954840" y="-3189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6887520" y="-2487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7222680" y="125280"/>
              <a:ext cx="142920" cy="139680"/>
              <a:chOff x="7222680" y="125280"/>
              <a:chExt cx="142920" cy="139680"/>
            </a:xfrm>
          </p:grpSpPr>
          <p:sp>
            <p:nvSpPr>
              <p:cNvPr id="1471" name=""/>
              <p:cNvSpPr/>
              <p:nvPr/>
            </p:nvSpPr>
            <p:spPr>
              <a:xfrm>
                <a:off x="7289640" y="125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7222680" y="195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5886720" y="181800"/>
              <a:ext cx="6426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38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7358040" y="-473400"/>
              <a:ext cx="347760" cy="352440"/>
              <a:chOff x="7358040" y="-473400"/>
              <a:chExt cx="347760" cy="352440"/>
            </a:xfrm>
          </p:grpSpPr>
          <p:grpSp>
            <p:nvGrpSpPr>
              <p:cNvPr id="1475" name=""/>
              <p:cNvGrpSpPr/>
              <p:nvPr/>
            </p:nvGrpSpPr>
            <p:grpSpPr>
              <a:xfrm>
                <a:off x="7359480" y="-470160"/>
                <a:ext cx="343080" cy="344520"/>
                <a:chOff x="7359480" y="-470160"/>
                <a:chExt cx="343080" cy="3445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7359480" y="-47016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359480" y="-47016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8" name=""/>
              <p:cNvSpPr/>
              <p:nvPr/>
            </p:nvSpPr>
            <p:spPr>
              <a:xfrm flipV="1">
                <a:off x="7358040" y="-47340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 flipH="1">
              <a:off x="3106440" y="2811240"/>
              <a:ext cx="24336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2404080" y="3915000"/>
              <a:ext cx="871920" cy="875520"/>
              <a:chOff x="2404080" y="3915000"/>
              <a:chExt cx="871920" cy="875520"/>
            </a:xfrm>
          </p:grpSpPr>
          <p:sp>
            <p:nvSpPr>
              <p:cNvPr id="1481" name=""/>
              <p:cNvSpPr/>
              <p:nvPr/>
            </p:nvSpPr>
            <p:spPr>
              <a:xfrm rot="18899400">
                <a:off x="2957040" y="3971520"/>
                <a:ext cx="266760" cy="2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8899400">
                <a:off x="2970360" y="398556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997360" y="4014000"/>
                <a:ext cx="179640" cy="179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2464200" y="4204800"/>
                <a:ext cx="526320" cy="52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404080" y="4679640"/>
                <a:ext cx="110880" cy="11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18899400">
                <a:off x="2661120" y="428436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5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2078640" y="4641480"/>
              <a:ext cx="486000" cy="486000"/>
              <a:chOff x="2078640" y="4641480"/>
              <a:chExt cx="486000" cy="486000"/>
            </a:xfrm>
          </p:grpSpPr>
          <p:sp>
            <p:nvSpPr>
              <p:cNvPr id="1488" name=""/>
              <p:cNvSpPr/>
              <p:nvPr/>
            </p:nvSpPr>
            <p:spPr>
              <a:xfrm rot="18899400">
                <a:off x="2149920" y="471204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078640" y="4884120"/>
                <a:ext cx="486000" cy="7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 flipH="1" flipV="1">
              <a:off x="2320560" y="4634640"/>
              <a:ext cx="3240" cy="495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66880" y="4614840"/>
              <a:ext cx="9864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2664000" y="4615200"/>
              <a:ext cx="101160" cy="101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2666880" y="4270680"/>
              <a:ext cx="1631520" cy="1499040"/>
              <a:chOff x="2666880" y="4270680"/>
              <a:chExt cx="1631520" cy="1499040"/>
            </a:xfrm>
          </p:grpSpPr>
          <p:grpSp>
            <p:nvGrpSpPr>
              <p:cNvPr id="1494" name=""/>
              <p:cNvGrpSpPr/>
              <p:nvPr/>
            </p:nvGrpSpPr>
            <p:grpSpPr>
              <a:xfrm>
                <a:off x="2666880" y="4270680"/>
                <a:ext cx="1631520" cy="1499040"/>
                <a:chOff x="2666880" y="4270680"/>
                <a:chExt cx="1631520" cy="1499040"/>
              </a:xfrm>
            </p:grpSpPr>
            <p:sp>
              <p:nvSpPr>
                <p:cNvPr id="1495" name=""/>
                <p:cNvSpPr/>
                <p:nvPr/>
              </p:nvSpPr>
              <p:spPr>
                <a:xfrm flipV="1">
                  <a:off x="2972880" y="4272120"/>
                  <a:ext cx="1019880" cy="1014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8909600">
                  <a:off x="3984120" y="4266360"/>
                  <a:ext cx="107640" cy="290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8909600">
                  <a:off x="4093920" y="4475160"/>
                  <a:ext cx="171360" cy="1634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8909600">
                  <a:off x="3430800" y="4633560"/>
                  <a:ext cx="473400" cy="109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8909600">
                  <a:off x="3322080" y="4799520"/>
                  <a:ext cx="26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0" name=""/>
                <p:cNvGrpSpPr/>
                <p:nvPr/>
              </p:nvGrpSpPr>
              <p:grpSpPr>
                <a:xfrm>
                  <a:off x="2666880" y="5281920"/>
                  <a:ext cx="485640" cy="485640"/>
                  <a:chOff x="2666880" y="5281920"/>
                  <a:chExt cx="485640" cy="485640"/>
                </a:xfrm>
              </p:grpSpPr>
              <p:sp>
                <p:nvSpPr>
                  <p:cNvPr id="1501" name=""/>
                  <p:cNvSpPr/>
                  <p:nvPr/>
                </p:nvSpPr>
                <p:spPr>
                  <a:xfrm rot="18909600">
                    <a:off x="2738160" y="535248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2666880" y="5523480"/>
                    <a:ext cx="485640" cy="252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"/>
                <p:cNvSpPr/>
                <p:nvPr/>
              </p:nvSpPr>
              <p:spPr>
                <a:xfrm flipH="1" flipV="1">
                  <a:off x="2912040" y="5274720"/>
                  <a:ext cx="2160" cy="49500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264120" y="5193720"/>
                  <a:ext cx="98280" cy="9900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H="1">
                  <a:off x="3265560" y="5190120"/>
                  <a:ext cx="101520" cy="10044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6" name=""/>
              <p:cNvSpPr/>
              <p:nvPr/>
            </p:nvSpPr>
            <p:spPr>
              <a:xfrm>
                <a:off x="2928240" y="5236920"/>
                <a:ext cx="9144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170320" y="3028680"/>
              <a:ext cx="347760" cy="352440"/>
              <a:chOff x="5170320" y="3028680"/>
              <a:chExt cx="347760" cy="352440"/>
            </a:xfrm>
          </p:grpSpPr>
          <p:grpSp>
            <p:nvGrpSpPr>
              <p:cNvPr id="1508" name=""/>
              <p:cNvGrpSpPr/>
              <p:nvPr/>
            </p:nvGrpSpPr>
            <p:grpSpPr>
              <a:xfrm>
                <a:off x="5171760" y="3031920"/>
                <a:ext cx="343080" cy="344520"/>
                <a:chOff x="5171760" y="3031920"/>
                <a:chExt cx="343080" cy="3445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5171760" y="30319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5171760" y="30319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1" name=""/>
              <p:cNvSpPr/>
              <p:nvPr/>
            </p:nvSpPr>
            <p:spPr>
              <a:xfrm flipV="1">
                <a:off x="5170320" y="30286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1252440" y="602604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256440" y="68547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4" name=""/>
            <p:cNvGrpSpPr/>
            <p:nvPr/>
          </p:nvGrpSpPr>
          <p:grpSpPr>
            <a:xfrm>
              <a:off x="131760" y="6352920"/>
              <a:ext cx="347760" cy="352440"/>
              <a:chOff x="131760" y="6352920"/>
              <a:chExt cx="347760" cy="352440"/>
            </a:xfrm>
          </p:grpSpPr>
          <p:grpSp>
            <p:nvGrpSpPr>
              <p:cNvPr id="1515" name=""/>
              <p:cNvGrpSpPr/>
              <p:nvPr/>
            </p:nvGrpSpPr>
            <p:grpSpPr>
              <a:xfrm>
                <a:off x="133200" y="6356160"/>
                <a:ext cx="343080" cy="344520"/>
                <a:chOff x="133200" y="6356160"/>
                <a:chExt cx="343080" cy="34452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133200" y="635616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33200" y="635616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 flipV="1">
                <a:off x="131760" y="63529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36480" y="7175160"/>
              <a:ext cx="347760" cy="352440"/>
              <a:chOff x="636480" y="7175160"/>
              <a:chExt cx="347760" cy="35244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637920" y="7178400"/>
                <a:ext cx="343080" cy="344520"/>
                <a:chOff x="637920" y="7178400"/>
                <a:chExt cx="343080" cy="3445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637920" y="717840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37920" y="717840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3" name=""/>
              <p:cNvSpPr/>
              <p:nvPr/>
            </p:nvSpPr>
            <p:spPr>
              <a:xfrm flipV="1">
                <a:off x="636480" y="71751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7777080" y="6356520"/>
              <a:ext cx="347760" cy="352080"/>
              <a:chOff x="7777080" y="6356520"/>
              <a:chExt cx="347760" cy="352080"/>
            </a:xfrm>
          </p:grpSpPr>
          <p:grpSp>
            <p:nvGrpSpPr>
              <p:cNvPr id="1525" name=""/>
              <p:cNvGrpSpPr/>
              <p:nvPr/>
            </p:nvGrpSpPr>
            <p:grpSpPr>
              <a:xfrm>
                <a:off x="7778520" y="6359040"/>
                <a:ext cx="343080" cy="344160"/>
                <a:chOff x="7778520" y="6359040"/>
                <a:chExt cx="343080" cy="3441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7778520" y="635904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778520" y="6359040"/>
                  <a:ext cx="34308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8" name=""/>
              <p:cNvSpPr/>
              <p:nvPr/>
            </p:nvSpPr>
            <p:spPr>
              <a:xfrm flipV="1">
                <a:off x="7777080" y="6356520"/>
                <a:ext cx="347760" cy="352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7323120" y="7175160"/>
              <a:ext cx="347760" cy="352440"/>
              <a:chOff x="7323120" y="7175160"/>
              <a:chExt cx="347760" cy="35244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7324560" y="7178400"/>
                <a:ext cx="343080" cy="344520"/>
                <a:chOff x="7324560" y="7178400"/>
                <a:chExt cx="343080" cy="34452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7324560" y="717840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324560" y="717840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 flipV="1">
                <a:off x="7323120" y="71751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"/>
            <p:cNvSpPr/>
            <p:nvPr/>
          </p:nvSpPr>
          <p:spPr>
            <a:xfrm>
              <a:off x="7543440" y="61286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19640" y="69476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49200" y="61254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30240" y="69476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6771960" y="5234040"/>
              <a:ext cx="142920" cy="139680"/>
              <a:chOff x="6771960" y="5234040"/>
              <a:chExt cx="142920" cy="139680"/>
            </a:xfrm>
          </p:grpSpPr>
          <p:sp>
            <p:nvSpPr>
              <p:cNvPr id="1539" name=""/>
              <p:cNvSpPr/>
              <p:nvPr/>
            </p:nvSpPr>
            <p:spPr>
              <a:xfrm>
                <a:off x="6838920" y="52340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6771960" y="5303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6997320" y="6137280"/>
              <a:ext cx="142920" cy="139680"/>
              <a:chOff x="6997320" y="6137280"/>
              <a:chExt cx="142920" cy="139680"/>
            </a:xfrm>
          </p:grpSpPr>
          <p:sp>
            <p:nvSpPr>
              <p:cNvPr id="1542" name=""/>
              <p:cNvSpPr/>
              <p:nvPr/>
            </p:nvSpPr>
            <p:spPr>
              <a:xfrm>
                <a:off x="7064280" y="6137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997320" y="62071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6886080" y="6588000"/>
              <a:ext cx="142920" cy="139680"/>
              <a:chOff x="6886080" y="6588000"/>
              <a:chExt cx="142920" cy="139680"/>
            </a:xfrm>
          </p:grpSpPr>
          <p:sp>
            <p:nvSpPr>
              <p:cNvPr id="1545" name=""/>
              <p:cNvSpPr/>
              <p:nvPr/>
            </p:nvSpPr>
            <p:spPr>
              <a:xfrm>
                <a:off x="6953040" y="6588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6886080" y="6657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6521040" y="6954840"/>
              <a:ext cx="142920" cy="139680"/>
              <a:chOff x="6521040" y="6954840"/>
              <a:chExt cx="142920" cy="139680"/>
            </a:xfrm>
          </p:grpSpPr>
          <p:sp>
            <p:nvSpPr>
              <p:cNvPr id="1548" name=""/>
              <p:cNvSpPr/>
              <p:nvPr/>
            </p:nvSpPr>
            <p:spPr>
              <a:xfrm>
                <a:off x="6588000" y="6954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6521040" y="7024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1085400" y="5470560"/>
              <a:ext cx="142920" cy="139680"/>
              <a:chOff x="1085400" y="5470560"/>
              <a:chExt cx="142920" cy="139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1152360" y="54705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1085400" y="55404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972720" y="6127920"/>
              <a:ext cx="142920" cy="139680"/>
              <a:chOff x="972720" y="6127920"/>
              <a:chExt cx="142920" cy="139680"/>
            </a:xfrm>
          </p:grpSpPr>
          <p:sp>
            <p:nvSpPr>
              <p:cNvPr id="1554" name=""/>
              <p:cNvSpPr/>
              <p:nvPr/>
            </p:nvSpPr>
            <p:spPr>
              <a:xfrm>
                <a:off x="1039680" y="6127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972720" y="6197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1258560" y="6532560"/>
              <a:ext cx="142920" cy="139680"/>
              <a:chOff x="1258560" y="6532560"/>
              <a:chExt cx="142920" cy="139680"/>
            </a:xfrm>
          </p:grpSpPr>
          <p:sp>
            <p:nvSpPr>
              <p:cNvPr id="1557" name=""/>
              <p:cNvSpPr/>
              <p:nvPr/>
            </p:nvSpPr>
            <p:spPr>
              <a:xfrm>
                <a:off x="1325520" y="65325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1258560" y="66024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1584000" y="6959520"/>
              <a:ext cx="142920" cy="139680"/>
              <a:chOff x="1584000" y="6959520"/>
              <a:chExt cx="142920" cy="139680"/>
            </a:xfrm>
          </p:grpSpPr>
          <p:sp>
            <p:nvSpPr>
              <p:cNvPr id="1560" name=""/>
              <p:cNvSpPr/>
              <p:nvPr/>
            </p:nvSpPr>
            <p:spPr>
              <a:xfrm>
                <a:off x="1650960" y="6959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1584000" y="7029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2800080" y="3755880"/>
              <a:ext cx="142920" cy="139680"/>
              <a:chOff x="2800080" y="3755880"/>
              <a:chExt cx="142920" cy="139680"/>
            </a:xfrm>
          </p:grpSpPr>
          <p:sp>
            <p:nvSpPr>
              <p:cNvPr id="1563" name=""/>
              <p:cNvSpPr/>
              <p:nvPr/>
            </p:nvSpPr>
            <p:spPr>
              <a:xfrm>
                <a:off x="2867040" y="3755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2800080" y="38257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1644120" y="4924440"/>
              <a:ext cx="142920" cy="139680"/>
              <a:chOff x="1644120" y="4924440"/>
              <a:chExt cx="142920" cy="139680"/>
            </a:xfrm>
          </p:grpSpPr>
          <p:sp>
            <p:nvSpPr>
              <p:cNvPr id="1566" name=""/>
              <p:cNvSpPr/>
              <p:nvPr/>
            </p:nvSpPr>
            <p:spPr>
              <a:xfrm>
                <a:off x="1711080" y="4924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1644120" y="49942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2241720" y="5559480"/>
              <a:ext cx="142560" cy="139680"/>
              <a:chOff x="2241720" y="5559480"/>
              <a:chExt cx="142560" cy="139680"/>
            </a:xfrm>
          </p:grpSpPr>
          <p:sp>
            <p:nvSpPr>
              <p:cNvPr id="1569" name=""/>
              <p:cNvSpPr/>
              <p:nvPr/>
            </p:nvSpPr>
            <p:spPr>
              <a:xfrm>
                <a:off x="2307960" y="55594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2241720" y="562932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3422160" y="4378320"/>
              <a:ext cx="142920" cy="139680"/>
              <a:chOff x="3422160" y="4378320"/>
              <a:chExt cx="142920" cy="139680"/>
            </a:xfrm>
          </p:grpSpPr>
          <p:sp>
            <p:nvSpPr>
              <p:cNvPr id="1572" name=""/>
              <p:cNvSpPr/>
              <p:nvPr/>
            </p:nvSpPr>
            <p:spPr>
              <a:xfrm>
                <a:off x="3489120" y="43783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3422160" y="44481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4765320" y="4483080"/>
              <a:ext cx="142920" cy="139680"/>
              <a:chOff x="4765320" y="4483080"/>
              <a:chExt cx="142920" cy="139680"/>
            </a:xfrm>
          </p:grpSpPr>
          <p:sp>
            <p:nvSpPr>
              <p:cNvPr id="1575" name=""/>
              <p:cNvSpPr/>
              <p:nvPr/>
            </p:nvSpPr>
            <p:spPr>
              <a:xfrm>
                <a:off x="4832280" y="44830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4765320" y="4552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6054480" y="5749920"/>
              <a:ext cx="142920" cy="139680"/>
              <a:chOff x="6054480" y="5749920"/>
              <a:chExt cx="142920" cy="139680"/>
            </a:xfrm>
          </p:grpSpPr>
          <p:sp>
            <p:nvSpPr>
              <p:cNvPr id="1578" name=""/>
              <p:cNvSpPr/>
              <p:nvPr/>
            </p:nvSpPr>
            <p:spPr>
              <a:xfrm>
                <a:off x="6121440" y="5749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054480" y="5819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5442120" y="3922560"/>
              <a:ext cx="142560" cy="139680"/>
              <a:chOff x="5442120" y="3922560"/>
              <a:chExt cx="142560" cy="139680"/>
            </a:xfrm>
          </p:grpSpPr>
          <p:sp>
            <p:nvSpPr>
              <p:cNvPr id="1581" name=""/>
              <p:cNvSpPr/>
              <p:nvPr/>
            </p:nvSpPr>
            <p:spPr>
              <a:xfrm>
                <a:off x="5508360" y="39225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5442120" y="39924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7329240" y="5796000"/>
              <a:ext cx="142920" cy="139680"/>
              <a:chOff x="7329240" y="5796000"/>
              <a:chExt cx="142920" cy="139680"/>
            </a:xfrm>
          </p:grpSpPr>
          <p:sp>
            <p:nvSpPr>
              <p:cNvPr id="1584" name=""/>
              <p:cNvSpPr/>
              <p:nvPr/>
            </p:nvSpPr>
            <p:spPr>
              <a:xfrm>
                <a:off x="7396200" y="5796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7329240" y="5865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5074920" y="2736720"/>
              <a:ext cx="142920" cy="139680"/>
              <a:chOff x="5074920" y="2736720"/>
              <a:chExt cx="142920" cy="139680"/>
            </a:xfrm>
          </p:grpSpPr>
          <p:sp>
            <p:nvSpPr>
              <p:cNvPr id="1587" name=""/>
              <p:cNvSpPr/>
              <p:nvPr/>
            </p:nvSpPr>
            <p:spPr>
              <a:xfrm>
                <a:off x="5141880" y="2736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074920" y="28065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089400" y="1698480"/>
              <a:ext cx="142920" cy="139680"/>
              <a:chOff x="6089400" y="1698480"/>
              <a:chExt cx="142920" cy="139680"/>
            </a:xfrm>
          </p:grpSpPr>
          <p:sp>
            <p:nvSpPr>
              <p:cNvPr id="1590" name=""/>
              <p:cNvSpPr/>
              <p:nvPr/>
            </p:nvSpPr>
            <p:spPr>
              <a:xfrm>
                <a:off x="6156360" y="1698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089400" y="17683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4457880" y="2112840"/>
              <a:ext cx="142560" cy="139680"/>
              <a:chOff x="4457880" y="2112840"/>
              <a:chExt cx="142560" cy="139680"/>
            </a:xfrm>
          </p:grpSpPr>
          <p:sp>
            <p:nvSpPr>
              <p:cNvPr id="1593" name=""/>
              <p:cNvSpPr/>
              <p:nvPr/>
            </p:nvSpPr>
            <p:spPr>
              <a:xfrm>
                <a:off x="4524120" y="2112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4457880" y="218268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388120" y="1174680"/>
              <a:ext cx="142560" cy="139680"/>
              <a:chOff x="5388120" y="1174680"/>
              <a:chExt cx="142560" cy="139680"/>
            </a:xfrm>
          </p:grpSpPr>
          <p:sp>
            <p:nvSpPr>
              <p:cNvPr id="1596" name=""/>
              <p:cNvSpPr/>
              <p:nvPr/>
            </p:nvSpPr>
            <p:spPr>
              <a:xfrm>
                <a:off x="5454360" y="11746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5388120" y="12445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3675240" y="2143080"/>
              <a:ext cx="142560" cy="139680"/>
              <a:chOff x="3675240" y="2143080"/>
              <a:chExt cx="142560" cy="139680"/>
            </a:xfrm>
          </p:grpSpPr>
          <p:sp>
            <p:nvSpPr>
              <p:cNvPr id="1599" name=""/>
              <p:cNvSpPr/>
              <p:nvPr/>
            </p:nvSpPr>
            <p:spPr>
              <a:xfrm>
                <a:off x="3741480" y="2143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3675240" y="22129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3001680" y="2706840"/>
              <a:ext cx="142920" cy="139680"/>
              <a:chOff x="3001680" y="2706840"/>
              <a:chExt cx="142920" cy="139680"/>
            </a:xfrm>
          </p:grpSpPr>
          <p:sp>
            <p:nvSpPr>
              <p:cNvPr id="1602" name=""/>
              <p:cNvSpPr/>
              <p:nvPr/>
            </p:nvSpPr>
            <p:spPr>
              <a:xfrm>
                <a:off x="3068640" y="2706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3001680" y="27766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2006280" y="1722600"/>
              <a:ext cx="142920" cy="139680"/>
              <a:chOff x="2006280" y="1722600"/>
              <a:chExt cx="142920" cy="139680"/>
            </a:xfrm>
          </p:grpSpPr>
          <p:sp>
            <p:nvSpPr>
              <p:cNvPr id="1605" name=""/>
              <p:cNvSpPr/>
              <p:nvPr/>
            </p:nvSpPr>
            <p:spPr>
              <a:xfrm>
                <a:off x="2073240" y="17226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2006280" y="17924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2912760" y="1389240"/>
              <a:ext cx="142920" cy="139680"/>
              <a:chOff x="2912760" y="1389240"/>
              <a:chExt cx="142920" cy="139680"/>
            </a:xfrm>
          </p:grpSpPr>
          <p:sp>
            <p:nvSpPr>
              <p:cNvPr id="1608" name=""/>
              <p:cNvSpPr/>
              <p:nvPr/>
            </p:nvSpPr>
            <p:spPr>
              <a:xfrm>
                <a:off x="2979720" y="13892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>
                <a:off x="2912760" y="14590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-181080" y="-104760"/>
              <a:ext cx="1003320" cy="8589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2381400" y="6137280"/>
              <a:ext cx="142560" cy="139680"/>
              <a:chOff x="2381400" y="6137280"/>
              <a:chExt cx="142560" cy="139680"/>
            </a:xfrm>
          </p:grpSpPr>
          <p:sp>
            <p:nvSpPr>
              <p:cNvPr id="1612" name=""/>
              <p:cNvSpPr/>
              <p:nvPr/>
            </p:nvSpPr>
            <p:spPr>
              <a:xfrm>
                <a:off x="2447640" y="6137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2381400" y="620712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5721120" y="6121440"/>
              <a:ext cx="142920" cy="139680"/>
              <a:chOff x="5721120" y="6121440"/>
              <a:chExt cx="142920" cy="139680"/>
            </a:xfrm>
          </p:grpSpPr>
          <p:sp>
            <p:nvSpPr>
              <p:cNvPr id="1615" name=""/>
              <p:cNvSpPr/>
              <p:nvPr/>
            </p:nvSpPr>
            <p:spPr>
              <a:xfrm>
                <a:off x="5788080" y="6121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5721120" y="61912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2009880" y="474840"/>
              <a:ext cx="142920" cy="139680"/>
              <a:chOff x="2009880" y="474840"/>
              <a:chExt cx="142920" cy="139680"/>
            </a:xfrm>
          </p:grpSpPr>
          <p:sp>
            <p:nvSpPr>
              <p:cNvPr id="1618" name=""/>
              <p:cNvSpPr/>
              <p:nvPr/>
            </p:nvSpPr>
            <p:spPr>
              <a:xfrm>
                <a:off x="2085840" y="474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009880" y="5446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3009960" y="941400"/>
              <a:ext cx="142920" cy="139680"/>
              <a:chOff x="3009960" y="941400"/>
              <a:chExt cx="142920" cy="139680"/>
            </a:xfrm>
          </p:grpSpPr>
          <p:sp>
            <p:nvSpPr>
              <p:cNvPr id="1621" name=""/>
              <p:cNvSpPr/>
              <p:nvPr/>
            </p:nvSpPr>
            <p:spPr>
              <a:xfrm>
                <a:off x="3085920" y="9414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009960" y="10112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>
              <a:off x="2324520" y="918720"/>
              <a:ext cx="38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921480" y="2477520"/>
              <a:ext cx="38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305520" y="3087000"/>
              <a:ext cx="38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528080" y="3093480"/>
              <a:ext cx="38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908880" y="3702960"/>
              <a:ext cx="38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81840" y="6093720"/>
              <a:ext cx="79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Kr W 105/1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380960" y="6093720"/>
              <a:ext cx="69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Kr W 89/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530680" y="3099600"/>
              <a:ext cx="4687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1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1" name=""/>
          <p:cNvGrpSpPr/>
          <p:nvPr/>
        </p:nvGrpSpPr>
        <p:grpSpPr>
          <a:xfrm>
            <a:off x="-2174760" y="-4786560"/>
            <a:ext cx="12237840" cy="13721040"/>
            <a:chOff x="-2174760" y="-4786560"/>
            <a:chExt cx="12237840" cy="13721040"/>
          </a:xfrm>
        </p:grpSpPr>
        <p:sp>
          <p:nvSpPr>
            <p:cNvPr id="1632" name=""/>
            <p:cNvSpPr/>
            <p:nvPr/>
          </p:nvSpPr>
          <p:spPr>
            <a:xfrm flipH="1">
              <a:off x="7488360" y="1228680"/>
              <a:ext cx="1440" cy="633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9800" y="577800"/>
              <a:ext cx="0" cy="65088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-2174760" y="1098000"/>
              <a:ext cx="7751520" cy="10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flipV="1">
              <a:off x="1801440" y="1141200"/>
              <a:ext cx="857160" cy="857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-133200" y="276840"/>
              <a:ext cx="615780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2075040" y="-4786560"/>
              <a:ext cx="7713360" cy="7713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5904000" y="227160"/>
              <a:ext cx="3543120" cy="3549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46044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22600" y="10342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67280" y="-549360"/>
              <a:ext cx="814680" cy="3384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66680" y="7118280"/>
              <a:ext cx="814680" cy="3380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942240" y="936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6875640" y="7920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736800" y="92700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36800" y="92700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738600" y="92340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05520" y="89928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-54000" y="6272640"/>
              <a:ext cx="924228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-15840" y="645156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763200" y="6318360"/>
              <a:ext cx="343080" cy="342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-1870560" y="7101000"/>
              <a:ext cx="1146996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1107720" y="6661080"/>
              <a:ext cx="1322280" cy="1324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992320" y="9270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317000" y="7056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02000" y="10429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335040" y="11127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-1978200" y="276840"/>
              <a:ext cx="615816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309680" y="6505200"/>
              <a:ext cx="349200" cy="352800"/>
              <a:chOff x="1309680" y="6505200"/>
              <a:chExt cx="349200" cy="352800"/>
            </a:xfrm>
          </p:grpSpPr>
          <p:grpSp>
            <p:nvGrpSpPr>
              <p:cNvPr id="1660" name=""/>
              <p:cNvGrpSpPr/>
              <p:nvPr/>
            </p:nvGrpSpPr>
            <p:grpSpPr>
              <a:xfrm>
                <a:off x="1312560" y="6513480"/>
                <a:ext cx="342720" cy="344520"/>
                <a:chOff x="1312560" y="6513480"/>
                <a:chExt cx="342720" cy="34452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312560" y="6513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312560" y="6513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3" name=""/>
              <p:cNvSpPr/>
              <p:nvPr/>
            </p:nvSpPr>
            <p:spPr>
              <a:xfrm flipV="1">
                <a:off x="1309680" y="650520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7248600" y="14202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07920" y="6871680"/>
              <a:ext cx="6685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EKW 114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6959520" y="701640"/>
              <a:ext cx="343080" cy="344520"/>
              <a:chOff x="6959520" y="701640"/>
              <a:chExt cx="343080" cy="344520"/>
            </a:xfrm>
          </p:grpSpPr>
          <p:sp>
            <p:nvSpPr>
              <p:cNvPr id="1667" name=""/>
              <p:cNvSpPr/>
              <p:nvPr/>
            </p:nvSpPr>
            <p:spPr>
              <a:xfrm>
                <a:off x="6959520" y="7016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959520" y="7016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9" name=""/>
            <p:cNvSpPr/>
            <p:nvPr/>
          </p:nvSpPr>
          <p:spPr>
            <a:xfrm flipV="1">
              <a:off x="6958080" y="69804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8513280" y="1649160"/>
              <a:ext cx="24336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1007640" y="6572160"/>
              <a:ext cx="142920" cy="139680"/>
              <a:chOff x="1007640" y="6572160"/>
              <a:chExt cx="142920" cy="139680"/>
            </a:xfrm>
          </p:grpSpPr>
          <p:sp>
            <p:nvSpPr>
              <p:cNvPr id="1672" name=""/>
              <p:cNvSpPr/>
              <p:nvPr/>
            </p:nvSpPr>
            <p:spPr>
              <a:xfrm>
                <a:off x="1074600" y="6572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1007640" y="6642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2749680" y="10288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2682360" y="10987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1320840" y="674280"/>
              <a:ext cx="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1353600" y="569880"/>
              <a:ext cx="349560" cy="352440"/>
              <a:chOff x="1353600" y="569880"/>
              <a:chExt cx="349560" cy="352440"/>
            </a:xfrm>
          </p:grpSpPr>
          <p:grpSp>
            <p:nvGrpSpPr>
              <p:cNvPr id="1678" name=""/>
              <p:cNvGrpSpPr/>
              <p:nvPr/>
            </p:nvGrpSpPr>
            <p:grpSpPr>
              <a:xfrm>
                <a:off x="1360080" y="574560"/>
                <a:ext cx="343080" cy="344160"/>
                <a:chOff x="1360080" y="574560"/>
                <a:chExt cx="343080" cy="344160"/>
              </a:xfrm>
            </p:grpSpPr>
            <p:sp>
              <p:nvSpPr>
                <p:cNvPr id="1679" name=""/>
                <p:cNvSpPr/>
                <p:nvPr/>
              </p:nvSpPr>
              <p:spPr>
                <a:xfrm rot="10800000">
                  <a:off x="1360080" y="57456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 flipV="1">
                  <a:off x="1360080" y="574560"/>
                  <a:ext cx="34308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 flipH="1">
                <a:off x="1353600" y="56988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2" name=""/>
            <p:cNvSpPr/>
            <p:nvPr/>
          </p:nvSpPr>
          <p:spPr>
            <a:xfrm rot="10800000">
              <a:off x="291600" y="628200"/>
              <a:ext cx="266760" cy="2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rot="10800000">
              <a:off x="304920" y="639720"/>
              <a:ext cx="241200" cy="23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430200" y="630000"/>
              <a:ext cx="0" cy="25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8440" y="75420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96080" y="5461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6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1027080" y="555480"/>
              <a:ext cx="142920" cy="139680"/>
              <a:chOff x="1027080" y="555480"/>
              <a:chExt cx="142920" cy="139680"/>
            </a:xfrm>
          </p:grpSpPr>
          <p:sp>
            <p:nvSpPr>
              <p:cNvPr id="1688" name=""/>
              <p:cNvSpPr/>
              <p:nvPr/>
            </p:nvSpPr>
            <p:spPr>
              <a:xfrm flipV="1">
                <a:off x="1102680" y="5554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027080" y="62532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 flipV="1">
              <a:off x="2540160" y="1947600"/>
              <a:ext cx="303984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1365120" y="1263600"/>
              <a:ext cx="343080" cy="344520"/>
              <a:chOff x="1365120" y="1263600"/>
              <a:chExt cx="343080" cy="344520"/>
            </a:xfrm>
          </p:grpSpPr>
          <p:sp>
            <p:nvSpPr>
              <p:cNvPr id="1692" name=""/>
              <p:cNvSpPr/>
              <p:nvPr/>
            </p:nvSpPr>
            <p:spPr>
              <a:xfrm>
                <a:off x="1365120" y="12636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65120" y="12636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 flipV="1">
              <a:off x="1363680" y="126000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205520" y="176292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736800" y="177804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736800" y="177804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3738600" y="177444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02000" y="18781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3335040" y="19479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751120" y="18842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2684160" y="195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7234200" y="1042920"/>
              <a:ext cx="0" cy="37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23240" y="12826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6955920" y="135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61400" y="10238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7894800" y="109368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486560" y="1155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7419600" y="12254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92320" y="17780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3720" y="6153840"/>
              <a:ext cx="6973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17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2618640" y="7083000"/>
              <a:ext cx="1490760" cy="14907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11560" y="7936920"/>
              <a:ext cx="7751520" cy="1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1312920" y="638136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973760" y="6166800"/>
              <a:ext cx="1069920" cy="955440"/>
              <a:chOff x="4973760" y="6166800"/>
              <a:chExt cx="1069920" cy="955440"/>
            </a:xfrm>
          </p:grpSpPr>
          <p:sp>
            <p:nvSpPr>
              <p:cNvPr id="1716" name=""/>
              <p:cNvSpPr/>
              <p:nvPr/>
            </p:nvSpPr>
            <p:spPr>
              <a:xfrm flipV="1">
                <a:off x="4973760" y="6691320"/>
                <a:ext cx="404640" cy="404640"/>
              </a:xfrm>
              <a:prstGeom prst="line">
                <a:avLst/>
              </a:prstGeom>
              <a:ln w="343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373720" y="6318000"/>
                <a:ext cx="379440" cy="37764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562360" y="6166800"/>
                <a:ext cx="464040" cy="21564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Times New Roman"/>
                  </a:rPr>
                  <a:t>W 13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077080" y="6906600"/>
                <a:ext cx="697320" cy="21564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Times New Roman"/>
                  </a:rPr>
                  <a:t>W 140  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0" name=""/>
              <p:cNvGrpSpPr/>
              <p:nvPr/>
            </p:nvGrpSpPr>
            <p:grpSpPr>
              <a:xfrm>
                <a:off x="5694480" y="6540120"/>
                <a:ext cx="349200" cy="352800"/>
                <a:chOff x="5694480" y="6540120"/>
                <a:chExt cx="349200" cy="352800"/>
              </a:xfrm>
            </p:grpSpPr>
            <p:grpSp>
              <p:nvGrpSpPr>
                <p:cNvPr id="1721" name=""/>
                <p:cNvGrpSpPr/>
                <p:nvPr/>
              </p:nvGrpSpPr>
              <p:grpSpPr>
                <a:xfrm>
                  <a:off x="5697360" y="6548400"/>
                  <a:ext cx="342720" cy="344520"/>
                  <a:chOff x="5697360" y="6548400"/>
                  <a:chExt cx="342720" cy="34452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5697360" y="6548400"/>
                    <a:ext cx="34272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5697360" y="6548400"/>
                    <a:ext cx="342720" cy="3445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4" name=""/>
                <p:cNvSpPr/>
                <p:nvPr/>
              </p:nvSpPr>
              <p:spPr>
                <a:xfrm flipV="1">
                  <a:off x="5694480" y="6540120"/>
                  <a:ext cx="349200" cy="3524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 flipV="1">
                <a:off x="6040440" y="6393960"/>
                <a:ext cx="0" cy="142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 flipV="1">
              <a:off x="5649120" y="7521120"/>
              <a:ext cx="405000" cy="405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6049800" y="7148160"/>
              <a:ext cx="379440" cy="377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238800" y="69969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53520" y="7736760"/>
              <a:ext cx="6973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29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6370560" y="7370280"/>
              <a:ext cx="349200" cy="352800"/>
              <a:chOff x="6370560" y="7370280"/>
              <a:chExt cx="349200" cy="352800"/>
            </a:xfrm>
          </p:grpSpPr>
          <p:grpSp>
            <p:nvGrpSpPr>
              <p:cNvPr id="1731" name=""/>
              <p:cNvGrpSpPr/>
              <p:nvPr/>
            </p:nvGrpSpPr>
            <p:grpSpPr>
              <a:xfrm>
                <a:off x="6373440" y="7378560"/>
                <a:ext cx="342720" cy="344520"/>
                <a:chOff x="6373440" y="7378560"/>
                <a:chExt cx="342720" cy="34452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6373440" y="73785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6373440" y="73785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 flipV="1">
                <a:off x="6370560" y="737028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 flipV="1">
              <a:off x="6716880" y="722448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1488600" y="6208560"/>
              <a:ext cx="142920" cy="139680"/>
              <a:chOff x="1488600" y="6208560"/>
              <a:chExt cx="142920" cy="139680"/>
            </a:xfrm>
          </p:grpSpPr>
          <p:sp>
            <p:nvSpPr>
              <p:cNvPr id="1737" name=""/>
              <p:cNvSpPr/>
              <p:nvPr/>
            </p:nvSpPr>
            <p:spPr>
              <a:xfrm>
                <a:off x="1555560" y="62085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1488600" y="62784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5032080" y="6203880"/>
              <a:ext cx="142920" cy="139680"/>
              <a:chOff x="5032080" y="6203880"/>
              <a:chExt cx="142920" cy="139680"/>
            </a:xfrm>
          </p:grpSpPr>
          <p:sp>
            <p:nvSpPr>
              <p:cNvPr id="1740" name=""/>
              <p:cNvSpPr/>
              <p:nvPr/>
            </p:nvSpPr>
            <p:spPr>
              <a:xfrm>
                <a:off x="5099040" y="620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5032080" y="62737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5279760" y="6642000"/>
              <a:ext cx="142920" cy="139680"/>
              <a:chOff x="5279760" y="6642000"/>
              <a:chExt cx="142920" cy="139680"/>
            </a:xfrm>
          </p:grpSpPr>
          <p:sp>
            <p:nvSpPr>
              <p:cNvPr id="1743" name=""/>
              <p:cNvSpPr/>
              <p:nvPr/>
            </p:nvSpPr>
            <p:spPr>
              <a:xfrm>
                <a:off x="5346720" y="6642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5279760" y="6711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flipH="1">
              <a:off x="7749720" y="2076120"/>
              <a:ext cx="24336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9144000" y="4019400"/>
              <a:ext cx="0" cy="491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"/>
          <p:cNvGrpSpPr/>
          <p:nvPr/>
        </p:nvGrpSpPr>
        <p:grpSpPr>
          <a:xfrm>
            <a:off x="-7072560" y="-4953240"/>
            <a:ext cx="15497280" cy="17937000"/>
            <a:chOff x="-7072560" y="-4953240"/>
            <a:chExt cx="15497280" cy="17937000"/>
          </a:xfrm>
        </p:grpSpPr>
        <p:grpSp>
          <p:nvGrpSpPr>
            <p:cNvPr id="1748" name=""/>
            <p:cNvGrpSpPr/>
            <p:nvPr/>
          </p:nvGrpSpPr>
          <p:grpSpPr>
            <a:xfrm>
              <a:off x="2469240" y="4090680"/>
              <a:ext cx="495000" cy="485640"/>
              <a:chOff x="2469240" y="4090680"/>
              <a:chExt cx="495000" cy="485640"/>
            </a:xfrm>
          </p:grpSpPr>
          <p:grpSp>
            <p:nvGrpSpPr>
              <p:cNvPr id="1749" name=""/>
              <p:cNvGrpSpPr/>
              <p:nvPr/>
            </p:nvGrpSpPr>
            <p:grpSpPr>
              <a:xfrm>
                <a:off x="2473920" y="4090680"/>
                <a:ext cx="485640" cy="485640"/>
                <a:chOff x="2473920" y="4090680"/>
                <a:chExt cx="485640" cy="485640"/>
              </a:xfrm>
            </p:grpSpPr>
            <p:sp>
              <p:nvSpPr>
                <p:cNvPr id="1750" name=""/>
                <p:cNvSpPr/>
                <p:nvPr/>
              </p:nvSpPr>
              <p:spPr>
                <a:xfrm rot="13494000">
                  <a:off x="2545200" y="416124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2716560" y="4090680"/>
                  <a:ext cx="360" cy="4856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2" name=""/>
              <p:cNvSpPr/>
              <p:nvPr/>
            </p:nvSpPr>
            <p:spPr>
              <a:xfrm flipH="1">
                <a:off x="2469240" y="4335120"/>
                <a:ext cx="495000" cy="39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flipH="1">
              <a:off x="5432760" y="8155800"/>
              <a:ext cx="720" cy="41180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6309360" y="6676920"/>
              <a:ext cx="5040" cy="5275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98720" y="6931440"/>
              <a:ext cx="131292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-2162160" y="6102360"/>
              <a:ext cx="38307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-1736640" y="6935040"/>
              <a:ext cx="340020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3065400" y="6100560"/>
              <a:ext cx="15145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-7072560" y="-4953240"/>
              <a:ext cx="7713720" cy="7713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-3243240" y="60480"/>
              <a:ext cx="3543120" cy="3549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4087440" y="6880320"/>
              <a:ext cx="1397160" cy="1396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-3879360" y="7770600"/>
              <a:ext cx="775152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5486400" y="9338760"/>
              <a:ext cx="404640" cy="405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886360" y="8966160"/>
              <a:ext cx="379440" cy="3780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087960" y="881460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230080" y="9573480"/>
              <a:ext cx="4899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3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5727600" y="9524520"/>
              <a:ext cx="349200" cy="352800"/>
              <a:chOff x="5727600" y="9524520"/>
              <a:chExt cx="349200" cy="352800"/>
            </a:xfrm>
          </p:grpSpPr>
          <p:grpSp>
            <p:nvGrpSpPr>
              <p:cNvPr id="1768" name=""/>
              <p:cNvGrpSpPr/>
              <p:nvPr/>
            </p:nvGrpSpPr>
            <p:grpSpPr>
              <a:xfrm>
                <a:off x="5730480" y="9532800"/>
                <a:ext cx="342720" cy="344520"/>
                <a:chOff x="5730480" y="9532800"/>
                <a:chExt cx="342720" cy="34452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5730480" y="95328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5730480" y="95328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 flipV="1">
                <a:off x="5727600" y="952452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2" name=""/>
            <p:cNvSpPr/>
            <p:nvPr/>
          </p:nvSpPr>
          <p:spPr>
            <a:xfrm flipV="1">
              <a:off x="6073920" y="9051840"/>
              <a:ext cx="0" cy="470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6531120" y="6978240"/>
              <a:ext cx="349200" cy="352800"/>
              <a:chOff x="6531120" y="6978240"/>
              <a:chExt cx="349200" cy="35280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6534000" y="6986520"/>
                <a:ext cx="342720" cy="344520"/>
                <a:chOff x="6534000" y="6986520"/>
                <a:chExt cx="342720" cy="34452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6534000" y="6986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534000" y="6986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7" name=""/>
              <p:cNvSpPr/>
              <p:nvPr/>
            </p:nvSpPr>
            <p:spPr>
              <a:xfrm flipV="1">
                <a:off x="6531120" y="697824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6238440" y="9202680"/>
              <a:ext cx="142920" cy="139680"/>
              <a:chOff x="6238440" y="9202680"/>
              <a:chExt cx="142920" cy="139680"/>
            </a:xfrm>
          </p:grpSpPr>
          <p:sp>
            <p:nvSpPr>
              <p:cNvPr id="1779" name=""/>
              <p:cNvSpPr/>
              <p:nvPr/>
            </p:nvSpPr>
            <p:spPr>
              <a:xfrm>
                <a:off x="6305400" y="92026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6238440" y="92725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5887800" y="9204480"/>
              <a:ext cx="142920" cy="139680"/>
              <a:chOff x="5887800" y="9204480"/>
              <a:chExt cx="142920" cy="139680"/>
            </a:xfrm>
          </p:grpSpPr>
          <p:sp>
            <p:nvSpPr>
              <p:cNvPr id="1782" name=""/>
              <p:cNvSpPr/>
              <p:nvPr/>
            </p:nvSpPr>
            <p:spPr>
              <a:xfrm>
                <a:off x="5954760" y="92044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5887800" y="92743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5368680" y="9210600"/>
              <a:ext cx="142920" cy="139680"/>
              <a:chOff x="5368680" y="9210600"/>
              <a:chExt cx="142920" cy="139680"/>
            </a:xfrm>
          </p:grpSpPr>
          <p:sp>
            <p:nvSpPr>
              <p:cNvPr id="1785" name=""/>
              <p:cNvSpPr/>
              <p:nvPr/>
            </p:nvSpPr>
            <p:spPr>
              <a:xfrm>
                <a:off x="5435640" y="9210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5368680" y="9280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7" name=""/>
            <p:cNvSpPr/>
            <p:nvPr/>
          </p:nvSpPr>
          <p:spPr>
            <a:xfrm flipH="1" flipV="1">
              <a:off x="1762200" y="-770400"/>
              <a:ext cx="1614240" cy="16146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62480" y="76010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050920" y="-480960"/>
              <a:ext cx="24768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 flipV="1">
              <a:off x="3750840" y="7721280"/>
              <a:ext cx="857160" cy="8571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 flipV="1">
              <a:off x="281160" y="3587400"/>
              <a:ext cx="1761840" cy="17636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 flipV="1">
              <a:off x="639720" y="2760480"/>
              <a:ext cx="2276640" cy="22748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 flipV="1">
              <a:off x="3376080" y="844200"/>
              <a:ext cx="2984760" cy="29876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6252840" y="6788160"/>
              <a:ext cx="142920" cy="139680"/>
              <a:chOff x="6252840" y="6788160"/>
              <a:chExt cx="142920" cy="139680"/>
            </a:xfrm>
          </p:grpSpPr>
          <p:sp>
            <p:nvSpPr>
              <p:cNvPr id="1795" name=""/>
              <p:cNvSpPr/>
              <p:nvPr/>
            </p:nvSpPr>
            <p:spPr>
              <a:xfrm>
                <a:off x="6319800" y="6788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6252840" y="6858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"/>
            <p:cNvSpPr/>
            <p:nvPr/>
          </p:nvSpPr>
          <p:spPr>
            <a:xfrm flipH="1">
              <a:off x="4552920" y="8456040"/>
              <a:ext cx="2520" cy="29574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76520" y="5524560"/>
              <a:ext cx="0" cy="300024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71960" y="5514840"/>
              <a:ext cx="0" cy="30006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143160" y="554364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43160" y="849780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476360" y="554364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476360" y="849780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06400" y="5516640"/>
              <a:ext cx="1440000" cy="30081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1992600" y="5231880"/>
              <a:ext cx="1080" cy="77518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2865600" y="4915080"/>
              <a:ext cx="1080" cy="77515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 flipV="1">
              <a:off x="4459320" y="6053040"/>
              <a:ext cx="1905120" cy="19051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311520" y="3710880"/>
              <a:ext cx="2160" cy="29703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 flipV="1">
              <a:off x="6297480" y="5906880"/>
              <a:ext cx="857520" cy="8571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54480" y="76384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76480" y="7272360"/>
              <a:ext cx="142920" cy="139680"/>
              <a:chOff x="5676480" y="7272360"/>
              <a:chExt cx="142920" cy="139680"/>
            </a:xfrm>
          </p:grpSpPr>
          <p:sp>
            <p:nvSpPr>
              <p:cNvPr id="1812" name=""/>
              <p:cNvSpPr/>
              <p:nvPr/>
            </p:nvSpPr>
            <p:spPr>
              <a:xfrm>
                <a:off x="5743440" y="72723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5676480" y="73422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4378320" y="10796760"/>
              <a:ext cx="352440" cy="349200"/>
              <a:chOff x="4378320" y="10796760"/>
              <a:chExt cx="352440" cy="349200"/>
            </a:xfrm>
          </p:grpSpPr>
          <p:grpSp>
            <p:nvGrpSpPr>
              <p:cNvPr id="1815" name=""/>
              <p:cNvGrpSpPr/>
              <p:nvPr/>
            </p:nvGrpSpPr>
            <p:grpSpPr>
              <a:xfrm>
                <a:off x="4382640" y="10796760"/>
                <a:ext cx="344520" cy="343080"/>
                <a:chOff x="4382640" y="10796760"/>
                <a:chExt cx="344520" cy="343080"/>
              </a:xfrm>
            </p:grpSpPr>
            <p:sp>
              <p:nvSpPr>
                <p:cNvPr id="1816" name=""/>
                <p:cNvSpPr/>
                <p:nvPr/>
              </p:nvSpPr>
              <p:spPr>
                <a:xfrm rot="5400000">
                  <a:off x="4383360" y="107960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4382640" y="10796760"/>
                  <a:ext cx="344520" cy="34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8" name=""/>
              <p:cNvSpPr/>
              <p:nvPr/>
            </p:nvSpPr>
            <p:spPr>
              <a:xfrm>
                <a:off x="4378320" y="10798560"/>
                <a:ext cx="352440" cy="34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 rot="5400000">
              <a:off x="4031640" y="1003428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4484160" y="9535680"/>
              <a:ext cx="140040" cy="142920"/>
              <a:chOff x="4484160" y="9535680"/>
              <a:chExt cx="140040" cy="142920"/>
            </a:xfrm>
          </p:grpSpPr>
          <p:sp>
            <p:nvSpPr>
              <p:cNvPr id="1821" name=""/>
              <p:cNvSpPr/>
              <p:nvPr/>
            </p:nvSpPr>
            <p:spPr>
              <a:xfrm flipH="1">
                <a:off x="4484160" y="9605880"/>
                <a:ext cx="14004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554000" y="9535680"/>
                <a:ext cx="0" cy="1429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6054120" y="5990400"/>
              <a:ext cx="4644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6532560" y="6210360"/>
              <a:ext cx="0" cy="141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856560" y="6461280"/>
              <a:ext cx="142560" cy="139680"/>
              <a:chOff x="6856560" y="6461280"/>
              <a:chExt cx="142560" cy="139680"/>
            </a:xfrm>
          </p:grpSpPr>
          <p:sp>
            <p:nvSpPr>
              <p:cNvPr id="1826" name=""/>
              <p:cNvSpPr/>
              <p:nvPr/>
            </p:nvSpPr>
            <p:spPr>
              <a:xfrm>
                <a:off x="6922800" y="6461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6856560" y="65311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6140160" y="3957480"/>
              <a:ext cx="344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9" name=""/>
            <p:cNvGrpSpPr/>
            <p:nvPr/>
          </p:nvGrpSpPr>
          <p:grpSpPr>
            <a:xfrm>
              <a:off x="6137280" y="4307040"/>
              <a:ext cx="352440" cy="1158840"/>
              <a:chOff x="6137280" y="4307040"/>
              <a:chExt cx="352440" cy="1158840"/>
            </a:xfrm>
          </p:grpSpPr>
          <p:grpSp>
            <p:nvGrpSpPr>
              <p:cNvPr id="1830" name=""/>
              <p:cNvGrpSpPr/>
              <p:nvPr/>
            </p:nvGrpSpPr>
            <p:grpSpPr>
              <a:xfrm>
                <a:off x="6137280" y="5116680"/>
                <a:ext cx="352440" cy="349200"/>
                <a:chOff x="6137280" y="5116680"/>
                <a:chExt cx="352440" cy="349200"/>
              </a:xfrm>
            </p:grpSpPr>
            <p:grpSp>
              <p:nvGrpSpPr>
                <p:cNvPr id="1831" name=""/>
                <p:cNvGrpSpPr/>
                <p:nvPr/>
              </p:nvGrpSpPr>
              <p:grpSpPr>
                <a:xfrm>
                  <a:off x="6141600" y="5116680"/>
                  <a:ext cx="344520" cy="343080"/>
                  <a:chOff x="6141600" y="5116680"/>
                  <a:chExt cx="344520" cy="343080"/>
                </a:xfrm>
              </p:grpSpPr>
              <p:sp>
                <p:nvSpPr>
                  <p:cNvPr id="1832" name=""/>
                  <p:cNvSpPr/>
                  <p:nvPr/>
                </p:nvSpPr>
                <p:spPr>
                  <a:xfrm rot="5400000">
                    <a:off x="6142320" y="511596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H="1">
                    <a:off x="6141600" y="5116680"/>
                    <a:ext cx="344520" cy="343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4" name=""/>
                <p:cNvSpPr/>
                <p:nvPr/>
              </p:nvSpPr>
              <p:spPr>
                <a:xfrm>
                  <a:off x="6137280" y="5118480"/>
                  <a:ext cx="352440" cy="3474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5" name=""/>
              <p:cNvSpPr/>
              <p:nvPr/>
            </p:nvSpPr>
            <p:spPr>
              <a:xfrm rot="5400000">
                <a:off x="6013080" y="4671000"/>
                <a:ext cx="61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181 Sü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6" name=""/>
              <p:cNvGrpSpPr/>
              <p:nvPr/>
            </p:nvGrpSpPr>
            <p:grpSpPr>
              <a:xfrm>
                <a:off x="6243480" y="4307040"/>
                <a:ext cx="139680" cy="142560"/>
                <a:chOff x="6243480" y="4307040"/>
                <a:chExt cx="139680" cy="142560"/>
              </a:xfrm>
            </p:grpSpPr>
            <p:sp>
              <p:nvSpPr>
                <p:cNvPr id="1837" name=""/>
                <p:cNvSpPr/>
                <p:nvPr/>
              </p:nvSpPr>
              <p:spPr>
                <a:xfrm flipH="1">
                  <a:off x="6243480" y="4376520"/>
                  <a:ext cx="13968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V="1">
                  <a:off x="6313320" y="4307040"/>
                  <a:ext cx="0" cy="14256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9" name=""/>
            <p:cNvSpPr/>
            <p:nvPr/>
          </p:nvSpPr>
          <p:spPr>
            <a:xfrm flipH="1">
              <a:off x="2426760" y="4546440"/>
              <a:ext cx="24336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1820520" y="8837640"/>
              <a:ext cx="344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1" name=""/>
            <p:cNvGrpSpPr/>
            <p:nvPr/>
          </p:nvGrpSpPr>
          <p:grpSpPr>
            <a:xfrm>
              <a:off x="1819440" y="7370640"/>
              <a:ext cx="352440" cy="349200"/>
              <a:chOff x="1819440" y="7370640"/>
              <a:chExt cx="352440" cy="349200"/>
            </a:xfrm>
          </p:grpSpPr>
          <p:grpSp>
            <p:nvGrpSpPr>
              <p:cNvPr id="1842" name=""/>
              <p:cNvGrpSpPr/>
              <p:nvPr/>
            </p:nvGrpSpPr>
            <p:grpSpPr>
              <a:xfrm>
                <a:off x="1823760" y="7370640"/>
                <a:ext cx="344520" cy="343080"/>
                <a:chOff x="1823760" y="7370640"/>
                <a:chExt cx="344520" cy="343080"/>
              </a:xfrm>
            </p:grpSpPr>
            <p:sp>
              <p:nvSpPr>
                <p:cNvPr id="1843" name=""/>
                <p:cNvSpPr/>
                <p:nvPr/>
              </p:nvSpPr>
              <p:spPr>
                <a:xfrm rot="5400000">
                  <a:off x="1824480" y="73699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>
                  <a:off x="1823760" y="7370640"/>
                  <a:ext cx="344520" cy="34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5" name=""/>
              <p:cNvSpPr/>
              <p:nvPr/>
            </p:nvSpPr>
            <p:spPr>
              <a:xfrm>
                <a:off x="1819440" y="7372440"/>
                <a:ext cx="352440" cy="34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 rot="5400000">
              <a:off x="1602360" y="680544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Schiebeha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7" name=""/>
            <p:cNvGrpSpPr/>
            <p:nvPr/>
          </p:nvGrpSpPr>
          <p:grpSpPr>
            <a:xfrm>
              <a:off x="1932120" y="6365520"/>
              <a:ext cx="139680" cy="142920"/>
              <a:chOff x="1932120" y="6365520"/>
              <a:chExt cx="139680" cy="142920"/>
            </a:xfrm>
          </p:grpSpPr>
          <p:sp>
            <p:nvSpPr>
              <p:cNvPr id="1848" name=""/>
              <p:cNvSpPr/>
              <p:nvPr/>
            </p:nvSpPr>
            <p:spPr>
              <a:xfrm flipH="1">
                <a:off x="1932120" y="6435720"/>
                <a:ext cx="13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2001960" y="6365520"/>
                <a:ext cx="0" cy="142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1260360" y="3378240"/>
              <a:ext cx="352440" cy="349200"/>
              <a:chOff x="1260360" y="3378240"/>
              <a:chExt cx="352440" cy="34920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1264680" y="3378240"/>
                <a:ext cx="344520" cy="343080"/>
                <a:chOff x="1264680" y="3378240"/>
                <a:chExt cx="344520" cy="343080"/>
              </a:xfrm>
            </p:grpSpPr>
            <p:sp>
              <p:nvSpPr>
                <p:cNvPr id="1852" name=""/>
                <p:cNvSpPr/>
                <p:nvPr/>
              </p:nvSpPr>
              <p:spPr>
                <a:xfrm rot="5400000">
                  <a:off x="1265400" y="33775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>
                  <a:off x="1264680" y="3378240"/>
                  <a:ext cx="344520" cy="34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4" name=""/>
              <p:cNvSpPr/>
              <p:nvPr/>
            </p:nvSpPr>
            <p:spPr>
              <a:xfrm>
                <a:off x="1260360" y="3380040"/>
                <a:ext cx="352440" cy="34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5" name=""/>
            <p:cNvSpPr/>
            <p:nvPr/>
          </p:nvSpPr>
          <p:spPr>
            <a:xfrm flipH="1" flipV="1">
              <a:off x="75240" y="1856880"/>
              <a:ext cx="1014480" cy="102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3509600">
              <a:off x="160920" y="1665360"/>
              <a:ext cx="107640" cy="2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3509600">
              <a:off x="273960" y="1588320"/>
              <a:ext cx="171360" cy="16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13509600">
              <a:off x="254520" y="212616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2710200">
              <a:off x="604440" y="2258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1085040" y="2697120"/>
              <a:ext cx="486000" cy="486000"/>
              <a:chOff x="1085040" y="2697120"/>
              <a:chExt cx="486000" cy="486000"/>
            </a:xfrm>
          </p:grpSpPr>
          <p:sp>
            <p:nvSpPr>
              <p:cNvPr id="1861" name=""/>
              <p:cNvSpPr/>
              <p:nvPr/>
            </p:nvSpPr>
            <p:spPr>
              <a:xfrm rot="13509600">
                <a:off x="1156320" y="276768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1326600" y="2697120"/>
                <a:ext cx="2520" cy="486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3" name=""/>
            <p:cNvSpPr/>
            <p:nvPr/>
          </p:nvSpPr>
          <p:spPr>
            <a:xfrm flipH="1">
              <a:off x="1077840" y="2933280"/>
              <a:ext cx="495000" cy="21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996480" y="2487600"/>
              <a:ext cx="99360" cy="9864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2520" y="2482920"/>
              <a:ext cx="100800" cy="1011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041120" y="2830320"/>
              <a:ext cx="92160" cy="9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7" name=""/>
            <p:cNvGrpSpPr/>
            <p:nvPr/>
          </p:nvGrpSpPr>
          <p:grpSpPr>
            <a:xfrm>
              <a:off x="593640" y="2698920"/>
              <a:ext cx="139680" cy="142560"/>
              <a:chOff x="593640" y="2698920"/>
              <a:chExt cx="139680" cy="142560"/>
            </a:xfrm>
          </p:grpSpPr>
          <p:sp>
            <p:nvSpPr>
              <p:cNvPr id="1868" name=""/>
              <p:cNvSpPr/>
              <p:nvPr/>
            </p:nvSpPr>
            <p:spPr>
              <a:xfrm flipH="1">
                <a:off x="593640" y="2768400"/>
                <a:ext cx="1396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663480" y="2698920"/>
                <a:ext cx="0" cy="1425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rot="13494000">
              <a:off x="1719000" y="3228480"/>
              <a:ext cx="431640" cy="4302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83680" y="3596400"/>
              <a:ext cx="527040" cy="52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2562480" y="4071240"/>
              <a:ext cx="110880" cy="11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2694000">
              <a:off x="2728440" y="406476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V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4" name=""/>
            <p:cNvGrpSpPr/>
            <p:nvPr/>
          </p:nvGrpSpPr>
          <p:grpSpPr>
            <a:xfrm>
              <a:off x="2517120" y="3751200"/>
              <a:ext cx="101160" cy="101160"/>
              <a:chOff x="2517120" y="3751200"/>
              <a:chExt cx="101160" cy="10116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2517480" y="3751200"/>
                <a:ext cx="98640" cy="9864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517120" y="375156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 rot="13509600">
              <a:off x="2105280" y="3796200"/>
              <a:ext cx="473040" cy="109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2694000">
              <a:off x="3160080" y="3641040"/>
              <a:ext cx="39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V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2904840" y="3663000"/>
              <a:ext cx="486000" cy="486000"/>
              <a:chOff x="2904840" y="3663000"/>
              <a:chExt cx="486000" cy="486000"/>
            </a:xfrm>
          </p:grpSpPr>
          <p:sp>
            <p:nvSpPr>
              <p:cNvPr id="1880" name=""/>
              <p:cNvSpPr/>
              <p:nvPr/>
            </p:nvSpPr>
            <p:spPr>
              <a:xfrm rot="13494000">
                <a:off x="2976120" y="373392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3147840" y="3663000"/>
                <a:ext cx="0" cy="486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 flipH="1">
              <a:off x="2903040" y="3905280"/>
              <a:ext cx="49464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rot="2694000">
              <a:off x="2110320" y="3512880"/>
              <a:ext cx="43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E/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4" name=""/>
            <p:cNvGrpSpPr/>
            <p:nvPr/>
          </p:nvGrpSpPr>
          <p:grpSpPr>
            <a:xfrm>
              <a:off x="5691600" y="773280"/>
              <a:ext cx="2733120" cy="1249560"/>
              <a:chOff x="5691600" y="773280"/>
              <a:chExt cx="2733120" cy="1249560"/>
            </a:xfrm>
          </p:grpSpPr>
          <p:sp>
            <p:nvSpPr>
              <p:cNvPr id="1885" name=""/>
              <p:cNvSpPr/>
              <p:nvPr/>
            </p:nvSpPr>
            <p:spPr>
              <a:xfrm>
                <a:off x="5751360" y="817560"/>
                <a:ext cx="2673360" cy="5619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751360" y="1419120"/>
                <a:ext cx="2673360" cy="561960"/>
              </a:xfrm>
              <a:prstGeom prst="rect">
                <a:avLst/>
              </a:prstGeom>
              <a:solidFill>
                <a:srgbClr val="ff99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736960" y="773280"/>
                <a:ext cx="932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ffffff"/>
                    </a:solidFill>
                    <a:latin typeface="Times New Roman"/>
                  </a:rPr>
                  <a:t>Umschal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706360" y="1746360"/>
                <a:ext cx="121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ffffff"/>
                    </a:solidFill>
                    <a:latin typeface="Times New Roman"/>
                  </a:rPr>
                  <a:t>Ostseite Bw O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9" name=""/>
              <p:cNvGrpSpPr/>
              <p:nvPr/>
            </p:nvGrpSpPr>
            <p:grpSpPr>
              <a:xfrm>
                <a:off x="5845320" y="1224000"/>
                <a:ext cx="352440" cy="349200"/>
                <a:chOff x="5845320" y="1224000"/>
                <a:chExt cx="352440" cy="349200"/>
              </a:xfrm>
            </p:grpSpPr>
            <p:grpSp>
              <p:nvGrpSpPr>
                <p:cNvPr id="1890" name=""/>
                <p:cNvGrpSpPr/>
                <p:nvPr/>
              </p:nvGrpSpPr>
              <p:grpSpPr>
                <a:xfrm>
                  <a:off x="5849640" y="1224000"/>
                  <a:ext cx="344520" cy="343080"/>
                  <a:chOff x="5849640" y="1224000"/>
                  <a:chExt cx="344520" cy="34308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 rot="5400000">
                    <a:off x="5850360" y="12232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 flipH="1">
                    <a:off x="5849640" y="1224000"/>
                    <a:ext cx="344520" cy="343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3" name=""/>
                <p:cNvSpPr/>
                <p:nvPr/>
              </p:nvSpPr>
              <p:spPr>
                <a:xfrm>
                  <a:off x="5845320" y="1225800"/>
                  <a:ext cx="352440" cy="3474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6564240" y="1224000"/>
                <a:ext cx="352440" cy="349200"/>
                <a:chOff x="6564240" y="1224000"/>
                <a:chExt cx="352440" cy="349200"/>
              </a:xfrm>
            </p:grpSpPr>
            <p:grpSp>
              <p:nvGrpSpPr>
                <p:cNvPr id="1895" name=""/>
                <p:cNvGrpSpPr/>
                <p:nvPr/>
              </p:nvGrpSpPr>
              <p:grpSpPr>
                <a:xfrm>
                  <a:off x="6568560" y="1224000"/>
                  <a:ext cx="344520" cy="343080"/>
                  <a:chOff x="6568560" y="1224000"/>
                  <a:chExt cx="344520" cy="34308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 rot="5400000">
                    <a:off x="6569280" y="12232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flipH="1">
                    <a:off x="6568560" y="1224000"/>
                    <a:ext cx="344520" cy="34308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8" name=""/>
                <p:cNvSpPr/>
                <p:nvPr/>
              </p:nvSpPr>
              <p:spPr>
                <a:xfrm>
                  <a:off x="6564240" y="1225800"/>
                  <a:ext cx="352440" cy="3474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9" name=""/>
              <p:cNvGrpSpPr/>
              <p:nvPr/>
            </p:nvGrpSpPr>
            <p:grpSpPr>
              <a:xfrm>
                <a:off x="7280280" y="1224000"/>
                <a:ext cx="352440" cy="349200"/>
                <a:chOff x="7280280" y="1224000"/>
                <a:chExt cx="352440" cy="34920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7284600" y="1224000"/>
                  <a:ext cx="344520" cy="343080"/>
                  <a:chOff x="7284600" y="1224000"/>
                  <a:chExt cx="344520" cy="34308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 rot="5400000">
                    <a:off x="7285320" y="12232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H="1">
                    <a:off x="7284600" y="1224000"/>
                    <a:ext cx="344520" cy="343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3" name=""/>
                <p:cNvSpPr/>
                <p:nvPr/>
              </p:nvSpPr>
              <p:spPr>
                <a:xfrm>
                  <a:off x="7280280" y="1225800"/>
                  <a:ext cx="352440" cy="34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7997760" y="1224000"/>
                <a:ext cx="352440" cy="349200"/>
                <a:chOff x="7997760" y="1224000"/>
                <a:chExt cx="352440" cy="349200"/>
              </a:xfrm>
            </p:grpSpPr>
            <p:grpSp>
              <p:nvGrpSpPr>
                <p:cNvPr id="1905" name=""/>
                <p:cNvGrpSpPr/>
                <p:nvPr/>
              </p:nvGrpSpPr>
              <p:grpSpPr>
                <a:xfrm>
                  <a:off x="8002080" y="1224000"/>
                  <a:ext cx="344520" cy="343080"/>
                  <a:chOff x="8002080" y="1224000"/>
                  <a:chExt cx="344520" cy="343080"/>
                </a:xfrm>
              </p:grpSpPr>
              <p:sp>
                <p:nvSpPr>
                  <p:cNvPr id="1906" name=""/>
                  <p:cNvSpPr/>
                  <p:nvPr/>
                </p:nvSpPr>
                <p:spPr>
                  <a:xfrm rot="5400000">
                    <a:off x="8002800" y="12232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 flipH="1">
                    <a:off x="8002080" y="1224000"/>
                    <a:ext cx="344520" cy="34308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8" name=""/>
                <p:cNvSpPr/>
                <p:nvPr/>
              </p:nvSpPr>
              <p:spPr>
                <a:xfrm>
                  <a:off x="7997760" y="1225800"/>
                  <a:ext cx="352440" cy="34740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9" name=""/>
              <p:cNvSpPr/>
              <p:nvPr/>
            </p:nvSpPr>
            <p:spPr>
              <a:xfrm>
                <a:off x="6459480" y="1020600"/>
                <a:ext cx="56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Times New Roman"/>
                  </a:rPr>
                  <a:t>Weich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83800" y="1020600"/>
                <a:ext cx="545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Times New Roman"/>
                  </a:rPr>
                  <a:t>Lampe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34400" y="102384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Times New Roman"/>
                  </a:rPr>
                  <a:t>Hs 14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691600" y="1022400"/>
                <a:ext cx="653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Times New Roman"/>
                  </a:rPr>
                  <a:t>Fahrstro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3" name=""/>
          <p:cNvGrpSpPr/>
          <p:nvPr/>
        </p:nvGrpSpPr>
        <p:grpSpPr>
          <a:xfrm>
            <a:off x="2453040" y="4276080"/>
            <a:ext cx="1200960" cy="1157760"/>
            <a:chOff x="2453040" y="4276080"/>
            <a:chExt cx="1200960" cy="1157760"/>
          </a:xfrm>
        </p:grpSpPr>
        <p:sp>
          <p:nvSpPr>
            <p:cNvPr id="1914" name=""/>
            <p:cNvSpPr/>
            <p:nvPr/>
          </p:nvSpPr>
          <p:spPr>
            <a:xfrm>
              <a:off x="3438360" y="459756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ffffff"/>
            </a:solidFill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533680" y="439668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ffffff"/>
            </a:solidFill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6200000">
              <a:off x="2133720" y="4595400"/>
              <a:ext cx="94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Hann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6200000">
              <a:off x="3022920" y="480276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Krei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1190520" y="223920"/>
            <a:ext cx="10063440" cy="8627760"/>
            <a:chOff x="1190520" y="223920"/>
            <a:chExt cx="10063440" cy="8627760"/>
          </a:xfrm>
        </p:grpSpPr>
        <p:sp>
          <p:nvSpPr>
            <p:cNvPr id="1919" name=""/>
            <p:cNvSpPr/>
            <p:nvPr/>
          </p:nvSpPr>
          <p:spPr>
            <a:xfrm flipH="1">
              <a:off x="1687680" y="223920"/>
              <a:ext cx="2676240" cy="2676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43400" y="2836800"/>
              <a:ext cx="39909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1714680" y="304560"/>
              <a:ext cx="0" cy="72673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493040" y="266544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90520" y="2647800"/>
              <a:ext cx="347760" cy="345960"/>
              <a:chOff x="1190520" y="2647800"/>
              <a:chExt cx="347760" cy="34596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95200" y="26492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190520" y="26478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1197000" y="266040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"/>
            <p:cNvSpPr/>
            <p:nvPr/>
          </p:nvSpPr>
          <p:spPr>
            <a:xfrm>
              <a:off x="1553760" y="26092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 7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4243320" y="27468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2552760" y="199872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342680" y="1943280"/>
              <a:ext cx="4295880" cy="42955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485760" y="2838600"/>
              <a:ext cx="895320" cy="8953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7262280" y="3684600"/>
              <a:ext cx="34290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6862320" y="4522680"/>
              <a:ext cx="34290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152560" y="4505400"/>
              <a:ext cx="895320" cy="8953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8929800" y="5351400"/>
              <a:ext cx="23241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8516880" y="6189840"/>
              <a:ext cx="23241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2616120" y="5423040"/>
              <a:ext cx="0" cy="34192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521160" y="5432040"/>
              <a:ext cx="0" cy="3419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473960" y="351324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226040" y="18273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2108160" y="1622520"/>
              <a:ext cx="347760" cy="345960"/>
              <a:chOff x="2108160" y="1622520"/>
              <a:chExt cx="347760" cy="345960"/>
            </a:xfrm>
          </p:grpSpPr>
          <p:sp>
            <p:nvSpPr>
              <p:cNvPr id="1942" name=""/>
              <p:cNvSpPr/>
              <p:nvPr/>
            </p:nvSpPr>
            <p:spPr>
              <a:xfrm>
                <a:off x="2112840" y="162396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108160" y="162252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V="1">
                <a:off x="2114640" y="163512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4681440" y="2771640"/>
              <a:ext cx="347760" cy="345960"/>
              <a:chOff x="4681440" y="2771640"/>
              <a:chExt cx="347760" cy="345960"/>
            </a:xfrm>
          </p:grpSpPr>
          <p:sp>
            <p:nvSpPr>
              <p:cNvPr id="1946" name=""/>
              <p:cNvSpPr/>
              <p:nvPr/>
            </p:nvSpPr>
            <p:spPr>
              <a:xfrm>
                <a:off x="4686120" y="27730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81440" y="27716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4687920" y="278424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6427800" y="2325600"/>
              <a:ext cx="347760" cy="345960"/>
              <a:chOff x="6427800" y="2325600"/>
              <a:chExt cx="347760" cy="345960"/>
            </a:xfrm>
          </p:grpSpPr>
          <p:sp>
            <p:nvSpPr>
              <p:cNvPr id="1950" name=""/>
              <p:cNvSpPr/>
              <p:nvPr/>
            </p:nvSpPr>
            <p:spPr>
              <a:xfrm>
                <a:off x="6432480" y="23270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427800" y="23256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6434280" y="233820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6424560" y="4510080"/>
              <a:ext cx="347760" cy="345960"/>
              <a:chOff x="6424560" y="4510080"/>
              <a:chExt cx="347760" cy="345960"/>
            </a:xfrm>
          </p:grpSpPr>
          <p:sp>
            <p:nvSpPr>
              <p:cNvPr id="1954" name=""/>
              <p:cNvSpPr/>
              <p:nvPr/>
            </p:nvSpPr>
            <p:spPr>
              <a:xfrm>
                <a:off x="6429240" y="451152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424560" y="451008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6431040" y="452268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8066160" y="4014720"/>
              <a:ext cx="347760" cy="345960"/>
              <a:chOff x="8066160" y="4014720"/>
              <a:chExt cx="347760" cy="345960"/>
            </a:xfrm>
          </p:grpSpPr>
          <p:sp>
            <p:nvSpPr>
              <p:cNvPr id="1958" name=""/>
              <p:cNvSpPr/>
              <p:nvPr/>
            </p:nvSpPr>
            <p:spPr>
              <a:xfrm>
                <a:off x="8070840" y="401616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066160" y="401472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8072640" y="402732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2468160" y="18806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 7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043240" y="27122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445080" y="26870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87800" y="44013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196120" y="43761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6" name=""/>
            <p:cNvGrpSpPr/>
            <p:nvPr/>
          </p:nvGrpSpPr>
          <p:grpSpPr>
            <a:xfrm>
              <a:off x="8079840" y="2765520"/>
              <a:ext cx="142920" cy="139680"/>
              <a:chOff x="8079840" y="2765520"/>
              <a:chExt cx="142920" cy="139680"/>
            </a:xfrm>
          </p:grpSpPr>
          <p:sp>
            <p:nvSpPr>
              <p:cNvPr id="1967" name=""/>
              <p:cNvSpPr/>
              <p:nvPr/>
            </p:nvSpPr>
            <p:spPr>
              <a:xfrm>
                <a:off x="8146800" y="2765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8079840" y="2835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"/>
            <p:cNvGrpSpPr/>
            <p:nvPr/>
          </p:nvGrpSpPr>
          <p:grpSpPr>
            <a:xfrm>
              <a:off x="8079840" y="3622680"/>
              <a:ext cx="142920" cy="139680"/>
              <a:chOff x="8079840" y="3622680"/>
              <a:chExt cx="142920" cy="139680"/>
            </a:xfrm>
          </p:grpSpPr>
          <p:sp>
            <p:nvSpPr>
              <p:cNvPr id="1970" name=""/>
              <p:cNvSpPr/>
              <p:nvPr/>
            </p:nvSpPr>
            <p:spPr>
              <a:xfrm>
                <a:off x="8146800" y="36226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8079840" y="36925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"/>
          <p:cNvGrpSpPr/>
          <p:nvPr/>
        </p:nvGrpSpPr>
        <p:grpSpPr>
          <a:xfrm>
            <a:off x="-3637080" y="-2240280"/>
            <a:ext cx="12490920" cy="8662320"/>
            <a:chOff x="-3637080" y="-2240280"/>
            <a:chExt cx="12490920" cy="8662320"/>
          </a:xfrm>
        </p:grpSpPr>
        <p:sp>
          <p:nvSpPr>
            <p:cNvPr id="1973" name=""/>
            <p:cNvSpPr/>
            <p:nvPr/>
          </p:nvSpPr>
          <p:spPr>
            <a:xfrm flipH="1">
              <a:off x="-2179800" y="4540320"/>
              <a:ext cx="710424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0" y="29376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-4680" y="290160"/>
              <a:ext cx="3797280" cy="3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7318440" y="-2240280"/>
              <a:ext cx="0" cy="6800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5532480" y="798120"/>
              <a:ext cx="0" cy="12654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 flipV="1">
              <a:off x="4076280" y="-584640"/>
              <a:ext cx="1505160" cy="15051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4635360" y="1130400"/>
              <a:ext cx="0" cy="5810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 flipV="1">
              <a:off x="3673080" y="239760"/>
              <a:ext cx="1009800" cy="1009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-3637080" y="2854440"/>
              <a:ext cx="77248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-1322280" y="3701880"/>
              <a:ext cx="57909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-112680" y="5369040"/>
              <a:ext cx="54388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-506880" y="6207120"/>
              <a:ext cx="61722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635360" y="1712880"/>
              <a:ext cx="0" cy="5875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967200" y="2181240"/>
              <a:ext cx="719280" cy="7221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530680" y="2055960"/>
              <a:ext cx="0" cy="5810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347720" y="2514600"/>
              <a:ext cx="1233720" cy="12351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802040" y="2095560"/>
              <a:ext cx="2494080" cy="24922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209920" y="4181400"/>
              <a:ext cx="1238040" cy="12384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6397200" y="3048120"/>
              <a:ext cx="1800" cy="12571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5543280" y="4438800"/>
              <a:ext cx="1819080" cy="18190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27440" y="25488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5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4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27440" y="33998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4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5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94160" y="423468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3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35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94160" y="50634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2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35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99120" y="590148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1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4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 flipV="1">
              <a:off x="5084640" y="4062240"/>
              <a:ext cx="240840" cy="244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5723280" y="4659480"/>
              <a:ext cx="240480" cy="244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 flipV="1">
              <a:off x="6323760" y="5230440"/>
              <a:ext cx="240120" cy="244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62560" y="173196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361120" y="173196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953400" y="210096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7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5851440" y="2631600"/>
              <a:ext cx="349200" cy="352440"/>
              <a:chOff x="5851440" y="2631600"/>
              <a:chExt cx="349200" cy="352440"/>
            </a:xfrm>
          </p:grpSpPr>
          <p:grpSp>
            <p:nvGrpSpPr>
              <p:cNvPr id="2005" name=""/>
              <p:cNvGrpSpPr/>
              <p:nvPr/>
            </p:nvGrpSpPr>
            <p:grpSpPr>
              <a:xfrm>
                <a:off x="5851440" y="2635200"/>
                <a:ext cx="342720" cy="344520"/>
                <a:chOff x="5851440" y="2635200"/>
                <a:chExt cx="342720" cy="344520"/>
              </a:xfrm>
            </p:grpSpPr>
            <p:sp>
              <p:nvSpPr>
                <p:cNvPr id="2006" name=""/>
                <p:cNvSpPr/>
                <p:nvPr/>
              </p:nvSpPr>
              <p:spPr>
                <a:xfrm>
                  <a:off x="5851440" y="26352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851440" y="26352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8" name=""/>
              <p:cNvSpPr/>
              <p:nvPr/>
            </p:nvSpPr>
            <p:spPr>
              <a:xfrm flipV="1">
                <a:off x="5853240" y="263160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9" name=""/>
            <p:cNvSpPr/>
            <p:nvPr/>
          </p:nvSpPr>
          <p:spPr>
            <a:xfrm>
              <a:off x="6033960" y="29930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7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0" name=""/>
            <p:cNvGrpSpPr/>
            <p:nvPr/>
          </p:nvGrpSpPr>
          <p:grpSpPr>
            <a:xfrm>
              <a:off x="3591000" y="2679480"/>
              <a:ext cx="349200" cy="352440"/>
              <a:chOff x="3591000" y="2679480"/>
              <a:chExt cx="349200" cy="352440"/>
            </a:xfrm>
          </p:grpSpPr>
          <p:grpSp>
            <p:nvGrpSpPr>
              <p:cNvPr id="2011" name=""/>
              <p:cNvGrpSpPr/>
              <p:nvPr/>
            </p:nvGrpSpPr>
            <p:grpSpPr>
              <a:xfrm>
                <a:off x="3591000" y="2683080"/>
                <a:ext cx="342720" cy="344520"/>
                <a:chOff x="3591000" y="2683080"/>
                <a:chExt cx="342720" cy="34452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3591000" y="26830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3591000" y="26830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 flipV="1">
                <a:off x="3592800" y="2679480"/>
                <a:ext cx="34740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3578400" y="3526920"/>
              <a:ext cx="349200" cy="352440"/>
              <a:chOff x="3578400" y="3526920"/>
              <a:chExt cx="349200" cy="352440"/>
            </a:xfrm>
          </p:grpSpPr>
          <p:grpSp>
            <p:nvGrpSpPr>
              <p:cNvPr id="2016" name=""/>
              <p:cNvGrpSpPr/>
              <p:nvPr/>
            </p:nvGrpSpPr>
            <p:grpSpPr>
              <a:xfrm>
                <a:off x="3578400" y="3530520"/>
                <a:ext cx="342720" cy="344520"/>
                <a:chOff x="3578400" y="3530520"/>
                <a:chExt cx="342720" cy="34452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3578400" y="3530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3578400" y="3530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 flipV="1">
                <a:off x="3580200" y="3526920"/>
                <a:ext cx="34740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4222800" y="4368600"/>
              <a:ext cx="349200" cy="352440"/>
              <a:chOff x="4222800" y="4368600"/>
              <a:chExt cx="349200" cy="35244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4222800" y="4372200"/>
                <a:ext cx="342720" cy="344520"/>
                <a:chOff x="4222800" y="4372200"/>
                <a:chExt cx="342720" cy="34452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4222800" y="43722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222800" y="43722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"/>
              <p:cNvSpPr/>
              <p:nvPr/>
            </p:nvSpPr>
            <p:spPr>
              <a:xfrm flipV="1">
                <a:off x="4224600" y="4368600"/>
                <a:ext cx="34740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4222800" y="5194080"/>
              <a:ext cx="349200" cy="352440"/>
              <a:chOff x="4222800" y="5194080"/>
              <a:chExt cx="349200" cy="3524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4222800" y="5197680"/>
                <a:ext cx="342720" cy="344520"/>
                <a:chOff x="4222800" y="5197680"/>
                <a:chExt cx="342720" cy="344520"/>
              </a:xfrm>
            </p:grpSpPr>
            <p:sp>
              <p:nvSpPr>
                <p:cNvPr id="2027" name=""/>
                <p:cNvSpPr/>
                <p:nvPr/>
              </p:nvSpPr>
              <p:spPr>
                <a:xfrm>
                  <a:off x="4222800" y="51976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222800" y="51976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9" name=""/>
              <p:cNvSpPr/>
              <p:nvPr/>
            </p:nvSpPr>
            <p:spPr>
              <a:xfrm flipV="1">
                <a:off x="4224600" y="5194080"/>
                <a:ext cx="34740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4222800" y="6035400"/>
              <a:ext cx="349200" cy="352440"/>
              <a:chOff x="4222800" y="6035400"/>
              <a:chExt cx="349200" cy="352440"/>
            </a:xfrm>
          </p:grpSpPr>
          <p:grpSp>
            <p:nvGrpSpPr>
              <p:cNvPr id="2031" name=""/>
              <p:cNvGrpSpPr/>
              <p:nvPr/>
            </p:nvGrpSpPr>
            <p:grpSpPr>
              <a:xfrm>
                <a:off x="4222800" y="6039000"/>
                <a:ext cx="342720" cy="344520"/>
                <a:chOff x="4222800" y="6039000"/>
                <a:chExt cx="342720" cy="34452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4222800" y="60390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222800" y="60390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4" name=""/>
              <p:cNvSpPr/>
              <p:nvPr/>
            </p:nvSpPr>
            <p:spPr>
              <a:xfrm flipV="1">
                <a:off x="4224600" y="6035400"/>
                <a:ext cx="34740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7639560" y="5140440"/>
              <a:ext cx="307080" cy="945720"/>
              <a:chOff x="7639560" y="5140440"/>
              <a:chExt cx="307080" cy="945720"/>
            </a:xfrm>
          </p:grpSpPr>
          <p:sp>
            <p:nvSpPr>
              <p:cNvPr id="2036" name=""/>
              <p:cNvSpPr/>
              <p:nvPr/>
            </p:nvSpPr>
            <p:spPr>
              <a:xfrm flipV="1">
                <a:off x="7750080" y="5312520"/>
                <a:ext cx="162000" cy="671400"/>
              </a:xfrm>
              <a:prstGeom prst="upArrow">
                <a:avLst>
                  <a:gd name="adj1" fmla="val 50000"/>
                  <a:gd name="adj2" fmla="val 103611"/>
                </a:avLst>
              </a:prstGeom>
              <a:solidFill>
                <a:srgbClr val="ffffff"/>
              </a:solidFill>
              <a:ln w="343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 rot="5400000">
                <a:off x="7320240" y="5459400"/>
                <a:ext cx="9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Götting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8546760" y="5428080"/>
              <a:ext cx="307080" cy="955080"/>
              <a:chOff x="8546760" y="5428080"/>
              <a:chExt cx="307080" cy="955080"/>
            </a:xfrm>
          </p:grpSpPr>
          <p:sp>
            <p:nvSpPr>
              <p:cNvPr id="2039" name=""/>
              <p:cNvSpPr/>
              <p:nvPr/>
            </p:nvSpPr>
            <p:spPr>
              <a:xfrm>
                <a:off x="8656560" y="5538600"/>
                <a:ext cx="162000" cy="671760"/>
              </a:xfrm>
              <a:prstGeom prst="upArrow">
                <a:avLst>
                  <a:gd name="adj1" fmla="val 50000"/>
                  <a:gd name="adj2" fmla="val 103667"/>
                </a:avLst>
              </a:prstGeom>
              <a:solidFill>
                <a:srgbClr val="ffffff"/>
              </a:solidFill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 rot="5400000">
                <a:off x="8222760" y="575172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Kreiens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1" name=""/>
            <p:cNvGrpSpPr/>
            <p:nvPr/>
          </p:nvGrpSpPr>
          <p:grpSpPr>
            <a:xfrm>
              <a:off x="2479320" y="2784600"/>
              <a:ext cx="142920" cy="139680"/>
              <a:chOff x="2479320" y="2784600"/>
              <a:chExt cx="142920" cy="139680"/>
            </a:xfrm>
          </p:grpSpPr>
          <p:sp>
            <p:nvSpPr>
              <p:cNvPr id="2042" name=""/>
              <p:cNvSpPr/>
              <p:nvPr/>
            </p:nvSpPr>
            <p:spPr>
              <a:xfrm>
                <a:off x="2546280" y="27846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H="1">
                <a:off x="2479320" y="28544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4" name=""/>
            <p:cNvGrpSpPr/>
            <p:nvPr/>
          </p:nvGrpSpPr>
          <p:grpSpPr>
            <a:xfrm>
              <a:off x="5457600" y="3778200"/>
              <a:ext cx="142920" cy="139680"/>
              <a:chOff x="5457600" y="3778200"/>
              <a:chExt cx="142920" cy="139680"/>
            </a:xfrm>
          </p:grpSpPr>
          <p:sp>
            <p:nvSpPr>
              <p:cNvPr id="2045" name=""/>
              <p:cNvSpPr/>
              <p:nvPr/>
            </p:nvSpPr>
            <p:spPr>
              <a:xfrm>
                <a:off x="5524560" y="3778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5457600" y="3848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6097320" y="4390920"/>
              <a:ext cx="142920" cy="139680"/>
              <a:chOff x="6097320" y="4390920"/>
              <a:chExt cx="142920" cy="139680"/>
            </a:xfrm>
          </p:grpSpPr>
          <p:sp>
            <p:nvSpPr>
              <p:cNvPr id="2048" name=""/>
              <p:cNvSpPr/>
              <p:nvPr/>
            </p:nvSpPr>
            <p:spPr>
              <a:xfrm>
                <a:off x="6164280" y="4390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6097320" y="4460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6710040" y="4957920"/>
              <a:ext cx="142920" cy="139680"/>
              <a:chOff x="6710040" y="4957920"/>
              <a:chExt cx="142920" cy="139680"/>
            </a:xfrm>
          </p:grpSpPr>
          <p:sp>
            <p:nvSpPr>
              <p:cNvPr id="2051" name=""/>
              <p:cNvSpPr/>
              <p:nvPr/>
            </p:nvSpPr>
            <p:spPr>
              <a:xfrm>
                <a:off x="6777000" y="4957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6710040" y="5027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3" name=""/>
            <p:cNvGrpSpPr/>
            <p:nvPr/>
          </p:nvGrpSpPr>
          <p:grpSpPr>
            <a:xfrm>
              <a:off x="2479320" y="3648240"/>
              <a:ext cx="142920" cy="139680"/>
              <a:chOff x="2479320" y="3648240"/>
              <a:chExt cx="142920" cy="139680"/>
            </a:xfrm>
          </p:grpSpPr>
          <p:sp>
            <p:nvSpPr>
              <p:cNvPr id="2054" name=""/>
              <p:cNvSpPr/>
              <p:nvPr/>
            </p:nvSpPr>
            <p:spPr>
              <a:xfrm>
                <a:off x="2546280" y="36482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2479320" y="37180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3049200" y="4478400"/>
              <a:ext cx="142920" cy="139680"/>
              <a:chOff x="3049200" y="4478400"/>
              <a:chExt cx="142920" cy="139680"/>
            </a:xfrm>
          </p:grpSpPr>
          <p:sp>
            <p:nvSpPr>
              <p:cNvPr id="2057" name=""/>
              <p:cNvSpPr/>
              <p:nvPr/>
            </p:nvSpPr>
            <p:spPr>
              <a:xfrm>
                <a:off x="3116160" y="44784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3049200" y="45482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3049200" y="5311800"/>
              <a:ext cx="142920" cy="139680"/>
              <a:chOff x="3049200" y="5311800"/>
              <a:chExt cx="142920" cy="139680"/>
            </a:xfrm>
          </p:grpSpPr>
          <p:sp>
            <p:nvSpPr>
              <p:cNvPr id="2060" name=""/>
              <p:cNvSpPr/>
              <p:nvPr/>
            </p:nvSpPr>
            <p:spPr>
              <a:xfrm>
                <a:off x="3116160" y="53118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>
                <a:off x="3049200" y="53816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"/>
            <p:cNvGrpSpPr/>
            <p:nvPr/>
          </p:nvGrpSpPr>
          <p:grpSpPr>
            <a:xfrm>
              <a:off x="3047760" y="6156360"/>
              <a:ext cx="142920" cy="139680"/>
              <a:chOff x="3047760" y="6156360"/>
              <a:chExt cx="142920" cy="139680"/>
            </a:xfrm>
          </p:grpSpPr>
          <p:sp>
            <p:nvSpPr>
              <p:cNvPr id="2063" name=""/>
              <p:cNvSpPr/>
              <p:nvPr/>
            </p:nvSpPr>
            <p:spPr>
              <a:xfrm>
                <a:off x="3114720" y="61563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>
                <a:off x="3047760" y="622620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193320" y="6146640"/>
              <a:ext cx="142920" cy="139680"/>
              <a:chOff x="193320" y="6146640"/>
              <a:chExt cx="142920" cy="139680"/>
            </a:xfrm>
          </p:grpSpPr>
          <p:sp>
            <p:nvSpPr>
              <p:cNvPr id="2066" name=""/>
              <p:cNvSpPr/>
              <p:nvPr/>
            </p:nvSpPr>
            <p:spPr>
              <a:xfrm>
                <a:off x="260280" y="6146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>
                <a:off x="193320" y="6216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192240" y="5302080"/>
              <a:ext cx="142560" cy="139680"/>
              <a:chOff x="192240" y="5302080"/>
              <a:chExt cx="142560" cy="139680"/>
            </a:xfrm>
          </p:grpSpPr>
          <p:sp>
            <p:nvSpPr>
              <p:cNvPr id="2069" name=""/>
              <p:cNvSpPr/>
              <p:nvPr/>
            </p:nvSpPr>
            <p:spPr>
              <a:xfrm>
                <a:off x="258480" y="53020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>
                <a:off x="192240" y="537192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192240" y="4473720"/>
              <a:ext cx="142560" cy="139680"/>
              <a:chOff x="192240" y="4473720"/>
              <a:chExt cx="142560" cy="139680"/>
            </a:xfrm>
          </p:grpSpPr>
          <p:sp>
            <p:nvSpPr>
              <p:cNvPr id="2072" name=""/>
              <p:cNvSpPr/>
              <p:nvPr/>
            </p:nvSpPr>
            <p:spPr>
              <a:xfrm>
                <a:off x="258480" y="44737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>
                <a:off x="192240" y="454356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6743880" y="1739520"/>
              <a:ext cx="349200" cy="352440"/>
              <a:chOff x="6743880" y="1739520"/>
              <a:chExt cx="349200" cy="352440"/>
            </a:xfrm>
          </p:grpSpPr>
          <p:grpSp>
            <p:nvGrpSpPr>
              <p:cNvPr id="2075" name=""/>
              <p:cNvGrpSpPr/>
              <p:nvPr/>
            </p:nvGrpSpPr>
            <p:grpSpPr>
              <a:xfrm>
                <a:off x="6743880" y="1743120"/>
                <a:ext cx="342720" cy="344520"/>
                <a:chOff x="6743880" y="1743120"/>
                <a:chExt cx="342720" cy="34452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743880" y="17431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6743880" y="17431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"/>
              <p:cNvSpPr/>
              <p:nvPr/>
            </p:nvSpPr>
            <p:spPr>
              <a:xfrm flipV="1">
                <a:off x="6745680" y="173952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0800000">
            <a:off x="1063800" y="2755440"/>
            <a:ext cx="266400" cy="2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1076400" y="2766960"/>
            <a:ext cx="241200" cy="230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01680" y="2757240"/>
            <a:ext cx="0" cy="253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9920" y="2881440"/>
            <a:ext cx="744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92320" y="2801520"/>
            <a:ext cx="0" cy="157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7560" y="26733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Hs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120400" y="2698920"/>
            <a:ext cx="343080" cy="344160"/>
            <a:chOff x="2120400" y="2698920"/>
            <a:chExt cx="343080" cy="344160"/>
          </a:xfrm>
        </p:grpSpPr>
        <p:sp>
          <p:nvSpPr>
            <p:cNvPr id="157" name=""/>
            <p:cNvSpPr/>
            <p:nvPr/>
          </p:nvSpPr>
          <p:spPr>
            <a:xfrm rot="10800000">
              <a:off x="2120400" y="2698920"/>
              <a:ext cx="343080" cy="3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2120400" y="2698920"/>
              <a:ext cx="343080" cy="3441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>
            <a:off x="2116080" y="2694960"/>
            <a:ext cx="347760" cy="3524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873080" y="2678040"/>
            <a:ext cx="0" cy="13968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7840" y="2749680"/>
            <a:ext cx="142920" cy="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152280" y="1841400"/>
            <a:ext cx="10007640" cy="5004000"/>
            <a:chOff x="-152280" y="1841400"/>
            <a:chExt cx="10007640" cy="5004000"/>
          </a:xfrm>
        </p:grpSpPr>
        <p:sp>
          <p:nvSpPr>
            <p:cNvPr id="163" name=""/>
            <p:cNvSpPr/>
            <p:nvPr/>
          </p:nvSpPr>
          <p:spPr>
            <a:xfrm>
              <a:off x="-152280" y="6006960"/>
              <a:ext cx="10007640" cy="83844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95600" y="5433840"/>
              <a:ext cx="0" cy="13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1440" y="3230640"/>
              <a:ext cx="959472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-57240" y="2397600"/>
              <a:ext cx="9242640" cy="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-128520" y="5734080"/>
              <a:ext cx="9499680" cy="1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-130320" y="4062240"/>
              <a:ext cx="959328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87480" y="4892400"/>
              <a:ext cx="9390240" cy="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1063800" y="1924200"/>
              <a:ext cx="266400" cy="25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076400" y="1935000"/>
              <a:ext cx="241200" cy="23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201680" y="1925640"/>
              <a:ext cx="0" cy="25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9920" y="204948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92320" y="1969560"/>
              <a:ext cx="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67560" y="184140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116080" y="1863000"/>
              <a:ext cx="347760" cy="352440"/>
              <a:chOff x="2116080" y="1863000"/>
              <a:chExt cx="347760" cy="3524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120400" y="1866960"/>
                <a:ext cx="343080" cy="344160"/>
                <a:chOff x="2120400" y="1866960"/>
                <a:chExt cx="343080" cy="344160"/>
              </a:xfrm>
            </p:grpSpPr>
            <p:sp>
              <p:nvSpPr>
                <p:cNvPr id="178" name=""/>
                <p:cNvSpPr/>
                <p:nvPr/>
              </p:nvSpPr>
              <p:spPr>
                <a:xfrm rot="10800000">
                  <a:off x="2120400" y="186696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2120400" y="1866960"/>
                  <a:ext cx="34308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H="1">
                <a:off x="2116080" y="186300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98560" y="1847880"/>
              <a:ext cx="142920" cy="139680"/>
              <a:chOff x="1798560" y="1847880"/>
              <a:chExt cx="142920" cy="13968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1874160" y="18478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98560" y="191772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43000" y="5084280"/>
              <a:ext cx="1839600" cy="468000"/>
              <a:chOff x="243000" y="5084280"/>
              <a:chExt cx="1839600" cy="46800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260280" y="550224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0800000">
                <a:off x="273240" y="522396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243000" y="5084280"/>
                <a:ext cx="171360" cy="163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58320" y="529416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E 1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1739880" y="5203440"/>
                <a:ext cx="342720" cy="344520"/>
                <a:chOff x="1739880" y="5203440"/>
                <a:chExt cx="342720" cy="344520"/>
              </a:xfrm>
            </p:grpSpPr>
            <p:sp>
              <p:nvSpPr>
                <p:cNvPr id="190" name=""/>
                <p:cNvSpPr/>
                <p:nvPr/>
              </p:nvSpPr>
              <p:spPr>
                <a:xfrm rot="10800000">
                  <a:off x="1739880" y="52034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1739880" y="52034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 flipH="1">
                <a:off x="1731960" y="519984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427400" y="52228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50360" y="529272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43000" y="3413160"/>
              <a:ext cx="1839600" cy="467640"/>
              <a:chOff x="243000" y="3413160"/>
              <a:chExt cx="1839600" cy="467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259920" y="383076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272880" y="355248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0800000">
                <a:off x="243000" y="341316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547560" y="370836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61200" y="361944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E 1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739880" y="3531960"/>
                <a:ext cx="342720" cy="344520"/>
                <a:chOff x="1739880" y="3531960"/>
                <a:chExt cx="342720" cy="344520"/>
              </a:xfrm>
            </p:grpSpPr>
            <p:sp>
              <p:nvSpPr>
                <p:cNvPr id="202" name=""/>
                <p:cNvSpPr/>
                <p:nvPr/>
              </p:nvSpPr>
              <p:spPr>
                <a:xfrm rot="10800000">
                  <a:off x="1739880" y="35319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1739880" y="35319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H="1">
                <a:off x="1731960" y="352836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1427040" y="355140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50360" y="362124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735200" y="4358520"/>
              <a:ext cx="347760" cy="352440"/>
              <a:chOff x="1735200" y="4358520"/>
              <a:chExt cx="347760" cy="3524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739880" y="4362120"/>
                <a:ext cx="342720" cy="344520"/>
                <a:chOff x="1739880" y="4362120"/>
                <a:chExt cx="342720" cy="344520"/>
              </a:xfrm>
            </p:grpSpPr>
            <p:sp>
              <p:nvSpPr>
                <p:cNvPr id="209" name=""/>
                <p:cNvSpPr/>
                <p:nvPr/>
              </p:nvSpPr>
              <p:spPr>
                <a:xfrm rot="10800000">
                  <a:off x="1739880" y="43621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1739880" y="43621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 flipH="1">
                <a:off x="1735200" y="435852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43000" y="4243320"/>
              <a:ext cx="1455120" cy="452520"/>
              <a:chOff x="243000" y="4243320"/>
              <a:chExt cx="1455120" cy="452520"/>
            </a:xfrm>
          </p:grpSpPr>
          <p:sp>
            <p:nvSpPr>
              <p:cNvPr id="213" name=""/>
              <p:cNvSpPr/>
              <p:nvPr/>
            </p:nvSpPr>
            <p:spPr>
              <a:xfrm flipH="1">
                <a:off x="259920" y="466092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2880" y="438264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43000" y="424332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0800000">
                <a:off x="547560" y="4538160"/>
                <a:ext cx="473040" cy="109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64440" y="444960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E 1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427040" y="438156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50360" y="445140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301480" y="5184720"/>
              <a:ext cx="1400400" cy="367560"/>
              <a:chOff x="2301480" y="5184720"/>
              <a:chExt cx="1400400" cy="36756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2301480" y="5184720"/>
                <a:ext cx="1029240" cy="339480"/>
                <a:chOff x="2301480" y="5184720"/>
                <a:chExt cx="1029240" cy="339480"/>
              </a:xfrm>
            </p:grpSpPr>
            <p:sp>
              <p:nvSpPr>
                <p:cNvPr id="222" name=""/>
                <p:cNvSpPr/>
                <p:nvPr/>
              </p:nvSpPr>
              <p:spPr>
                <a:xfrm rot="10800000">
                  <a:off x="2301480" y="5266800"/>
                  <a:ext cx="266760" cy="2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0800000">
                  <a:off x="2314800" y="5278320"/>
                  <a:ext cx="241200" cy="23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2440080" y="5268600"/>
                  <a:ext cx="0" cy="253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78320" y="5392800"/>
                  <a:ext cx="744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330720" y="5312880"/>
                  <a:ext cx="0" cy="157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505960" y="51847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354120" y="5199840"/>
                <a:ext cx="347760" cy="352440"/>
                <a:chOff x="3354120" y="5199840"/>
                <a:chExt cx="347760" cy="35244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3359160" y="5203800"/>
                  <a:ext cx="342720" cy="344160"/>
                  <a:chOff x="3359160" y="5203800"/>
                  <a:chExt cx="342720" cy="3441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10800000">
                    <a:off x="3359160" y="520380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flipV="1">
                    <a:off x="3359160" y="520380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H="1">
                  <a:off x="3354120" y="519984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036960" y="5194440"/>
                <a:ext cx="142920" cy="139680"/>
                <a:chOff x="3036960" y="5194440"/>
                <a:chExt cx="142920" cy="13968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3112560" y="519444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36960" y="526428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2301480" y="4336920"/>
              <a:ext cx="1400400" cy="374040"/>
              <a:chOff x="2301480" y="4336920"/>
              <a:chExt cx="1400400" cy="37404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2301480" y="4336920"/>
                <a:ext cx="1029240" cy="339840"/>
                <a:chOff x="2301480" y="4336920"/>
                <a:chExt cx="1029240" cy="339840"/>
              </a:xfrm>
            </p:grpSpPr>
            <p:sp>
              <p:nvSpPr>
                <p:cNvPr id="238" name=""/>
                <p:cNvSpPr/>
                <p:nvPr/>
              </p:nvSpPr>
              <p:spPr>
                <a:xfrm rot="10800000">
                  <a:off x="2301480" y="4419720"/>
                  <a:ext cx="266760" cy="257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0800000">
                  <a:off x="2314080" y="4430520"/>
                  <a:ext cx="24156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2440080" y="4421160"/>
                  <a:ext cx="0" cy="254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77240" y="4545000"/>
                  <a:ext cx="7448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3330720" y="4465800"/>
                  <a:ext cx="0" cy="15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505960" y="43369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354120" y="4358520"/>
                <a:ext cx="347760" cy="352440"/>
                <a:chOff x="3354120" y="4358520"/>
                <a:chExt cx="347760" cy="35244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3359160" y="4362480"/>
                  <a:ext cx="342720" cy="344160"/>
                  <a:chOff x="3359160" y="4362480"/>
                  <a:chExt cx="342720" cy="3441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10800000">
                    <a:off x="3359160" y="436248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 flipV="1">
                    <a:off x="3359160" y="436248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 flipH="1">
                  <a:off x="3354120" y="435852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036960" y="4346640"/>
                <a:ext cx="142920" cy="139680"/>
                <a:chOff x="3036960" y="4346640"/>
                <a:chExt cx="142920" cy="139680"/>
              </a:xfrm>
            </p:grpSpPr>
            <p:sp>
              <p:nvSpPr>
                <p:cNvPr id="250" name=""/>
                <p:cNvSpPr/>
                <p:nvPr/>
              </p:nvSpPr>
              <p:spPr>
                <a:xfrm flipV="1">
                  <a:off x="3112560" y="434664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036960" y="441648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2301480" y="3505320"/>
              <a:ext cx="1400400" cy="373680"/>
              <a:chOff x="2301480" y="3505320"/>
              <a:chExt cx="1400400" cy="373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2301480" y="3505320"/>
                <a:ext cx="1029240" cy="339480"/>
                <a:chOff x="2301480" y="3505320"/>
                <a:chExt cx="1029240" cy="339480"/>
              </a:xfrm>
            </p:grpSpPr>
            <p:sp>
              <p:nvSpPr>
                <p:cNvPr id="254" name=""/>
                <p:cNvSpPr/>
                <p:nvPr/>
              </p:nvSpPr>
              <p:spPr>
                <a:xfrm rot="10800000">
                  <a:off x="2301480" y="3587760"/>
                  <a:ext cx="266760" cy="257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0800000">
                  <a:off x="2314080" y="3598560"/>
                  <a:ext cx="24156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2440080" y="3589200"/>
                  <a:ext cx="0" cy="254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577240" y="3713040"/>
                  <a:ext cx="7448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3330720" y="3633840"/>
                  <a:ext cx="0" cy="15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505960" y="35053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354120" y="3526560"/>
                <a:ext cx="347760" cy="352440"/>
                <a:chOff x="3354120" y="3526560"/>
                <a:chExt cx="347760" cy="3524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3359160" y="3530520"/>
                  <a:ext cx="342720" cy="344160"/>
                  <a:chOff x="3359160" y="3530520"/>
                  <a:chExt cx="342720" cy="34416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10800000">
                    <a:off x="3359160" y="353052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3359160" y="353052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 flipH="1">
                  <a:off x="3354120" y="352656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036960" y="3514680"/>
                <a:ext cx="142920" cy="139680"/>
                <a:chOff x="3036960" y="3514680"/>
                <a:chExt cx="142920" cy="13968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3112560" y="35146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36960" y="358452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1697040" y="4592520"/>
              <a:ext cx="0" cy="13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8480" y="3762360"/>
              <a:ext cx="0" cy="13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5840" y="305928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5840" y="22255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9" name=""/>
          <p:cNvGrpSpPr/>
          <p:nvPr/>
        </p:nvGrpSpPr>
        <p:grpSpPr>
          <a:xfrm>
            <a:off x="1381680" y="-2791080"/>
            <a:ext cx="11031120" cy="9661680"/>
            <a:chOff x="1381680" y="-2791080"/>
            <a:chExt cx="11031120" cy="9661680"/>
          </a:xfrm>
        </p:grpSpPr>
        <p:sp>
          <p:nvSpPr>
            <p:cNvPr id="2080" name=""/>
            <p:cNvSpPr/>
            <p:nvPr/>
          </p:nvSpPr>
          <p:spPr>
            <a:xfrm flipH="1">
              <a:off x="6175080" y="-703440"/>
              <a:ext cx="912600" cy="29131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6165720" y="372960"/>
              <a:ext cx="1244880" cy="18496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6184440" y="257040"/>
              <a:ext cx="2716200" cy="1946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184800" y="938160"/>
              <a:ext cx="3362400" cy="1271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7389720" y="-1000440"/>
              <a:ext cx="1400400" cy="14000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572000" y="609480"/>
              <a:ext cx="3247920" cy="31910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95880" y="2133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8879040" y="-2791080"/>
              <a:ext cx="3065400" cy="3066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9480600" y="-1949760"/>
              <a:ext cx="2930400" cy="2927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8907200">
              <a:off x="7728480" y="-4150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0" name=""/>
            <p:cNvGrpSpPr/>
            <p:nvPr/>
          </p:nvGrpSpPr>
          <p:grpSpPr>
            <a:xfrm>
              <a:off x="10823400" y="-711360"/>
              <a:ext cx="342720" cy="344160"/>
              <a:chOff x="10823400" y="-711360"/>
              <a:chExt cx="342720" cy="344160"/>
            </a:xfrm>
          </p:grpSpPr>
          <p:sp>
            <p:nvSpPr>
              <p:cNvPr id="2091" name=""/>
              <p:cNvSpPr/>
              <p:nvPr/>
            </p:nvSpPr>
            <p:spPr>
              <a:xfrm>
                <a:off x="10823400" y="-7113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0823400" y="-7113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 flipV="1">
              <a:off x="10825200" y="-71460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034640" y="360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9967680" y="430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9415440" y="-333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9348120" y="-26316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8907200">
              <a:off x="9929160" y="-11232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62320" y="-1620720"/>
              <a:ext cx="0" cy="34844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546200" y="-2006640"/>
              <a:ext cx="0" cy="3484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2545920" y="-375840"/>
              <a:ext cx="344160" cy="342720"/>
              <a:chOff x="2545920" y="-375840"/>
              <a:chExt cx="344160" cy="342720"/>
            </a:xfrm>
          </p:grpSpPr>
          <p:sp>
            <p:nvSpPr>
              <p:cNvPr id="2102" name=""/>
              <p:cNvSpPr/>
              <p:nvPr/>
            </p:nvSpPr>
            <p:spPr>
              <a:xfrm rot="16200600">
                <a:off x="2546640" y="-3762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2545920" y="-375840"/>
                <a:ext cx="344160" cy="3427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flipH="1" flipV="1">
              <a:off x="2540160" y="-377640"/>
              <a:ext cx="352440" cy="3477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 flipV="1">
              <a:off x="2189160" y="-88200"/>
              <a:ext cx="344520" cy="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16200600">
              <a:off x="2578320" y="-1602000"/>
              <a:ext cx="432000" cy="4302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93960" y="-1174680"/>
              <a:ext cx="0" cy="74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714760" y="-422280"/>
              <a:ext cx="156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918880" y="-688680"/>
              <a:ext cx="14004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989440" y="-758880"/>
              <a:ext cx="0" cy="1429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rot="16216200">
              <a:off x="2558160" y="-86580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 rot="16199400">
              <a:off x="2683440" y="-1098000"/>
              <a:ext cx="50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J/R/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 flipV="1">
              <a:off x="4391280" y="484200"/>
              <a:ext cx="669600" cy="665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 flipV="1">
              <a:off x="3984840" y="1021680"/>
              <a:ext cx="817200" cy="461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 flipV="1">
              <a:off x="3767760" y="1611360"/>
              <a:ext cx="908640" cy="234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3403440" y="2218680"/>
              <a:ext cx="1185480" cy="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3516120" y="2610360"/>
              <a:ext cx="1140480" cy="3150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3776400" y="3011040"/>
              <a:ext cx="1020240" cy="599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4185360" y="3331800"/>
              <a:ext cx="841680" cy="843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4778280" y="3583440"/>
              <a:ext cx="583560" cy="1029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464080" y="3735360"/>
              <a:ext cx="297720" cy="11448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763400" y="2607120"/>
              <a:ext cx="1145160" cy="2973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619040" y="2991240"/>
              <a:ext cx="1028880" cy="5835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340400" y="3332160"/>
              <a:ext cx="837000" cy="8352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027560" y="3584160"/>
              <a:ext cx="599040" cy="1019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07800" y="3743280"/>
              <a:ext cx="314640" cy="11401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84080" y="3787560"/>
              <a:ext cx="1080" cy="11829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6184800" y="950760"/>
              <a:ext cx="3362400" cy="1271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572000" y="622440"/>
              <a:ext cx="3247920" cy="31906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095880" y="2146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9480600" y="-1936800"/>
              <a:ext cx="2930400" cy="2927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10823400" y="-698400"/>
              <a:ext cx="342720" cy="344160"/>
              <a:chOff x="10823400" y="-698400"/>
              <a:chExt cx="342720" cy="344160"/>
            </a:xfrm>
          </p:grpSpPr>
          <p:sp>
            <p:nvSpPr>
              <p:cNvPr id="2133" name=""/>
              <p:cNvSpPr/>
              <p:nvPr/>
            </p:nvSpPr>
            <p:spPr>
              <a:xfrm>
                <a:off x="10823400" y="-6984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10823400" y="-6984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5" name=""/>
            <p:cNvSpPr/>
            <p:nvPr/>
          </p:nvSpPr>
          <p:spPr>
            <a:xfrm flipV="1">
              <a:off x="10825200" y="-70200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0034640" y="3729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9967680" y="4428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9415440" y="-3207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9348120" y="-25056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18907200">
              <a:off x="9929160" y="-9936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9147240" y="655560"/>
              <a:ext cx="0" cy="621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86240" y="938160"/>
              <a:ext cx="3362040" cy="1271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573440" y="609480"/>
              <a:ext cx="3248280" cy="31910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97680" y="21337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9482040" y="-1949760"/>
              <a:ext cx="2930760" cy="2927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10825200" y="-711360"/>
              <a:ext cx="342720" cy="344160"/>
              <a:chOff x="10825200" y="-711360"/>
              <a:chExt cx="342720" cy="344160"/>
            </a:xfrm>
          </p:grpSpPr>
          <p:sp>
            <p:nvSpPr>
              <p:cNvPr id="2147" name=""/>
              <p:cNvSpPr/>
              <p:nvPr/>
            </p:nvSpPr>
            <p:spPr>
              <a:xfrm>
                <a:off x="10825200" y="-7113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0825200" y="-7113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 flipV="1">
              <a:off x="10826640" y="-71460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0036080" y="360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969120" y="430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9416880" y="-333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9349560" y="-26316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18907200">
              <a:off x="9930960" y="-11232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362320" y="1863720"/>
              <a:ext cx="0" cy="2676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1544760" y="1476360"/>
              <a:ext cx="1440" cy="305928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2547720" y="-375840"/>
              <a:ext cx="344160" cy="342720"/>
              <a:chOff x="2547720" y="-375840"/>
              <a:chExt cx="344160" cy="342720"/>
            </a:xfrm>
          </p:grpSpPr>
          <p:sp>
            <p:nvSpPr>
              <p:cNvPr id="2158" name=""/>
              <p:cNvSpPr/>
              <p:nvPr/>
            </p:nvSpPr>
            <p:spPr>
              <a:xfrm rot="16200600">
                <a:off x="2548440" y="-3762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2547720" y="-375840"/>
                <a:ext cx="344160" cy="3427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0" name=""/>
            <p:cNvSpPr/>
            <p:nvPr/>
          </p:nvSpPr>
          <p:spPr>
            <a:xfrm flipH="1" flipV="1">
              <a:off x="2541600" y="-377640"/>
              <a:ext cx="352440" cy="3477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2190600" y="-88200"/>
              <a:ext cx="344520" cy="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rot="16200600">
              <a:off x="2579760" y="-1602000"/>
              <a:ext cx="432000" cy="4302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795760" y="-1174680"/>
              <a:ext cx="0" cy="74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715840" y="-421920"/>
              <a:ext cx="15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21040" y="-689040"/>
              <a:ext cx="13968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90880" y="-758880"/>
              <a:ext cx="0" cy="1429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rot="16216200">
              <a:off x="2559960" y="-86580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 rot="16199400">
              <a:off x="2684880" y="-1097640"/>
              <a:ext cx="50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J/R/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1381680" y="4703400"/>
              <a:ext cx="307080" cy="694440"/>
              <a:chOff x="1381680" y="4703400"/>
              <a:chExt cx="307080" cy="694440"/>
            </a:xfrm>
          </p:grpSpPr>
          <p:sp>
            <p:nvSpPr>
              <p:cNvPr id="2170" name=""/>
              <p:cNvSpPr/>
              <p:nvPr/>
            </p:nvSpPr>
            <p:spPr>
              <a:xfrm flipV="1">
                <a:off x="1463760" y="4703040"/>
                <a:ext cx="162000" cy="671400"/>
              </a:xfrm>
              <a:prstGeom prst="upArrow">
                <a:avLst>
                  <a:gd name="adj1" fmla="val 50000"/>
                  <a:gd name="adj2" fmla="val 103611"/>
                </a:avLst>
              </a:prstGeom>
              <a:solidFill>
                <a:srgbClr val="ffffff"/>
              </a:solidFill>
              <a:ln w="34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6200000">
                <a:off x="1191960" y="4901040"/>
                <a:ext cx="68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Times New Roman"/>
                  </a:rPr>
                  <a:t>Sees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2197440" y="4813200"/>
              <a:ext cx="307080" cy="955080"/>
              <a:chOff x="2197440" y="4813200"/>
              <a:chExt cx="307080" cy="955080"/>
            </a:xfrm>
          </p:grpSpPr>
          <p:sp>
            <p:nvSpPr>
              <p:cNvPr id="2173" name=""/>
              <p:cNvSpPr/>
              <p:nvPr/>
            </p:nvSpPr>
            <p:spPr>
              <a:xfrm>
                <a:off x="2289240" y="4932360"/>
                <a:ext cx="161640" cy="671760"/>
              </a:xfrm>
              <a:prstGeom prst="upArrow">
                <a:avLst>
                  <a:gd name="adj1" fmla="val 50000"/>
                  <a:gd name="adj2" fmla="val 103898"/>
                </a:avLst>
              </a:prstGeom>
              <a:solidFill>
                <a:srgbClr val="ff0000"/>
              </a:solidFill>
              <a:ln w="343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6200000">
                <a:off x="1873440" y="513720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ffff"/>
                    </a:solidFill>
                    <a:latin typeface="Times New Roman"/>
                  </a:rPr>
                  <a:t>Kreiens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5" name=""/>
            <p:cNvSpPr/>
            <p:nvPr/>
          </p:nvSpPr>
          <p:spPr>
            <a:xfrm>
              <a:off x="7557840" y="240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402320" y="2766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178400" y="3076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841800" y="3322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456240" y="3486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045120" y="3533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41560" y="3479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59240" y="3321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64040" y="3067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714200" y="27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549320" y="241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493880" y="2058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538160" y="1685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677840" y="1332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916160" y="1009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0" name=""/>
          <p:cNvGrpSpPr/>
          <p:nvPr/>
        </p:nvGrpSpPr>
        <p:grpSpPr>
          <a:xfrm>
            <a:off x="-3000600" y="-2791080"/>
            <a:ext cx="13641480" cy="11592360"/>
            <a:chOff x="-3000600" y="-2791080"/>
            <a:chExt cx="13641480" cy="11592360"/>
          </a:xfrm>
        </p:grpSpPr>
        <p:sp>
          <p:nvSpPr>
            <p:cNvPr id="2191" name=""/>
            <p:cNvSpPr/>
            <p:nvPr/>
          </p:nvSpPr>
          <p:spPr>
            <a:xfrm flipV="1">
              <a:off x="5427720" y="6527520"/>
              <a:ext cx="711000" cy="282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5270400" y="6219360"/>
              <a:ext cx="711360" cy="282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-3000600" y="938160"/>
              <a:ext cx="3362040" cy="1271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-306360" y="-2791080"/>
              <a:ext cx="3065400" cy="3066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295200" y="-1949760"/>
              <a:ext cx="2930760" cy="2927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rot="18907200">
              <a:off x="3929760" y="233748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49240" y="360360"/>
              <a:ext cx="0" cy="13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782280" y="430200"/>
              <a:ext cx="142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rot="18907200">
              <a:off x="744120" y="-112320"/>
              <a:ext cx="102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Gleis 134 Nor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1114560" y="-101520"/>
              <a:ext cx="8005680" cy="7997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1457280" y="728640"/>
              <a:ext cx="8047080" cy="8072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rot="18904200">
              <a:off x="2322360" y="830160"/>
              <a:ext cx="8250480" cy="10699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2478240" y="-2791080"/>
              <a:ext cx="2842920" cy="2841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rot="18897600">
              <a:off x="4625280" y="3096000"/>
              <a:ext cx="6127560" cy="8715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481640" y="2356920"/>
              <a:ext cx="5381640" cy="5381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6932520" y="3200400"/>
              <a:ext cx="3324240" cy="3322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7051680" y="4033440"/>
              <a:ext cx="3589200" cy="3591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728880" y="6516000"/>
              <a:ext cx="441972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 flipV="1">
              <a:off x="2703600" y="1477440"/>
              <a:ext cx="1440" cy="48294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689200" y="402840"/>
              <a:ext cx="3589200" cy="35910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2722680" y="976320"/>
              <a:ext cx="1761840" cy="17604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1895400" y="7389360"/>
              <a:ext cx="347760" cy="352440"/>
              <a:chOff x="1895400" y="7389360"/>
              <a:chExt cx="347760" cy="352440"/>
            </a:xfrm>
          </p:grpSpPr>
          <p:grpSp>
            <p:nvGrpSpPr>
              <p:cNvPr id="2213" name=""/>
              <p:cNvGrpSpPr/>
              <p:nvPr/>
            </p:nvGrpSpPr>
            <p:grpSpPr>
              <a:xfrm>
                <a:off x="1898640" y="7392960"/>
                <a:ext cx="342720" cy="344520"/>
                <a:chOff x="1898640" y="7392960"/>
                <a:chExt cx="342720" cy="344520"/>
              </a:xfrm>
            </p:grpSpPr>
            <p:sp>
              <p:nvSpPr>
                <p:cNvPr id="2214" name=""/>
                <p:cNvSpPr/>
                <p:nvPr/>
              </p:nvSpPr>
              <p:spPr>
                <a:xfrm flipH="1">
                  <a:off x="1898640" y="73929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>
                  <a:off x="1898640" y="73929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6" name=""/>
              <p:cNvSpPr/>
              <p:nvPr/>
            </p:nvSpPr>
            <p:spPr>
              <a:xfrm flipH="1" flipV="1">
                <a:off x="1895400" y="73893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1468080" y="7416720"/>
              <a:ext cx="142920" cy="139680"/>
              <a:chOff x="1468080" y="7416720"/>
              <a:chExt cx="142920" cy="139680"/>
            </a:xfrm>
          </p:grpSpPr>
          <p:sp>
            <p:nvSpPr>
              <p:cNvPr id="2218" name=""/>
              <p:cNvSpPr/>
              <p:nvPr/>
            </p:nvSpPr>
            <p:spPr>
              <a:xfrm>
                <a:off x="1535040" y="74167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H="1">
                <a:off x="1468080" y="74865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2197080" y="5890680"/>
              <a:ext cx="347760" cy="352440"/>
              <a:chOff x="2197080" y="5890680"/>
              <a:chExt cx="347760" cy="352440"/>
            </a:xfrm>
          </p:grpSpPr>
          <p:grpSp>
            <p:nvGrpSpPr>
              <p:cNvPr id="2221" name=""/>
              <p:cNvGrpSpPr/>
              <p:nvPr/>
            </p:nvGrpSpPr>
            <p:grpSpPr>
              <a:xfrm>
                <a:off x="2198520" y="5896080"/>
                <a:ext cx="342720" cy="344160"/>
                <a:chOff x="2198520" y="5896080"/>
                <a:chExt cx="342720" cy="34416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2198520" y="58960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2198520" y="58960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"/>
              <p:cNvSpPr/>
              <p:nvPr/>
            </p:nvSpPr>
            <p:spPr>
              <a:xfrm flipV="1">
                <a:off x="2197080" y="58906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 flipH="1">
              <a:off x="2557080" y="59922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2208240" y="3536640"/>
              <a:ext cx="347760" cy="352440"/>
              <a:chOff x="2208240" y="3536640"/>
              <a:chExt cx="347760" cy="352440"/>
            </a:xfrm>
          </p:grpSpPr>
          <p:grpSp>
            <p:nvGrpSpPr>
              <p:cNvPr id="2227" name=""/>
              <p:cNvGrpSpPr/>
              <p:nvPr/>
            </p:nvGrpSpPr>
            <p:grpSpPr>
              <a:xfrm>
                <a:off x="2211480" y="3540240"/>
                <a:ext cx="342720" cy="344520"/>
                <a:chOff x="2211480" y="3540240"/>
                <a:chExt cx="342720" cy="344520"/>
              </a:xfrm>
            </p:grpSpPr>
            <p:sp>
              <p:nvSpPr>
                <p:cNvPr id="2228" name=""/>
                <p:cNvSpPr/>
                <p:nvPr/>
              </p:nvSpPr>
              <p:spPr>
                <a:xfrm flipH="1">
                  <a:off x="2211480" y="35402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>
                  <a:off x="2211480" y="35402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0" name=""/>
              <p:cNvSpPr/>
              <p:nvPr/>
            </p:nvSpPr>
            <p:spPr>
              <a:xfrm flipH="1" flipV="1">
                <a:off x="2208240" y="35366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1" name=""/>
            <p:cNvSpPr/>
            <p:nvPr/>
          </p:nvSpPr>
          <p:spPr>
            <a:xfrm flipH="1">
              <a:off x="2568240" y="36554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2567160" y="2428200"/>
              <a:ext cx="439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HW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3" name=""/>
            <p:cNvGrpSpPr/>
            <p:nvPr/>
          </p:nvGrpSpPr>
          <p:grpSpPr>
            <a:xfrm>
              <a:off x="3095280" y="5781600"/>
              <a:ext cx="142920" cy="139680"/>
              <a:chOff x="3095280" y="5781600"/>
              <a:chExt cx="142920" cy="139680"/>
            </a:xfrm>
          </p:grpSpPr>
          <p:sp>
            <p:nvSpPr>
              <p:cNvPr id="2234" name=""/>
              <p:cNvSpPr/>
              <p:nvPr/>
            </p:nvSpPr>
            <p:spPr>
              <a:xfrm>
                <a:off x="3162240" y="5781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3095280" y="5851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3111120" y="3421080"/>
              <a:ext cx="142920" cy="139680"/>
              <a:chOff x="3111120" y="3421080"/>
              <a:chExt cx="142920" cy="139680"/>
            </a:xfrm>
          </p:grpSpPr>
          <p:sp>
            <p:nvSpPr>
              <p:cNvPr id="2237" name=""/>
              <p:cNvSpPr/>
              <p:nvPr/>
            </p:nvSpPr>
            <p:spPr>
              <a:xfrm>
                <a:off x="3178080" y="34210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>
                <a:off x="3111120" y="3490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2638080" y="3230640"/>
              <a:ext cx="142920" cy="139680"/>
              <a:chOff x="2638080" y="3230640"/>
              <a:chExt cx="142920" cy="139680"/>
            </a:xfrm>
          </p:grpSpPr>
          <p:sp>
            <p:nvSpPr>
              <p:cNvPr id="2240" name=""/>
              <p:cNvSpPr/>
              <p:nvPr/>
            </p:nvSpPr>
            <p:spPr>
              <a:xfrm>
                <a:off x="2705040" y="3230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H="1">
                <a:off x="2638080" y="3300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2641320" y="5396040"/>
              <a:ext cx="142920" cy="139680"/>
              <a:chOff x="2641320" y="5396040"/>
              <a:chExt cx="142920" cy="139680"/>
            </a:xfrm>
          </p:grpSpPr>
          <p:sp>
            <p:nvSpPr>
              <p:cNvPr id="2243" name=""/>
              <p:cNvSpPr/>
              <p:nvPr/>
            </p:nvSpPr>
            <p:spPr>
              <a:xfrm>
                <a:off x="2708280" y="53960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>
                <a:off x="2641320" y="546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2757960" y="1779840"/>
              <a:ext cx="1629720" cy="1495800"/>
              <a:chOff x="2757960" y="1779840"/>
              <a:chExt cx="1629720" cy="1495800"/>
            </a:xfrm>
          </p:grpSpPr>
          <p:sp>
            <p:nvSpPr>
              <p:cNvPr id="2246" name=""/>
              <p:cNvSpPr/>
              <p:nvPr/>
            </p:nvSpPr>
            <p:spPr>
              <a:xfrm flipH="1">
                <a:off x="3063240" y="226116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8109600">
                <a:off x="2963520" y="2989080"/>
                <a:ext cx="107640" cy="290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8109600">
                <a:off x="2790360" y="2905920"/>
                <a:ext cx="171360" cy="163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8109600">
                <a:off x="3150720" y="2802960"/>
                <a:ext cx="473040" cy="1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18909600">
                <a:off x="3418920" y="24519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K 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1" name=""/>
              <p:cNvGrpSpPr/>
              <p:nvPr/>
            </p:nvGrpSpPr>
            <p:grpSpPr>
              <a:xfrm>
                <a:off x="3901680" y="1787760"/>
                <a:ext cx="486000" cy="485640"/>
                <a:chOff x="3901680" y="1787760"/>
                <a:chExt cx="486000" cy="485640"/>
              </a:xfrm>
            </p:grpSpPr>
            <p:sp>
              <p:nvSpPr>
                <p:cNvPr id="2252" name=""/>
                <p:cNvSpPr/>
                <p:nvPr/>
              </p:nvSpPr>
              <p:spPr>
                <a:xfrm rot="8109600">
                  <a:off x="3973320" y="18583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flipV="1">
                  <a:off x="3901680" y="2029680"/>
                  <a:ext cx="486000" cy="2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4" name=""/>
              <p:cNvSpPr/>
              <p:nvPr/>
            </p:nvSpPr>
            <p:spPr>
              <a:xfrm>
                <a:off x="4144320" y="1779840"/>
                <a:ext cx="1800" cy="4946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3693960" y="2253240"/>
                <a:ext cx="98280" cy="990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3688560" y="225756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036680" y="2218680"/>
                <a:ext cx="9180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4695840" y="6094080"/>
              <a:ext cx="347760" cy="352440"/>
              <a:chOff x="4695840" y="6094080"/>
              <a:chExt cx="347760" cy="35244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4699080" y="6097680"/>
                <a:ext cx="342720" cy="344520"/>
                <a:chOff x="4699080" y="6097680"/>
                <a:chExt cx="342720" cy="344520"/>
              </a:xfrm>
            </p:grpSpPr>
            <p:sp>
              <p:nvSpPr>
                <p:cNvPr id="2260" name=""/>
                <p:cNvSpPr/>
                <p:nvPr/>
              </p:nvSpPr>
              <p:spPr>
                <a:xfrm flipH="1">
                  <a:off x="4699080" y="60976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>
                  <a:off x="4699080" y="60976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2" name=""/>
              <p:cNvSpPr/>
              <p:nvPr/>
            </p:nvSpPr>
            <p:spPr>
              <a:xfrm flipH="1" flipV="1">
                <a:off x="4695840" y="60940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3" name=""/>
            <p:cNvSpPr/>
            <p:nvPr/>
          </p:nvSpPr>
          <p:spPr>
            <a:xfrm flipH="1">
              <a:off x="3665160" y="64555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4850280" y="6457320"/>
              <a:ext cx="7218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DKW 80 c/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5771160" y="6352560"/>
              <a:ext cx="72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DKW 80 a/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6" name=""/>
            <p:cNvGrpSpPr/>
            <p:nvPr/>
          </p:nvGrpSpPr>
          <p:grpSpPr>
            <a:xfrm>
              <a:off x="6459480" y="5990760"/>
              <a:ext cx="347760" cy="352440"/>
              <a:chOff x="6459480" y="5990760"/>
              <a:chExt cx="347760" cy="352440"/>
            </a:xfrm>
          </p:grpSpPr>
          <p:grpSp>
            <p:nvGrpSpPr>
              <p:cNvPr id="2267" name=""/>
              <p:cNvGrpSpPr/>
              <p:nvPr/>
            </p:nvGrpSpPr>
            <p:grpSpPr>
              <a:xfrm>
                <a:off x="6462720" y="5994360"/>
                <a:ext cx="342720" cy="344520"/>
                <a:chOff x="6462720" y="5994360"/>
                <a:chExt cx="342720" cy="344520"/>
              </a:xfrm>
            </p:grpSpPr>
            <p:sp>
              <p:nvSpPr>
                <p:cNvPr id="2268" name=""/>
                <p:cNvSpPr/>
                <p:nvPr/>
              </p:nvSpPr>
              <p:spPr>
                <a:xfrm flipH="1">
                  <a:off x="6462720" y="59943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6462720" y="59943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0" name=""/>
              <p:cNvSpPr/>
              <p:nvPr/>
            </p:nvSpPr>
            <p:spPr>
              <a:xfrm flipH="1" flipV="1">
                <a:off x="6459480" y="59907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7677000" y="6051240"/>
              <a:ext cx="347760" cy="352440"/>
              <a:chOff x="7677000" y="6051240"/>
              <a:chExt cx="347760" cy="352440"/>
            </a:xfrm>
          </p:grpSpPr>
          <p:grpSp>
            <p:nvGrpSpPr>
              <p:cNvPr id="2272" name=""/>
              <p:cNvGrpSpPr/>
              <p:nvPr/>
            </p:nvGrpSpPr>
            <p:grpSpPr>
              <a:xfrm>
                <a:off x="7680240" y="6054840"/>
                <a:ext cx="342720" cy="344520"/>
                <a:chOff x="7680240" y="6054840"/>
                <a:chExt cx="342720" cy="344520"/>
              </a:xfrm>
            </p:grpSpPr>
            <p:sp>
              <p:nvSpPr>
                <p:cNvPr id="2273" name=""/>
                <p:cNvSpPr/>
                <p:nvPr/>
              </p:nvSpPr>
              <p:spPr>
                <a:xfrm flipH="1">
                  <a:off x="7680240" y="60548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7680240" y="60548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5" name=""/>
              <p:cNvSpPr/>
              <p:nvPr/>
            </p:nvSpPr>
            <p:spPr>
              <a:xfrm flipH="1" flipV="1">
                <a:off x="7677000" y="60512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6" name=""/>
            <p:cNvSpPr/>
            <p:nvPr/>
          </p:nvSpPr>
          <p:spPr>
            <a:xfrm flipH="1">
              <a:off x="6975360" y="64126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7824600" y="64126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070520" y="6442200"/>
              <a:ext cx="622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269120" y="6399360"/>
              <a:ext cx="426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0" name=""/>
            <p:cNvGrpSpPr/>
            <p:nvPr/>
          </p:nvGrpSpPr>
          <p:grpSpPr>
            <a:xfrm>
              <a:off x="4281840" y="696240"/>
              <a:ext cx="1197360" cy="1217520"/>
              <a:chOff x="4281840" y="696240"/>
              <a:chExt cx="1197360" cy="1217520"/>
            </a:xfrm>
          </p:grpSpPr>
          <p:sp>
            <p:nvSpPr>
              <p:cNvPr id="2281" name=""/>
              <p:cNvSpPr/>
              <p:nvPr/>
            </p:nvSpPr>
            <p:spPr>
              <a:xfrm rot="8099400">
                <a:off x="4333680" y="1599840"/>
                <a:ext cx="266760" cy="25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8099400">
                <a:off x="4346640" y="1612080"/>
                <a:ext cx="241200" cy="229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>
                <a:off x="4380480" y="1635840"/>
                <a:ext cx="179280" cy="179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4565880" y="1098000"/>
                <a:ext cx="526320" cy="52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 flipV="1">
                <a:off x="5043960" y="1038240"/>
                <a:ext cx="110520" cy="110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8899400">
                <a:off x="4404240" y="127836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4993200" y="696600"/>
                <a:ext cx="486000" cy="485640"/>
                <a:chOff x="4993200" y="696600"/>
                <a:chExt cx="486000" cy="485640"/>
              </a:xfrm>
            </p:grpSpPr>
            <p:sp>
              <p:nvSpPr>
                <p:cNvPr id="2288" name=""/>
                <p:cNvSpPr/>
                <p:nvPr/>
              </p:nvSpPr>
              <p:spPr>
                <a:xfrm rot="8099400">
                  <a:off x="5064840" y="7671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 flipV="1">
                  <a:off x="4993200" y="939240"/>
                  <a:ext cx="486000" cy="7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0" name=""/>
              <p:cNvSpPr/>
              <p:nvPr/>
            </p:nvSpPr>
            <p:spPr>
              <a:xfrm>
                <a:off x="5232240" y="696240"/>
                <a:ext cx="2880" cy="4946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>
                <a:off x="4790520" y="1107720"/>
                <a:ext cx="101160" cy="1011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flipV="1">
                <a:off x="4791240" y="1106640"/>
                <a:ext cx="10080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3" name=""/>
            <p:cNvGrpSpPr/>
            <p:nvPr/>
          </p:nvGrpSpPr>
          <p:grpSpPr>
            <a:xfrm>
              <a:off x="6698160" y="3377520"/>
              <a:ext cx="1629720" cy="1496880"/>
              <a:chOff x="6698160" y="3377520"/>
              <a:chExt cx="1629720" cy="1496880"/>
            </a:xfrm>
          </p:grpSpPr>
          <p:sp>
            <p:nvSpPr>
              <p:cNvPr id="2294" name=""/>
              <p:cNvSpPr/>
              <p:nvPr/>
            </p:nvSpPr>
            <p:spPr>
              <a:xfrm flipH="1">
                <a:off x="7003440" y="385992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8109600">
                <a:off x="6903360" y="4587480"/>
                <a:ext cx="10764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8109600">
                <a:off x="6730920" y="450504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8109600">
                <a:off x="7090920" y="440208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8909600">
                <a:off x="7390800" y="405072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K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7841880" y="3386160"/>
                <a:ext cx="486000" cy="486000"/>
                <a:chOff x="7841880" y="3386160"/>
                <a:chExt cx="486000" cy="486000"/>
              </a:xfrm>
            </p:grpSpPr>
            <p:sp>
              <p:nvSpPr>
                <p:cNvPr id="2300" name=""/>
                <p:cNvSpPr/>
                <p:nvPr/>
              </p:nvSpPr>
              <p:spPr>
                <a:xfrm rot="8109600">
                  <a:off x="7913520" y="34567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 flipV="1">
                  <a:off x="7841880" y="362808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2" name=""/>
              <p:cNvSpPr/>
              <p:nvPr/>
            </p:nvSpPr>
            <p:spPr>
              <a:xfrm>
                <a:off x="8084520" y="3377520"/>
                <a:ext cx="2160" cy="495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flipV="1">
                <a:off x="7634160" y="3852360"/>
                <a:ext cx="98640" cy="993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7628760" y="385632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 flipV="1">
                <a:off x="7976880" y="3817800"/>
                <a:ext cx="9216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6698160" y="4612680"/>
              <a:ext cx="1629720" cy="1496880"/>
              <a:chOff x="6698160" y="4612680"/>
              <a:chExt cx="1629720" cy="1496880"/>
            </a:xfrm>
          </p:grpSpPr>
          <p:sp>
            <p:nvSpPr>
              <p:cNvPr id="2307" name=""/>
              <p:cNvSpPr/>
              <p:nvPr/>
            </p:nvSpPr>
            <p:spPr>
              <a:xfrm flipH="1">
                <a:off x="7003440" y="509508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8109600">
                <a:off x="6903360" y="5822640"/>
                <a:ext cx="10764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8109600">
                <a:off x="6730920" y="574020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8109600">
                <a:off x="7090920" y="563724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8909600">
                <a:off x="7390800" y="528588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K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2" name=""/>
              <p:cNvGrpSpPr/>
              <p:nvPr/>
            </p:nvGrpSpPr>
            <p:grpSpPr>
              <a:xfrm>
                <a:off x="7841880" y="4621320"/>
                <a:ext cx="486000" cy="486000"/>
                <a:chOff x="7841880" y="4621320"/>
                <a:chExt cx="486000" cy="486000"/>
              </a:xfrm>
            </p:grpSpPr>
            <p:sp>
              <p:nvSpPr>
                <p:cNvPr id="2313" name=""/>
                <p:cNvSpPr/>
                <p:nvPr/>
              </p:nvSpPr>
              <p:spPr>
                <a:xfrm rot="8109600">
                  <a:off x="7913520" y="46918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flipH="1" flipV="1">
                  <a:off x="7841880" y="486324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5" name=""/>
              <p:cNvSpPr/>
              <p:nvPr/>
            </p:nvSpPr>
            <p:spPr>
              <a:xfrm>
                <a:off x="8084520" y="4612680"/>
                <a:ext cx="2160" cy="495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7634160" y="5087520"/>
                <a:ext cx="98640" cy="993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7628760" y="509148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flipV="1">
                <a:off x="7976880" y="5052960"/>
                <a:ext cx="9216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3750120" y="4350600"/>
              <a:ext cx="1629720" cy="1496880"/>
              <a:chOff x="3750120" y="4350600"/>
              <a:chExt cx="1629720" cy="1496880"/>
            </a:xfrm>
          </p:grpSpPr>
          <p:sp>
            <p:nvSpPr>
              <p:cNvPr id="2320" name=""/>
              <p:cNvSpPr/>
              <p:nvPr/>
            </p:nvSpPr>
            <p:spPr>
              <a:xfrm flipH="1">
                <a:off x="4055400" y="483300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8109600">
                <a:off x="3955320" y="5560560"/>
                <a:ext cx="10764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8109600">
                <a:off x="3782880" y="547812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8109600">
                <a:off x="4142880" y="537516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8909600">
                <a:off x="4442760" y="502380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K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5" name=""/>
              <p:cNvGrpSpPr/>
              <p:nvPr/>
            </p:nvGrpSpPr>
            <p:grpSpPr>
              <a:xfrm>
                <a:off x="4893840" y="4359240"/>
                <a:ext cx="486000" cy="486000"/>
                <a:chOff x="4893840" y="4359240"/>
                <a:chExt cx="486000" cy="486000"/>
              </a:xfrm>
            </p:grpSpPr>
            <p:sp>
              <p:nvSpPr>
                <p:cNvPr id="2326" name=""/>
                <p:cNvSpPr/>
                <p:nvPr/>
              </p:nvSpPr>
              <p:spPr>
                <a:xfrm rot="8109600">
                  <a:off x="4965480" y="44298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 flipV="1">
                  <a:off x="4893840" y="460116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"/>
              <p:cNvSpPr/>
              <p:nvPr/>
            </p:nvSpPr>
            <p:spPr>
              <a:xfrm>
                <a:off x="5136480" y="4350600"/>
                <a:ext cx="2160" cy="495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flipV="1">
                <a:off x="4686120" y="4825440"/>
                <a:ext cx="98640" cy="993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4680720" y="482940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flipV="1">
                <a:off x="5028840" y="4790880"/>
                <a:ext cx="9216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3417120" y="4239720"/>
              <a:ext cx="1019880" cy="1014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rot="8109600">
              <a:off x="3317760" y="4966920"/>
              <a:ext cx="108000" cy="290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rot="8109600">
              <a:off x="3144960" y="4884480"/>
              <a:ext cx="171360" cy="16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rot="18909600">
              <a:off x="3804840" y="4430520"/>
              <a:ext cx="37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K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6" name=""/>
            <p:cNvGrpSpPr/>
            <p:nvPr/>
          </p:nvGrpSpPr>
          <p:grpSpPr>
            <a:xfrm>
              <a:off x="4255920" y="3765600"/>
              <a:ext cx="486000" cy="486000"/>
              <a:chOff x="4255920" y="3765600"/>
              <a:chExt cx="486000" cy="486000"/>
            </a:xfrm>
          </p:grpSpPr>
          <p:sp>
            <p:nvSpPr>
              <p:cNvPr id="2337" name=""/>
              <p:cNvSpPr/>
              <p:nvPr/>
            </p:nvSpPr>
            <p:spPr>
              <a:xfrm rot="8109600">
                <a:off x="4327560" y="383616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flipV="1">
                <a:off x="4255920" y="4007520"/>
                <a:ext cx="486000" cy="2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4498920" y="3756960"/>
              <a:ext cx="1800" cy="49500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flipV="1">
              <a:off x="4047840" y="4231800"/>
              <a:ext cx="98640" cy="9936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4042800" y="4235760"/>
              <a:ext cx="101160" cy="10080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 flipV="1">
              <a:off x="4390920" y="4197240"/>
              <a:ext cx="9216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4036680" y="2523960"/>
              <a:ext cx="142920" cy="139680"/>
              <a:chOff x="4036680" y="2523960"/>
              <a:chExt cx="142920" cy="139680"/>
            </a:xfrm>
          </p:grpSpPr>
          <p:sp>
            <p:nvSpPr>
              <p:cNvPr id="2344" name=""/>
              <p:cNvSpPr/>
              <p:nvPr/>
            </p:nvSpPr>
            <p:spPr>
              <a:xfrm>
                <a:off x="4103640" y="252396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>
                <a:off x="4036680" y="259380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6" name=""/>
            <p:cNvSpPr/>
            <p:nvPr/>
          </p:nvSpPr>
          <p:spPr>
            <a:xfrm rot="18907200">
              <a:off x="4026240" y="1908360"/>
              <a:ext cx="108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31</a:t>
              </a: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4779720" y="1405800"/>
              <a:ext cx="486000" cy="495000"/>
              <a:chOff x="4779720" y="1405800"/>
              <a:chExt cx="486000" cy="49500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4779720" y="1413000"/>
                <a:ext cx="486000" cy="486000"/>
                <a:chOff x="4779720" y="1413000"/>
                <a:chExt cx="486000" cy="486000"/>
              </a:xfrm>
            </p:grpSpPr>
            <p:sp>
              <p:nvSpPr>
                <p:cNvPr id="2349" name=""/>
                <p:cNvSpPr/>
                <p:nvPr/>
              </p:nvSpPr>
              <p:spPr>
                <a:xfrm rot="8109600">
                  <a:off x="4851360" y="14835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H="1" flipV="1">
                  <a:off x="4779720" y="165492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1" name=""/>
              <p:cNvSpPr/>
              <p:nvPr/>
            </p:nvSpPr>
            <p:spPr>
              <a:xfrm>
                <a:off x="5022360" y="1405800"/>
                <a:ext cx="2160" cy="495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3992040" y="975600"/>
              <a:ext cx="486000" cy="495000"/>
              <a:chOff x="3992040" y="975600"/>
              <a:chExt cx="486000" cy="495000"/>
            </a:xfrm>
          </p:grpSpPr>
          <p:grpSp>
            <p:nvGrpSpPr>
              <p:cNvPr id="2353" name=""/>
              <p:cNvGrpSpPr/>
              <p:nvPr/>
            </p:nvGrpSpPr>
            <p:grpSpPr>
              <a:xfrm>
                <a:off x="3992040" y="982800"/>
                <a:ext cx="486000" cy="486000"/>
                <a:chOff x="3992040" y="982800"/>
                <a:chExt cx="486000" cy="486000"/>
              </a:xfrm>
            </p:grpSpPr>
            <p:sp>
              <p:nvSpPr>
                <p:cNvPr id="2354" name=""/>
                <p:cNvSpPr/>
                <p:nvPr/>
              </p:nvSpPr>
              <p:spPr>
                <a:xfrm rot="8109600">
                  <a:off x="4063680" y="10533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 flipV="1">
                  <a:off x="3992040" y="122472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6" name=""/>
              <p:cNvSpPr/>
              <p:nvPr/>
            </p:nvSpPr>
            <p:spPr>
              <a:xfrm>
                <a:off x="4234680" y="975600"/>
                <a:ext cx="2160" cy="495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3195360" y="2141640"/>
              <a:ext cx="142920" cy="139680"/>
              <a:chOff x="3195360" y="2141640"/>
              <a:chExt cx="142920" cy="139680"/>
            </a:xfrm>
          </p:grpSpPr>
          <p:sp>
            <p:nvSpPr>
              <p:cNvPr id="2358" name=""/>
              <p:cNvSpPr/>
              <p:nvPr/>
            </p:nvSpPr>
            <p:spPr>
              <a:xfrm>
                <a:off x="3262320" y="21416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3195360" y="221148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 rot="18907200">
              <a:off x="3129840" y="1576800"/>
              <a:ext cx="108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32</a:t>
              </a: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33640" y="610848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352640" y="586728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290640" y="5689440"/>
              <a:ext cx="236160" cy="23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226760" y="578448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309120" y="547200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6" name=""/>
            <p:cNvGrpSpPr/>
            <p:nvPr/>
          </p:nvGrpSpPr>
          <p:grpSpPr>
            <a:xfrm>
              <a:off x="4113360" y="6006960"/>
              <a:ext cx="142560" cy="139680"/>
              <a:chOff x="4113360" y="6006960"/>
              <a:chExt cx="142560" cy="139680"/>
            </a:xfrm>
          </p:grpSpPr>
          <p:sp>
            <p:nvSpPr>
              <p:cNvPr id="2367" name=""/>
              <p:cNvSpPr/>
              <p:nvPr/>
            </p:nvSpPr>
            <p:spPr>
              <a:xfrm>
                <a:off x="4179600" y="60069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4113360" y="60768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4500720" y="6453360"/>
              <a:ext cx="142560" cy="139680"/>
              <a:chOff x="4500720" y="6453360"/>
              <a:chExt cx="142560" cy="139680"/>
            </a:xfrm>
          </p:grpSpPr>
          <p:sp>
            <p:nvSpPr>
              <p:cNvPr id="2370" name=""/>
              <p:cNvSpPr/>
              <p:nvPr/>
            </p:nvSpPr>
            <p:spPr>
              <a:xfrm>
                <a:off x="4566960" y="64533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4500720" y="65232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5182920" y="6899400"/>
              <a:ext cx="142920" cy="139680"/>
              <a:chOff x="5182920" y="6899400"/>
              <a:chExt cx="142920" cy="139680"/>
            </a:xfrm>
          </p:grpSpPr>
          <p:sp>
            <p:nvSpPr>
              <p:cNvPr id="2373" name=""/>
              <p:cNvSpPr/>
              <p:nvPr/>
            </p:nvSpPr>
            <p:spPr>
              <a:xfrm>
                <a:off x="5249880" y="68994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5182920" y="6969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6106680" y="5972040"/>
              <a:ext cx="142920" cy="139680"/>
              <a:chOff x="6106680" y="5972040"/>
              <a:chExt cx="142920" cy="139680"/>
            </a:xfrm>
          </p:grpSpPr>
          <p:sp>
            <p:nvSpPr>
              <p:cNvPr id="2376" name=""/>
              <p:cNvSpPr/>
              <p:nvPr/>
            </p:nvSpPr>
            <p:spPr>
              <a:xfrm>
                <a:off x="6173640" y="59720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6106680" y="6041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6552720" y="6453360"/>
              <a:ext cx="142920" cy="139680"/>
              <a:chOff x="6552720" y="6453360"/>
              <a:chExt cx="142920" cy="139680"/>
            </a:xfrm>
          </p:grpSpPr>
          <p:sp>
            <p:nvSpPr>
              <p:cNvPr id="2379" name=""/>
              <p:cNvSpPr/>
              <p:nvPr/>
            </p:nvSpPr>
            <p:spPr>
              <a:xfrm>
                <a:off x="6619680" y="64533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>
                <a:off x="6552720" y="65232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7257600" y="6062760"/>
              <a:ext cx="142920" cy="139680"/>
              <a:chOff x="7257600" y="6062760"/>
              <a:chExt cx="142920" cy="139680"/>
            </a:xfrm>
          </p:grpSpPr>
          <p:sp>
            <p:nvSpPr>
              <p:cNvPr id="2382" name=""/>
              <p:cNvSpPr/>
              <p:nvPr/>
            </p:nvSpPr>
            <p:spPr>
              <a:xfrm>
                <a:off x="7324560" y="6062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7257600" y="6132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7470360" y="6456240"/>
              <a:ext cx="142920" cy="139680"/>
              <a:chOff x="7470360" y="6456240"/>
              <a:chExt cx="142920" cy="139680"/>
            </a:xfrm>
          </p:grpSpPr>
          <p:sp>
            <p:nvSpPr>
              <p:cNvPr id="2385" name=""/>
              <p:cNvSpPr/>
              <p:nvPr/>
            </p:nvSpPr>
            <p:spPr>
              <a:xfrm>
                <a:off x="7537320" y="6456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7470360" y="65260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7752960" y="6788160"/>
              <a:ext cx="142920" cy="139680"/>
              <a:chOff x="7752960" y="6788160"/>
              <a:chExt cx="142920" cy="139680"/>
            </a:xfrm>
          </p:grpSpPr>
          <p:sp>
            <p:nvSpPr>
              <p:cNvPr id="2388" name=""/>
              <p:cNvSpPr/>
              <p:nvPr/>
            </p:nvSpPr>
            <p:spPr>
              <a:xfrm>
                <a:off x="7819920" y="6788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7752960" y="6858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0" name=""/>
            <p:cNvSpPr/>
            <p:nvPr/>
          </p:nvSpPr>
          <p:spPr>
            <a:xfrm>
              <a:off x="3209040" y="323676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2532240" y="3143160"/>
              <a:ext cx="344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 rot="16200000">
            <a:off x="2414160" y="168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l.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3" name=""/>
          <p:cNvGrpSpPr/>
          <p:nvPr/>
        </p:nvGrpSpPr>
        <p:grpSpPr>
          <a:xfrm>
            <a:off x="-7648560" y="-253440"/>
            <a:ext cx="20048400" cy="9054720"/>
            <a:chOff x="-7648560" y="-253440"/>
            <a:chExt cx="20048400" cy="9054720"/>
          </a:xfrm>
        </p:grpSpPr>
        <p:sp>
          <p:nvSpPr>
            <p:cNvPr id="2394" name=""/>
            <p:cNvSpPr/>
            <p:nvPr/>
          </p:nvSpPr>
          <p:spPr>
            <a:xfrm flipV="1">
              <a:off x="-59040" y="-51480"/>
              <a:ext cx="924228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277920" y="776160"/>
              <a:ext cx="1146960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-7648560" y="728640"/>
              <a:ext cx="8047080" cy="8072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 flipV="1">
              <a:off x="2104560" y="4869000"/>
              <a:ext cx="900360" cy="8985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38280" y="2406960"/>
              <a:ext cx="1176156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1031760" y="3249720"/>
              <a:ext cx="1097136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6512040" y="4080600"/>
              <a:ext cx="482904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42800" y="1057320"/>
              <a:ext cx="9350640" cy="107640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1425600" y="4889160"/>
              <a:ext cx="836280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2884320" y="5715720"/>
              <a:ext cx="7718760" cy="3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1390680" y="6539760"/>
              <a:ext cx="907236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15880" y="4082760"/>
              <a:ext cx="695664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846680" y="-25344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1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480 - 56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7" name=""/>
            <p:cNvGrpSpPr/>
            <p:nvPr/>
          </p:nvGrpSpPr>
          <p:grpSpPr>
            <a:xfrm>
              <a:off x="4216320" y="-227520"/>
              <a:ext cx="349200" cy="352440"/>
              <a:chOff x="4216320" y="-227520"/>
              <a:chExt cx="349200" cy="352440"/>
            </a:xfrm>
          </p:grpSpPr>
          <p:sp>
            <p:nvSpPr>
              <p:cNvPr id="2408" name=""/>
              <p:cNvSpPr/>
              <p:nvPr/>
            </p:nvSpPr>
            <p:spPr>
              <a:xfrm>
                <a:off x="4216320" y="-2239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216320" y="-22392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4217760" y="-22752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3814920" y="-128520"/>
              <a:ext cx="142560" cy="139680"/>
              <a:chOff x="3814920" y="-128520"/>
              <a:chExt cx="142560" cy="139680"/>
            </a:xfrm>
          </p:grpSpPr>
          <p:sp>
            <p:nvSpPr>
              <p:cNvPr id="2412" name=""/>
              <p:cNvSpPr/>
              <p:nvPr/>
            </p:nvSpPr>
            <p:spPr>
              <a:xfrm>
                <a:off x="3881520" y="-12852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3814920" y="-586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4846680" y="578520"/>
              <a:ext cx="192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2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550 - 6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4216320" y="601200"/>
              <a:ext cx="349200" cy="352440"/>
              <a:chOff x="4216320" y="601200"/>
              <a:chExt cx="349200" cy="352440"/>
            </a:xfrm>
          </p:grpSpPr>
          <p:sp>
            <p:nvSpPr>
              <p:cNvPr id="2416" name=""/>
              <p:cNvSpPr/>
              <p:nvPr/>
            </p:nvSpPr>
            <p:spPr>
              <a:xfrm>
                <a:off x="4216320" y="6048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216320" y="6048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4217760" y="60120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3814920" y="701640"/>
              <a:ext cx="142560" cy="139680"/>
              <a:chOff x="3814920" y="701640"/>
              <a:chExt cx="142560" cy="139680"/>
            </a:xfrm>
          </p:grpSpPr>
          <p:sp>
            <p:nvSpPr>
              <p:cNvPr id="2420" name=""/>
              <p:cNvSpPr/>
              <p:nvPr/>
            </p:nvSpPr>
            <p:spPr>
              <a:xfrm>
                <a:off x="3881520" y="70164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>
                <a:off x="3814920" y="77148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2" name=""/>
            <p:cNvSpPr/>
            <p:nvPr/>
          </p:nvSpPr>
          <p:spPr>
            <a:xfrm>
              <a:off x="4846320" y="221508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3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5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3" name=""/>
            <p:cNvGrpSpPr/>
            <p:nvPr/>
          </p:nvGrpSpPr>
          <p:grpSpPr>
            <a:xfrm>
              <a:off x="4211640" y="2231640"/>
              <a:ext cx="349200" cy="352440"/>
              <a:chOff x="4211640" y="2231640"/>
              <a:chExt cx="349200" cy="352440"/>
            </a:xfrm>
          </p:grpSpPr>
          <p:sp>
            <p:nvSpPr>
              <p:cNvPr id="2424" name=""/>
              <p:cNvSpPr/>
              <p:nvPr/>
            </p:nvSpPr>
            <p:spPr>
              <a:xfrm>
                <a:off x="4211640" y="22352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211640" y="223524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4213080" y="223164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7" name=""/>
            <p:cNvGrpSpPr/>
            <p:nvPr/>
          </p:nvGrpSpPr>
          <p:grpSpPr>
            <a:xfrm>
              <a:off x="3814920" y="2332080"/>
              <a:ext cx="142560" cy="139680"/>
              <a:chOff x="3814920" y="2332080"/>
              <a:chExt cx="142560" cy="139680"/>
            </a:xfrm>
          </p:grpSpPr>
          <p:sp>
            <p:nvSpPr>
              <p:cNvPr id="2428" name=""/>
              <p:cNvSpPr/>
              <p:nvPr/>
            </p:nvSpPr>
            <p:spPr>
              <a:xfrm>
                <a:off x="3881520" y="233208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>
                <a:off x="3814920" y="240192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0" name=""/>
            <p:cNvSpPr/>
            <p:nvPr/>
          </p:nvSpPr>
          <p:spPr>
            <a:xfrm>
              <a:off x="4871880" y="3054960"/>
              <a:ext cx="154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4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55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1" name=""/>
            <p:cNvGrpSpPr/>
            <p:nvPr/>
          </p:nvGrpSpPr>
          <p:grpSpPr>
            <a:xfrm>
              <a:off x="3813120" y="3076200"/>
              <a:ext cx="750960" cy="352440"/>
              <a:chOff x="3813120" y="3076200"/>
              <a:chExt cx="750960" cy="352440"/>
            </a:xfrm>
          </p:grpSpPr>
          <p:grpSp>
            <p:nvGrpSpPr>
              <p:cNvPr id="2432" name=""/>
              <p:cNvGrpSpPr/>
              <p:nvPr/>
            </p:nvGrpSpPr>
            <p:grpSpPr>
              <a:xfrm>
                <a:off x="4214880" y="3076200"/>
                <a:ext cx="349200" cy="352440"/>
                <a:chOff x="4214880" y="3076200"/>
                <a:chExt cx="349200" cy="352440"/>
              </a:xfrm>
            </p:grpSpPr>
            <p:sp>
              <p:nvSpPr>
                <p:cNvPr id="2433" name=""/>
                <p:cNvSpPr/>
                <p:nvPr/>
              </p:nvSpPr>
              <p:spPr>
                <a:xfrm>
                  <a:off x="4214880" y="307980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4214880" y="307980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4216320" y="307620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3813120" y="3176640"/>
                <a:ext cx="142560" cy="139680"/>
                <a:chOff x="3813120" y="3176640"/>
                <a:chExt cx="142560" cy="13968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3879720" y="317664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>
                  <a:off x="3813120" y="324648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9" name=""/>
            <p:cNvSpPr/>
            <p:nvPr/>
          </p:nvSpPr>
          <p:spPr>
            <a:xfrm>
              <a:off x="4871880" y="3891600"/>
              <a:ext cx="20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5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(NL 640 – 100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3809880" y="3909600"/>
              <a:ext cx="750600" cy="352440"/>
              <a:chOff x="3809880" y="3909600"/>
              <a:chExt cx="750600" cy="352440"/>
            </a:xfrm>
          </p:grpSpPr>
          <p:grpSp>
            <p:nvGrpSpPr>
              <p:cNvPr id="2441" name=""/>
              <p:cNvGrpSpPr/>
              <p:nvPr/>
            </p:nvGrpSpPr>
            <p:grpSpPr>
              <a:xfrm>
                <a:off x="4211280" y="3909600"/>
                <a:ext cx="349200" cy="352440"/>
                <a:chOff x="4211280" y="3909600"/>
                <a:chExt cx="349200" cy="352440"/>
              </a:xfrm>
            </p:grpSpPr>
            <p:sp>
              <p:nvSpPr>
                <p:cNvPr id="2442" name=""/>
                <p:cNvSpPr/>
                <p:nvPr/>
              </p:nvSpPr>
              <p:spPr>
                <a:xfrm>
                  <a:off x="4211280" y="391320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4211280" y="391320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4212720" y="390960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3809880" y="4010040"/>
                <a:ext cx="142560" cy="139680"/>
                <a:chOff x="3809880" y="4010040"/>
                <a:chExt cx="142560" cy="13968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3876480" y="401004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H="1">
                  <a:off x="3809880" y="407988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8" name=""/>
            <p:cNvSpPr/>
            <p:nvPr/>
          </p:nvSpPr>
          <p:spPr>
            <a:xfrm rot="18897600">
              <a:off x="-4480200" y="3096000"/>
              <a:ext cx="6127560" cy="8715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38120" y="1062000"/>
              <a:ext cx="1936800" cy="1066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-4624560" y="2356920"/>
              <a:ext cx="5381640" cy="5381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-2173320" y="3200400"/>
              <a:ext cx="3324240" cy="3322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-2054160" y="4033440"/>
              <a:ext cx="3589200" cy="3591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622080" y="4890960"/>
              <a:ext cx="80316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-250920" y="6490800"/>
              <a:ext cx="1762200" cy="17607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1839960" y="5054400"/>
              <a:ext cx="347760" cy="352440"/>
              <a:chOff x="1839960" y="5054400"/>
              <a:chExt cx="347760" cy="352440"/>
            </a:xfrm>
          </p:grpSpPr>
          <p:grpSp>
            <p:nvGrpSpPr>
              <p:cNvPr id="2456" name=""/>
              <p:cNvGrpSpPr/>
              <p:nvPr/>
            </p:nvGrpSpPr>
            <p:grpSpPr>
              <a:xfrm>
                <a:off x="1843200" y="5058000"/>
                <a:ext cx="342720" cy="344520"/>
                <a:chOff x="1843200" y="5058000"/>
                <a:chExt cx="342720" cy="344520"/>
              </a:xfrm>
            </p:grpSpPr>
            <p:sp>
              <p:nvSpPr>
                <p:cNvPr id="2457" name=""/>
                <p:cNvSpPr/>
                <p:nvPr/>
              </p:nvSpPr>
              <p:spPr>
                <a:xfrm flipH="1">
                  <a:off x="1843200" y="50580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>
                  <a:off x="1843200" y="50580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9" name=""/>
              <p:cNvSpPr/>
              <p:nvPr/>
            </p:nvSpPr>
            <p:spPr>
              <a:xfrm flipH="1" flipV="1">
                <a:off x="1839960" y="505440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 flipH="1">
              <a:off x="1857240" y="48283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8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946240" y="47196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2646360" y="5400000"/>
              <a:ext cx="235080" cy="236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"/>
            <p:cNvGrpSpPr/>
            <p:nvPr/>
          </p:nvGrpSpPr>
          <p:grpSpPr>
            <a:xfrm>
              <a:off x="3811680" y="4712760"/>
              <a:ext cx="750600" cy="352440"/>
              <a:chOff x="3811680" y="4712760"/>
              <a:chExt cx="750600" cy="352440"/>
            </a:xfrm>
          </p:grpSpPr>
          <p:grpSp>
            <p:nvGrpSpPr>
              <p:cNvPr id="2464" name=""/>
              <p:cNvGrpSpPr/>
              <p:nvPr/>
            </p:nvGrpSpPr>
            <p:grpSpPr>
              <a:xfrm>
                <a:off x="4213080" y="4712760"/>
                <a:ext cx="349200" cy="352440"/>
                <a:chOff x="4213080" y="4712760"/>
                <a:chExt cx="349200" cy="352440"/>
              </a:xfrm>
            </p:grpSpPr>
            <p:sp>
              <p:nvSpPr>
                <p:cNvPr id="2465" name=""/>
                <p:cNvSpPr/>
                <p:nvPr/>
              </p:nvSpPr>
              <p:spPr>
                <a:xfrm>
                  <a:off x="4213080" y="47163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4213080" y="47163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flipV="1">
                  <a:off x="4214520" y="471276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3811680" y="4813200"/>
                <a:ext cx="142560" cy="139680"/>
                <a:chOff x="3811680" y="4813200"/>
                <a:chExt cx="142560" cy="13968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3878280" y="481320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>
                  <a:off x="3811680" y="488304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1" name=""/>
            <p:cNvGrpSpPr/>
            <p:nvPr/>
          </p:nvGrpSpPr>
          <p:grpSpPr>
            <a:xfrm>
              <a:off x="3811680" y="5541480"/>
              <a:ext cx="750600" cy="352440"/>
              <a:chOff x="3811680" y="5541480"/>
              <a:chExt cx="750600" cy="352440"/>
            </a:xfrm>
          </p:grpSpPr>
          <p:grpSp>
            <p:nvGrpSpPr>
              <p:cNvPr id="2472" name=""/>
              <p:cNvGrpSpPr/>
              <p:nvPr/>
            </p:nvGrpSpPr>
            <p:grpSpPr>
              <a:xfrm>
                <a:off x="4213080" y="5541480"/>
                <a:ext cx="349200" cy="352440"/>
                <a:chOff x="4213080" y="5541480"/>
                <a:chExt cx="349200" cy="35244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4213080" y="55450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213080" y="55450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V="1">
                  <a:off x="4214520" y="554148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3811680" y="5641920"/>
                <a:ext cx="142560" cy="139680"/>
                <a:chOff x="3811680" y="5641920"/>
                <a:chExt cx="142560" cy="13968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3878280" y="564192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>
                  <a:off x="3811680" y="571176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9" name=""/>
            <p:cNvGrpSpPr/>
            <p:nvPr/>
          </p:nvGrpSpPr>
          <p:grpSpPr>
            <a:xfrm>
              <a:off x="3811680" y="6366960"/>
              <a:ext cx="750600" cy="352440"/>
              <a:chOff x="3811680" y="6366960"/>
              <a:chExt cx="750600" cy="352440"/>
            </a:xfrm>
          </p:grpSpPr>
          <p:grpSp>
            <p:nvGrpSpPr>
              <p:cNvPr id="2480" name=""/>
              <p:cNvGrpSpPr/>
              <p:nvPr/>
            </p:nvGrpSpPr>
            <p:grpSpPr>
              <a:xfrm>
                <a:off x="4213080" y="6366960"/>
                <a:ext cx="349200" cy="352440"/>
                <a:chOff x="4213080" y="6366960"/>
                <a:chExt cx="349200" cy="35244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4213080" y="63705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4213080" y="63705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V="1">
                  <a:off x="4214520" y="636696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3811680" y="6467400"/>
                <a:ext cx="142560" cy="139680"/>
                <a:chOff x="3811680" y="6467400"/>
                <a:chExt cx="142560" cy="13968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3878280" y="646740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>
                  <a:off x="3811680" y="653724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7" name=""/>
            <p:cNvSpPr/>
            <p:nvPr/>
          </p:nvSpPr>
          <p:spPr>
            <a:xfrm>
              <a:off x="4870080" y="4690080"/>
              <a:ext cx="9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868640" y="5515560"/>
              <a:ext cx="9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871520" y="6331680"/>
              <a:ext cx="9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0" name=""/>
            <p:cNvGrpSpPr/>
            <p:nvPr/>
          </p:nvGrpSpPr>
          <p:grpSpPr>
            <a:xfrm>
              <a:off x="1066320" y="4376880"/>
              <a:ext cx="142920" cy="139680"/>
              <a:chOff x="1066320" y="4376880"/>
              <a:chExt cx="142920" cy="139680"/>
            </a:xfrm>
          </p:grpSpPr>
          <p:sp>
            <p:nvSpPr>
              <p:cNvPr id="2491" name=""/>
              <p:cNvSpPr/>
              <p:nvPr/>
            </p:nvSpPr>
            <p:spPr>
              <a:xfrm>
                <a:off x="1133280" y="4376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1066320" y="44467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3" name=""/>
            <p:cNvGrpSpPr/>
            <p:nvPr/>
          </p:nvGrpSpPr>
          <p:grpSpPr>
            <a:xfrm>
              <a:off x="1506240" y="4818240"/>
              <a:ext cx="142920" cy="139680"/>
              <a:chOff x="1506240" y="4818240"/>
              <a:chExt cx="142920" cy="139680"/>
            </a:xfrm>
          </p:grpSpPr>
          <p:sp>
            <p:nvSpPr>
              <p:cNvPr id="2494" name=""/>
              <p:cNvSpPr/>
              <p:nvPr/>
            </p:nvSpPr>
            <p:spPr>
              <a:xfrm>
                <a:off x="1573200" y="48182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1506240" y="48880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2673000" y="4832280"/>
              <a:ext cx="142920" cy="139680"/>
              <a:chOff x="2673000" y="4832280"/>
              <a:chExt cx="142920" cy="139680"/>
            </a:xfrm>
          </p:grpSpPr>
          <p:sp>
            <p:nvSpPr>
              <p:cNvPr id="2497" name=""/>
              <p:cNvSpPr/>
              <p:nvPr/>
            </p:nvSpPr>
            <p:spPr>
              <a:xfrm>
                <a:off x="2739960" y="4832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2673000" y="4902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"/>
            <p:cNvGrpSpPr/>
            <p:nvPr/>
          </p:nvGrpSpPr>
          <p:grpSpPr>
            <a:xfrm>
              <a:off x="2520720" y="5280120"/>
              <a:ext cx="142920" cy="139680"/>
              <a:chOff x="2520720" y="5280120"/>
              <a:chExt cx="142920" cy="139680"/>
            </a:xfrm>
          </p:grpSpPr>
          <p:sp>
            <p:nvSpPr>
              <p:cNvPr id="2500" name=""/>
              <p:cNvSpPr/>
              <p:nvPr/>
            </p:nvSpPr>
            <p:spPr>
              <a:xfrm>
                <a:off x="2587680" y="52801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2520720" y="53499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2" name=""/>
            <p:cNvGrpSpPr/>
            <p:nvPr/>
          </p:nvGrpSpPr>
          <p:grpSpPr>
            <a:xfrm>
              <a:off x="1027080" y="5060520"/>
              <a:ext cx="347760" cy="352440"/>
              <a:chOff x="1027080" y="5060520"/>
              <a:chExt cx="347760" cy="352440"/>
            </a:xfrm>
          </p:grpSpPr>
          <p:grpSp>
            <p:nvGrpSpPr>
              <p:cNvPr id="2503" name=""/>
              <p:cNvGrpSpPr/>
              <p:nvPr/>
            </p:nvGrpSpPr>
            <p:grpSpPr>
              <a:xfrm>
                <a:off x="1030320" y="5064120"/>
                <a:ext cx="342720" cy="344520"/>
                <a:chOff x="1030320" y="5064120"/>
                <a:chExt cx="342720" cy="344520"/>
              </a:xfrm>
            </p:grpSpPr>
            <p:sp>
              <p:nvSpPr>
                <p:cNvPr id="2504" name=""/>
                <p:cNvSpPr/>
                <p:nvPr/>
              </p:nvSpPr>
              <p:spPr>
                <a:xfrm flipH="1">
                  <a:off x="1030320" y="50641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>
                  <a:off x="1030320" y="50641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6" name=""/>
              <p:cNvSpPr/>
              <p:nvPr/>
            </p:nvSpPr>
            <p:spPr>
              <a:xfrm flipH="1" flipV="1">
                <a:off x="1027080" y="50605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7" name=""/>
            <p:cNvSpPr/>
            <p:nvPr/>
          </p:nvSpPr>
          <p:spPr>
            <a:xfrm flipH="1">
              <a:off x="601560" y="48333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952720" y="39132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79520" y="4105440"/>
              <a:ext cx="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1312560" y="417528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2478240" y="3911760"/>
              <a:ext cx="342720" cy="344160"/>
              <a:chOff x="2478240" y="3911760"/>
              <a:chExt cx="342720" cy="344160"/>
            </a:xfrm>
          </p:grpSpPr>
          <p:sp>
            <p:nvSpPr>
              <p:cNvPr id="2512" name=""/>
              <p:cNvSpPr/>
              <p:nvPr/>
            </p:nvSpPr>
            <p:spPr>
              <a:xfrm flipH="1">
                <a:off x="2478240" y="39117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2478240" y="39117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4" name=""/>
            <p:cNvSpPr/>
            <p:nvPr/>
          </p:nvSpPr>
          <p:spPr>
            <a:xfrm flipH="1" flipV="1">
              <a:off x="2474640" y="390816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99040" y="395064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Gleis 5 N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rot="10800000">
              <a:off x="644040" y="2781360"/>
              <a:ext cx="266760" cy="25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rot="10800000">
              <a:off x="657360" y="2792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782640" y="2782800"/>
              <a:ext cx="0" cy="25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920880" y="290664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1673280" y="2827440"/>
              <a:ext cx="0" cy="15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912240" y="2698920"/>
              <a:ext cx="42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1697040" y="2720160"/>
              <a:ext cx="347760" cy="352440"/>
              <a:chOff x="1697040" y="2720160"/>
              <a:chExt cx="347760" cy="352440"/>
            </a:xfrm>
          </p:grpSpPr>
          <p:grpSp>
            <p:nvGrpSpPr>
              <p:cNvPr id="2523" name=""/>
              <p:cNvGrpSpPr/>
              <p:nvPr/>
            </p:nvGrpSpPr>
            <p:grpSpPr>
              <a:xfrm>
                <a:off x="1701360" y="2724120"/>
                <a:ext cx="343080" cy="344160"/>
                <a:chOff x="1701360" y="2724120"/>
                <a:chExt cx="343080" cy="344160"/>
              </a:xfrm>
            </p:grpSpPr>
            <p:sp>
              <p:nvSpPr>
                <p:cNvPr id="2524" name=""/>
                <p:cNvSpPr/>
                <p:nvPr/>
              </p:nvSpPr>
              <p:spPr>
                <a:xfrm rot="10800000">
                  <a:off x="1701360" y="272412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 flipV="1">
                  <a:off x="1701360" y="2724120"/>
                  <a:ext cx="34308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6" name=""/>
              <p:cNvSpPr/>
              <p:nvPr/>
            </p:nvSpPr>
            <p:spPr>
              <a:xfrm flipH="1">
                <a:off x="1697040" y="272016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1379520" y="2705040"/>
              <a:ext cx="142920" cy="139680"/>
              <a:chOff x="1379520" y="2705040"/>
              <a:chExt cx="142920" cy="139680"/>
            </a:xfrm>
          </p:grpSpPr>
          <p:sp>
            <p:nvSpPr>
              <p:cNvPr id="2528" name=""/>
              <p:cNvSpPr/>
              <p:nvPr/>
            </p:nvSpPr>
            <p:spPr>
              <a:xfrm flipV="1">
                <a:off x="1455120" y="270504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379520" y="277488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641520" y="1854360"/>
              <a:ext cx="1400040" cy="373680"/>
              <a:chOff x="641520" y="1854360"/>
              <a:chExt cx="1400040" cy="373680"/>
            </a:xfrm>
          </p:grpSpPr>
          <p:sp>
            <p:nvSpPr>
              <p:cNvPr id="2531" name=""/>
              <p:cNvSpPr/>
              <p:nvPr/>
            </p:nvSpPr>
            <p:spPr>
              <a:xfrm rot="10800000">
                <a:off x="641520" y="1936800"/>
                <a:ext cx="266400" cy="25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rot="10800000">
                <a:off x="654120" y="194760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779400" y="1938240"/>
                <a:ext cx="0" cy="254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917640" y="206208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1670040" y="198288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909360" y="1854360"/>
                <a:ext cx="42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7" name=""/>
              <p:cNvGrpSpPr/>
              <p:nvPr/>
            </p:nvGrpSpPr>
            <p:grpSpPr>
              <a:xfrm>
                <a:off x="1693800" y="1875600"/>
                <a:ext cx="347760" cy="352440"/>
                <a:chOff x="1693800" y="1875600"/>
                <a:chExt cx="347760" cy="352440"/>
              </a:xfrm>
            </p:grpSpPr>
            <p:grpSp>
              <p:nvGrpSpPr>
                <p:cNvPr id="2538" name=""/>
                <p:cNvGrpSpPr/>
                <p:nvPr/>
              </p:nvGrpSpPr>
              <p:grpSpPr>
                <a:xfrm>
                  <a:off x="1698120" y="1879560"/>
                  <a:ext cx="343080" cy="344160"/>
                  <a:chOff x="1698120" y="1879560"/>
                  <a:chExt cx="343080" cy="344160"/>
                </a:xfrm>
              </p:grpSpPr>
              <p:sp>
                <p:nvSpPr>
                  <p:cNvPr id="2539" name=""/>
                  <p:cNvSpPr/>
                  <p:nvPr/>
                </p:nvSpPr>
                <p:spPr>
                  <a:xfrm rot="10800000">
                    <a:off x="1698120" y="1879560"/>
                    <a:ext cx="34308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 flipH="1" flipV="1">
                    <a:off x="1698120" y="1879560"/>
                    <a:ext cx="34308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1" name=""/>
                <p:cNvSpPr/>
                <p:nvPr/>
              </p:nvSpPr>
              <p:spPr>
                <a:xfrm flipH="1">
                  <a:off x="1693800" y="187560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1376280" y="1860480"/>
                <a:ext cx="142920" cy="139680"/>
                <a:chOff x="1376280" y="1860480"/>
                <a:chExt cx="142920" cy="139680"/>
              </a:xfrm>
            </p:grpSpPr>
            <p:sp>
              <p:nvSpPr>
                <p:cNvPr id="2543" name=""/>
                <p:cNvSpPr/>
                <p:nvPr/>
              </p:nvSpPr>
              <p:spPr>
                <a:xfrm flipV="1">
                  <a:off x="1451880" y="186048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1376280" y="193032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5" name=""/>
          <p:cNvGrpSpPr/>
          <p:nvPr/>
        </p:nvGrpSpPr>
        <p:grpSpPr>
          <a:xfrm>
            <a:off x="-864000" y="-2357280"/>
            <a:ext cx="12674880" cy="9926280"/>
            <a:chOff x="-864000" y="-2357280"/>
            <a:chExt cx="12674880" cy="9926280"/>
          </a:xfrm>
        </p:grpSpPr>
        <p:sp>
          <p:nvSpPr>
            <p:cNvPr id="2546" name=""/>
            <p:cNvSpPr/>
            <p:nvPr/>
          </p:nvSpPr>
          <p:spPr>
            <a:xfrm flipV="1">
              <a:off x="5986440" y="5893920"/>
              <a:ext cx="1681200" cy="1675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9161640" y="379440"/>
              <a:ext cx="0" cy="491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-208080" y="2559600"/>
              <a:ext cx="1176192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-144360" y="3400560"/>
              <a:ext cx="1097100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6777000" y="4233960"/>
              <a:ext cx="482904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6981840" y="586908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H="1">
              <a:off x="8666280" y="5608800"/>
              <a:ext cx="300024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8666280" y="6130800"/>
              <a:ext cx="300024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-276120" y="1170000"/>
              <a:ext cx="9350280" cy="11523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-42840" y="99000"/>
              <a:ext cx="924228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 flipV="1">
              <a:off x="4788000" y="-1622520"/>
              <a:ext cx="2178000" cy="21765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5292720" y="-2336760"/>
              <a:ext cx="2486160" cy="24861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1382760" y="-1752480"/>
              <a:ext cx="2216160" cy="2217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503280" y="-2357280"/>
              <a:ext cx="2469960" cy="2471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-864000" y="927000"/>
              <a:ext cx="1146492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 flipV="1">
              <a:off x="6963840" y="554040"/>
              <a:ext cx="406440" cy="404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870120" y="463680"/>
              <a:ext cx="512640" cy="514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266840" y="-71280"/>
              <a:ext cx="0" cy="34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270480" y="75708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5" name=""/>
            <p:cNvGrpSpPr/>
            <p:nvPr/>
          </p:nvGrpSpPr>
          <p:grpSpPr>
            <a:xfrm>
              <a:off x="146160" y="255240"/>
              <a:ext cx="347400" cy="352440"/>
              <a:chOff x="146160" y="255240"/>
              <a:chExt cx="347400" cy="352440"/>
            </a:xfrm>
          </p:grpSpPr>
          <p:grpSp>
            <p:nvGrpSpPr>
              <p:cNvPr id="2566" name=""/>
              <p:cNvGrpSpPr/>
              <p:nvPr/>
            </p:nvGrpSpPr>
            <p:grpSpPr>
              <a:xfrm>
                <a:off x="147240" y="258480"/>
                <a:ext cx="342720" cy="344520"/>
                <a:chOff x="147240" y="258480"/>
                <a:chExt cx="342720" cy="34452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147240" y="258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147240" y="258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9" name=""/>
              <p:cNvSpPr/>
              <p:nvPr/>
            </p:nvSpPr>
            <p:spPr>
              <a:xfrm flipV="1">
                <a:off x="146160" y="25524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650880" y="1077480"/>
              <a:ext cx="347760" cy="352440"/>
              <a:chOff x="650880" y="1077480"/>
              <a:chExt cx="347760" cy="352440"/>
            </a:xfrm>
          </p:grpSpPr>
          <p:grpSp>
            <p:nvGrpSpPr>
              <p:cNvPr id="2571" name=""/>
              <p:cNvGrpSpPr/>
              <p:nvPr/>
            </p:nvGrpSpPr>
            <p:grpSpPr>
              <a:xfrm>
                <a:off x="652320" y="1080720"/>
                <a:ext cx="343080" cy="344520"/>
                <a:chOff x="652320" y="1080720"/>
                <a:chExt cx="343080" cy="3445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652320" y="10807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52320" y="10807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4" name=""/>
              <p:cNvSpPr/>
              <p:nvPr/>
            </p:nvSpPr>
            <p:spPr>
              <a:xfrm flipV="1">
                <a:off x="650880" y="10774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7791480" y="258480"/>
              <a:ext cx="347760" cy="352440"/>
              <a:chOff x="7791480" y="258480"/>
              <a:chExt cx="347760" cy="352440"/>
            </a:xfrm>
          </p:grpSpPr>
          <p:grpSp>
            <p:nvGrpSpPr>
              <p:cNvPr id="2576" name=""/>
              <p:cNvGrpSpPr/>
              <p:nvPr/>
            </p:nvGrpSpPr>
            <p:grpSpPr>
              <a:xfrm>
                <a:off x="7792920" y="261720"/>
                <a:ext cx="343080" cy="344520"/>
                <a:chOff x="7792920" y="261720"/>
                <a:chExt cx="343080" cy="34452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7792920" y="2617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7792920" y="2617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9" name=""/>
              <p:cNvSpPr/>
              <p:nvPr/>
            </p:nvSpPr>
            <p:spPr>
              <a:xfrm flipV="1">
                <a:off x="7791480" y="2584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0" name=""/>
            <p:cNvGrpSpPr/>
            <p:nvPr/>
          </p:nvGrpSpPr>
          <p:grpSpPr>
            <a:xfrm>
              <a:off x="7337520" y="1077480"/>
              <a:ext cx="347400" cy="352440"/>
              <a:chOff x="7337520" y="1077480"/>
              <a:chExt cx="347400" cy="352440"/>
            </a:xfrm>
          </p:grpSpPr>
          <p:grpSp>
            <p:nvGrpSpPr>
              <p:cNvPr id="2581" name=""/>
              <p:cNvGrpSpPr/>
              <p:nvPr/>
            </p:nvGrpSpPr>
            <p:grpSpPr>
              <a:xfrm>
                <a:off x="7338600" y="1080720"/>
                <a:ext cx="342720" cy="344520"/>
                <a:chOff x="7338600" y="1080720"/>
                <a:chExt cx="342720" cy="3445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7338600" y="10807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7338600" y="10807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4" name=""/>
              <p:cNvSpPr/>
              <p:nvPr/>
            </p:nvSpPr>
            <p:spPr>
              <a:xfrm flipV="1">
                <a:off x="7337520" y="107748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5" name=""/>
            <p:cNvSpPr/>
            <p:nvPr/>
          </p:nvSpPr>
          <p:spPr>
            <a:xfrm>
              <a:off x="7557840" y="309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034040" y="8503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63600" y="277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944640" y="8503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6786720" y="-863640"/>
              <a:ext cx="142560" cy="139680"/>
              <a:chOff x="6786720" y="-863640"/>
              <a:chExt cx="142560" cy="139680"/>
            </a:xfrm>
          </p:grpSpPr>
          <p:sp>
            <p:nvSpPr>
              <p:cNvPr id="2590" name=""/>
              <p:cNvSpPr/>
              <p:nvPr/>
            </p:nvSpPr>
            <p:spPr>
              <a:xfrm>
                <a:off x="6852960" y="-863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>
                <a:off x="6786720" y="-7938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7011720" y="39600"/>
              <a:ext cx="142920" cy="139680"/>
              <a:chOff x="7011720" y="39600"/>
              <a:chExt cx="142920" cy="139680"/>
            </a:xfrm>
          </p:grpSpPr>
          <p:sp>
            <p:nvSpPr>
              <p:cNvPr id="2593" name=""/>
              <p:cNvSpPr/>
              <p:nvPr/>
            </p:nvSpPr>
            <p:spPr>
              <a:xfrm>
                <a:off x="7078680" y="39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H="1">
                <a:off x="7011720" y="109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5" name=""/>
            <p:cNvGrpSpPr/>
            <p:nvPr/>
          </p:nvGrpSpPr>
          <p:grpSpPr>
            <a:xfrm>
              <a:off x="6900480" y="490680"/>
              <a:ext cx="142920" cy="139680"/>
              <a:chOff x="6900480" y="490680"/>
              <a:chExt cx="142920" cy="139680"/>
            </a:xfrm>
          </p:grpSpPr>
          <p:sp>
            <p:nvSpPr>
              <p:cNvPr id="2596" name=""/>
              <p:cNvSpPr/>
              <p:nvPr/>
            </p:nvSpPr>
            <p:spPr>
              <a:xfrm>
                <a:off x="6967440" y="4906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H="1">
                <a:off x="6900480" y="5605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6535440" y="857160"/>
              <a:ext cx="142920" cy="139680"/>
              <a:chOff x="6535440" y="857160"/>
              <a:chExt cx="142920" cy="139680"/>
            </a:xfrm>
          </p:grpSpPr>
          <p:sp>
            <p:nvSpPr>
              <p:cNvPr id="2599" name=""/>
              <p:cNvSpPr/>
              <p:nvPr/>
            </p:nvSpPr>
            <p:spPr>
              <a:xfrm>
                <a:off x="6602400" y="857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H="1">
                <a:off x="6535440" y="927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"/>
            <p:cNvGrpSpPr/>
            <p:nvPr/>
          </p:nvGrpSpPr>
          <p:grpSpPr>
            <a:xfrm>
              <a:off x="1099440" y="-627120"/>
              <a:ext cx="142920" cy="139680"/>
              <a:chOff x="1099440" y="-627120"/>
              <a:chExt cx="142920" cy="139680"/>
            </a:xfrm>
          </p:grpSpPr>
          <p:sp>
            <p:nvSpPr>
              <p:cNvPr id="2602" name=""/>
              <p:cNvSpPr/>
              <p:nvPr/>
            </p:nvSpPr>
            <p:spPr>
              <a:xfrm>
                <a:off x="1166760" y="-6271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1099440" y="-556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987120" y="30240"/>
              <a:ext cx="142920" cy="139680"/>
              <a:chOff x="987120" y="30240"/>
              <a:chExt cx="142920" cy="139680"/>
            </a:xfrm>
          </p:grpSpPr>
          <p:sp>
            <p:nvSpPr>
              <p:cNvPr id="2605" name=""/>
              <p:cNvSpPr/>
              <p:nvPr/>
            </p:nvSpPr>
            <p:spPr>
              <a:xfrm>
                <a:off x="1054080" y="30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>
                <a:off x="987120" y="1000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7" name=""/>
            <p:cNvGrpSpPr/>
            <p:nvPr/>
          </p:nvGrpSpPr>
          <p:grpSpPr>
            <a:xfrm>
              <a:off x="1273320" y="434880"/>
              <a:ext cx="142560" cy="139680"/>
              <a:chOff x="1273320" y="434880"/>
              <a:chExt cx="142560" cy="139680"/>
            </a:xfrm>
          </p:grpSpPr>
          <p:sp>
            <p:nvSpPr>
              <p:cNvPr id="2608" name=""/>
              <p:cNvSpPr/>
              <p:nvPr/>
            </p:nvSpPr>
            <p:spPr>
              <a:xfrm>
                <a:off x="1339560" y="434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H="1">
                <a:off x="1273320" y="50472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0" name=""/>
            <p:cNvGrpSpPr/>
            <p:nvPr/>
          </p:nvGrpSpPr>
          <p:grpSpPr>
            <a:xfrm>
              <a:off x="1598760" y="861840"/>
              <a:ext cx="142560" cy="139680"/>
              <a:chOff x="1598760" y="861840"/>
              <a:chExt cx="142560" cy="139680"/>
            </a:xfrm>
          </p:grpSpPr>
          <p:sp>
            <p:nvSpPr>
              <p:cNvPr id="2611" name=""/>
              <p:cNvSpPr/>
              <p:nvPr/>
            </p:nvSpPr>
            <p:spPr>
              <a:xfrm>
                <a:off x="1665000" y="861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1598760" y="93168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1658160" y="-1173240"/>
              <a:ext cx="142920" cy="139680"/>
              <a:chOff x="1658160" y="-1173240"/>
              <a:chExt cx="142920" cy="139680"/>
            </a:xfrm>
          </p:grpSpPr>
          <p:sp>
            <p:nvSpPr>
              <p:cNvPr id="2614" name=""/>
              <p:cNvSpPr/>
              <p:nvPr/>
            </p:nvSpPr>
            <p:spPr>
              <a:xfrm>
                <a:off x="1725480" y="-1173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1658160" y="-1103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6" name=""/>
            <p:cNvGrpSpPr/>
            <p:nvPr/>
          </p:nvGrpSpPr>
          <p:grpSpPr>
            <a:xfrm>
              <a:off x="2255040" y="-538200"/>
              <a:ext cx="142920" cy="139680"/>
              <a:chOff x="2255040" y="-538200"/>
              <a:chExt cx="142920" cy="139680"/>
            </a:xfrm>
          </p:grpSpPr>
          <p:sp>
            <p:nvSpPr>
              <p:cNvPr id="2617" name=""/>
              <p:cNvSpPr/>
              <p:nvPr/>
            </p:nvSpPr>
            <p:spPr>
              <a:xfrm>
                <a:off x="2322360" y="-538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2255040" y="-468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9" name=""/>
            <p:cNvGrpSpPr/>
            <p:nvPr/>
          </p:nvGrpSpPr>
          <p:grpSpPr>
            <a:xfrm>
              <a:off x="6068160" y="-347760"/>
              <a:ext cx="142920" cy="139680"/>
              <a:chOff x="6068160" y="-347760"/>
              <a:chExt cx="142920" cy="139680"/>
            </a:xfrm>
          </p:grpSpPr>
          <p:sp>
            <p:nvSpPr>
              <p:cNvPr id="2620" name=""/>
              <p:cNvSpPr/>
              <p:nvPr/>
            </p:nvSpPr>
            <p:spPr>
              <a:xfrm>
                <a:off x="6135480" y="-347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>
                <a:off x="6068160" y="-2775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2" name=""/>
            <p:cNvGrpSpPr/>
            <p:nvPr/>
          </p:nvGrpSpPr>
          <p:grpSpPr>
            <a:xfrm>
              <a:off x="7342920" y="-301680"/>
              <a:ext cx="142920" cy="139680"/>
              <a:chOff x="7342920" y="-301680"/>
              <a:chExt cx="142920" cy="139680"/>
            </a:xfrm>
          </p:grpSpPr>
          <p:sp>
            <p:nvSpPr>
              <p:cNvPr id="2623" name=""/>
              <p:cNvSpPr/>
              <p:nvPr/>
            </p:nvSpPr>
            <p:spPr>
              <a:xfrm>
                <a:off x="7410240" y="-3016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7342920" y="-231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5" name=""/>
            <p:cNvGrpSpPr/>
            <p:nvPr/>
          </p:nvGrpSpPr>
          <p:grpSpPr>
            <a:xfrm>
              <a:off x="2395080" y="39600"/>
              <a:ext cx="142920" cy="139680"/>
              <a:chOff x="2395080" y="39600"/>
              <a:chExt cx="142920" cy="139680"/>
            </a:xfrm>
          </p:grpSpPr>
          <p:sp>
            <p:nvSpPr>
              <p:cNvPr id="2626" name=""/>
              <p:cNvSpPr/>
              <p:nvPr/>
            </p:nvSpPr>
            <p:spPr>
              <a:xfrm>
                <a:off x="2462040" y="39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2395080" y="109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8" name=""/>
            <p:cNvGrpSpPr/>
            <p:nvPr/>
          </p:nvGrpSpPr>
          <p:grpSpPr>
            <a:xfrm>
              <a:off x="5735160" y="23760"/>
              <a:ext cx="142920" cy="139680"/>
              <a:chOff x="5735160" y="23760"/>
              <a:chExt cx="142920" cy="139680"/>
            </a:xfrm>
          </p:grpSpPr>
          <p:sp>
            <p:nvSpPr>
              <p:cNvPr id="2629" name=""/>
              <p:cNvSpPr/>
              <p:nvPr/>
            </p:nvSpPr>
            <p:spPr>
              <a:xfrm>
                <a:off x="5802120" y="23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>
                <a:off x="5735160" y="93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>
              <a:off x="6109200" y="-3960"/>
              <a:ext cx="77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Kr W105/1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395360" y="-3960"/>
              <a:ext cx="695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Kr W 89/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>
              <a:off x="6049800" y="4995720"/>
              <a:ext cx="849600" cy="8510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-258840" y="5044680"/>
              <a:ext cx="642960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-246240" y="5867280"/>
              <a:ext cx="7229520" cy="18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V="1">
              <a:off x="-355680" y="6693840"/>
              <a:ext cx="719928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-171360" y="4235040"/>
              <a:ext cx="695628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8" name=""/>
            <p:cNvGrpSpPr/>
            <p:nvPr/>
          </p:nvGrpSpPr>
          <p:grpSpPr>
            <a:xfrm>
              <a:off x="5805360" y="2742840"/>
              <a:ext cx="347760" cy="352440"/>
              <a:chOff x="5805360" y="2742840"/>
              <a:chExt cx="347760" cy="352440"/>
            </a:xfrm>
          </p:grpSpPr>
          <p:sp>
            <p:nvSpPr>
              <p:cNvPr id="2639" name=""/>
              <p:cNvSpPr/>
              <p:nvPr/>
            </p:nvSpPr>
            <p:spPr>
              <a:xfrm>
                <a:off x="5810400" y="27464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810400" y="2746440"/>
                <a:ext cx="34272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5805360" y="274284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6194520" y="2730600"/>
              <a:ext cx="1455480" cy="497880"/>
              <a:chOff x="6194520" y="2730600"/>
              <a:chExt cx="1455480" cy="497880"/>
            </a:xfrm>
          </p:grpSpPr>
          <p:sp>
            <p:nvSpPr>
              <p:cNvPr id="2643" name=""/>
              <p:cNvSpPr/>
              <p:nvPr/>
            </p:nvSpPr>
            <p:spPr>
              <a:xfrm>
                <a:off x="6194520" y="281268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512120" y="2798640"/>
                <a:ext cx="108000" cy="290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478640" y="306504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72400" y="2823840"/>
                <a:ext cx="473040" cy="1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195960" y="2730600"/>
                <a:ext cx="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653160" y="277308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465960" y="2952360"/>
                <a:ext cx="0" cy="13932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>
                <a:off x="6399360" y="302220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5122800" y="1110960"/>
              <a:ext cx="347760" cy="352440"/>
              <a:chOff x="5122800" y="1110960"/>
              <a:chExt cx="347760" cy="352440"/>
            </a:xfrm>
          </p:grpSpPr>
          <p:sp>
            <p:nvSpPr>
              <p:cNvPr id="2652" name=""/>
              <p:cNvSpPr/>
              <p:nvPr/>
            </p:nvSpPr>
            <p:spPr>
              <a:xfrm>
                <a:off x="5124600" y="11145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124600" y="1117440"/>
                <a:ext cx="34272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5122800" y="111096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5" name=""/>
            <p:cNvGrpSpPr/>
            <p:nvPr/>
          </p:nvGrpSpPr>
          <p:grpSpPr>
            <a:xfrm>
              <a:off x="5508720" y="1101600"/>
              <a:ext cx="1455480" cy="498600"/>
              <a:chOff x="5508720" y="1101600"/>
              <a:chExt cx="1455480" cy="498600"/>
            </a:xfrm>
          </p:grpSpPr>
          <p:sp>
            <p:nvSpPr>
              <p:cNvPr id="2656" name=""/>
              <p:cNvSpPr/>
              <p:nvPr/>
            </p:nvSpPr>
            <p:spPr>
              <a:xfrm>
                <a:off x="5508720" y="118440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826320" y="117000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92840" y="143676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510160" y="1101600"/>
                <a:ext cx="0" cy="165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978520" y="1144440"/>
                <a:ext cx="258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780160" y="13240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>
                <a:off x="5713560" y="139392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3546360" y="1110960"/>
              <a:ext cx="349200" cy="352440"/>
              <a:chOff x="3546360" y="1110960"/>
              <a:chExt cx="349200" cy="352440"/>
            </a:xfrm>
          </p:grpSpPr>
          <p:sp>
            <p:nvSpPr>
              <p:cNvPr id="2664" name=""/>
              <p:cNvSpPr/>
              <p:nvPr/>
            </p:nvSpPr>
            <p:spPr>
              <a:xfrm>
                <a:off x="3546360" y="111420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546360" y="1114200"/>
                <a:ext cx="34272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3547800" y="111096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3930480" y="1146240"/>
              <a:ext cx="1028520" cy="338400"/>
              <a:chOff x="3930480" y="1146240"/>
              <a:chExt cx="1028520" cy="338400"/>
            </a:xfrm>
          </p:grpSpPr>
          <p:sp>
            <p:nvSpPr>
              <p:cNvPr id="2668" name=""/>
              <p:cNvSpPr/>
              <p:nvPr/>
            </p:nvSpPr>
            <p:spPr>
              <a:xfrm>
                <a:off x="4692240" y="1146240"/>
                <a:ext cx="266760" cy="2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4705200" y="116064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4820760" y="1148040"/>
                <a:ext cx="0" cy="253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936600" y="127800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930480" y="119880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271040" y="1238400"/>
                <a:ext cx="42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Times New Roman"/>
                  </a:rPr>
                  <a:t>Hs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171680" y="13384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>
                <a:off x="4104720" y="140832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6" name=""/>
            <p:cNvGrpSpPr/>
            <p:nvPr/>
          </p:nvGrpSpPr>
          <p:grpSpPr>
            <a:xfrm>
              <a:off x="4873680" y="6811560"/>
              <a:ext cx="1062000" cy="378720"/>
              <a:chOff x="4873680" y="6811560"/>
              <a:chExt cx="1062000" cy="378720"/>
            </a:xfrm>
          </p:grpSpPr>
          <p:sp>
            <p:nvSpPr>
              <p:cNvPr id="2677" name=""/>
              <p:cNvSpPr/>
              <p:nvPr/>
            </p:nvSpPr>
            <p:spPr>
              <a:xfrm flipH="1">
                <a:off x="4881600" y="700560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V="1">
                <a:off x="4873680" y="692640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618160" y="687060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rot="5400000">
                <a:off x="5546880" y="6801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873680" y="5979600"/>
              <a:ext cx="1062000" cy="378720"/>
              <a:chOff x="4873680" y="5979600"/>
              <a:chExt cx="1062000" cy="378720"/>
            </a:xfrm>
          </p:grpSpPr>
          <p:sp>
            <p:nvSpPr>
              <p:cNvPr id="2682" name=""/>
              <p:cNvSpPr/>
              <p:nvPr/>
            </p:nvSpPr>
            <p:spPr>
              <a:xfrm flipH="1">
                <a:off x="4881600" y="617364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4873680" y="609444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618160" y="603864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rot="5400000">
                <a:off x="5546880" y="59695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6" name=""/>
            <p:cNvGrpSpPr/>
            <p:nvPr/>
          </p:nvGrpSpPr>
          <p:grpSpPr>
            <a:xfrm>
              <a:off x="4873680" y="5157360"/>
              <a:ext cx="1062000" cy="378720"/>
              <a:chOff x="4873680" y="5157360"/>
              <a:chExt cx="1062000" cy="378720"/>
            </a:xfrm>
          </p:grpSpPr>
          <p:sp>
            <p:nvSpPr>
              <p:cNvPr id="2687" name=""/>
              <p:cNvSpPr/>
              <p:nvPr/>
            </p:nvSpPr>
            <p:spPr>
              <a:xfrm flipH="1">
                <a:off x="4881600" y="535140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4873680" y="527220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618160" y="521640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rot="5400000">
                <a:off x="5546880" y="51472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1" name=""/>
            <p:cNvGrpSpPr/>
            <p:nvPr/>
          </p:nvGrpSpPr>
          <p:grpSpPr>
            <a:xfrm>
              <a:off x="5981760" y="3512520"/>
              <a:ext cx="1062000" cy="378720"/>
              <a:chOff x="5981760" y="3512520"/>
              <a:chExt cx="1062000" cy="378720"/>
            </a:xfrm>
          </p:grpSpPr>
          <p:sp>
            <p:nvSpPr>
              <p:cNvPr id="2692" name=""/>
              <p:cNvSpPr/>
              <p:nvPr/>
            </p:nvSpPr>
            <p:spPr>
              <a:xfrm flipH="1">
                <a:off x="5989680" y="370656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5981760" y="362736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726240" y="357156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rot="5400000">
                <a:off x="6654960" y="3502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7461360" y="3568680"/>
              <a:ext cx="1455480" cy="498600"/>
              <a:chOff x="7461360" y="3568680"/>
              <a:chExt cx="1455480" cy="498600"/>
            </a:xfrm>
          </p:grpSpPr>
          <p:sp>
            <p:nvSpPr>
              <p:cNvPr id="2697" name=""/>
              <p:cNvSpPr/>
              <p:nvPr/>
            </p:nvSpPr>
            <p:spPr>
              <a:xfrm>
                <a:off x="7461360" y="365112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778960" y="363708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745480" y="3903480"/>
                <a:ext cx="171360" cy="163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139240" y="366228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62800" y="3568680"/>
                <a:ext cx="0" cy="165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09920" y="3611520"/>
                <a:ext cx="29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732800" y="379080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66200" y="386064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7068960" y="3580920"/>
              <a:ext cx="347760" cy="352440"/>
              <a:chOff x="7068960" y="3580920"/>
              <a:chExt cx="347760" cy="352440"/>
            </a:xfrm>
          </p:grpSpPr>
          <p:sp>
            <p:nvSpPr>
              <p:cNvPr id="2706" name=""/>
              <p:cNvSpPr/>
              <p:nvPr/>
            </p:nvSpPr>
            <p:spPr>
              <a:xfrm>
                <a:off x="7074000" y="35845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074000" y="3584520"/>
                <a:ext cx="34272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V="1">
                <a:off x="7068960" y="358092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9" name=""/>
            <p:cNvGrpSpPr/>
            <p:nvPr/>
          </p:nvGrpSpPr>
          <p:grpSpPr>
            <a:xfrm>
              <a:off x="6899400" y="5362200"/>
              <a:ext cx="347400" cy="352440"/>
              <a:chOff x="6899400" y="5362200"/>
              <a:chExt cx="347400" cy="352440"/>
            </a:xfrm>
          </p:grpSpPr>
          <p:grpSp>
            <p:nvGrpSpPr>
              <p:cNvPr id="2710" name=""/>
              <p:cNvGrpSpPr/>
              <p:nvPr/>
            </p:nvGrpSpPr>
            <p:grpSpPr>
              <a:xfrm>
                <a:off x="6900480" y="5365440"/>
                <a:ext cx="342720" cy="344520"/>
                <a:chOff x="6900480" y="5365440"/>
                <a:chExt cx="342720" cy="34452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6900480" y="53654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900480" y="53654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3" name=""/>
              <p:cNvSpPr/>
              <p:nvPr/>
            </p:nvSpPr>
            <p:spPr>
              <a:xfrm flipV="1">
                <a:off x="6899400" y="536220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4" name=""/>
            <p:cNvSpPr/>
            <p:nvPr/>
          </p:nvSpPr>
          <p:spPr>
            <a:xfrm>
              <a:off x="6586200" y="57268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665840" y="57268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459120" y="66351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6935760" y="685764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8" name=""/>
            <p:cNvGrpSpPr/>
            <p:nvPr/>
          </p:nvGrpSpPr>
          <p:grpSpPr>
            <a:xfrm>
              <a:off x="5998680" y="6643800"/>
              <a:ext cx="142920" cy="139680"/>
              <a:chOff x="5998680" y="6643800"/>
              <a:chExt cx="142920" cy="139680"/>
            </a:xfrm>
          </p:grpSpPr>
          <p:sp>
            <p:nvSpPr>
              <p:cNvPr id="2719" name=""/>
              <p:cNvSpPr/>
              <p:nvPr/>
            </p:nvSpPr>
            <p:spPr>
              <a:xfrm>
                <a:off x="6065640" y="66438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>
                <a:off x="5998680" y="67136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1" name=""/>
            <p:cNvGrpSpPr/>
            <p:nvPr/>
          </p:nvGrpSpPr>
          <p:grpSpPr>
            <a:xfrm>
              <a:off x="6322680" y="7083360"/>
              <a:ext cx="142920" cy="139680"/>
              <a:chOff x="6322680" y="7083360"/>
              <a:chExt cx="142920" cy="139680"/>
            </a:xfrm>
          </p:grpSpPr>
          <p:sp>
            <p:nvSpPr>
              <p:cNvPr id="2722" name=""/>
              <p:cNvSpPr/>
              <p:nvPr/>
            </p:nvSpPr>
            <p:spPr>
              <a:xfrm>
                <a:off x="6389640" y="7083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6322680" y="71532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4" name=""/>
            <p:cNvGrpSpPr/>
            <p:nvPr/>
          </p:nvGrpSpPr>
          <p:grpSpPr>
            <a:xfrm>
              <a:off x="5998680" y="5816520"/>
              <a:ext cx="142920" cy="139680"/>
              <a:chOff x="5998680" y="5816520"/>
              <a:chExt cx="142920" cy="139680"/>
            </a:xfrm>
          </p:grpSpPr>
          <p:sp>
            <p:nvSpPr>
              <p:cNvPr id="2725" name=""/>
              <p:cNvSpPr/>
              <p:nvPr/>
            </p:nvSpPr>
            <p:spPr>
              <a:xfrm>
                <a:off x="6065640" y="5816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>
                <a:off x="5998680" y="58863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6000480" y="4983120"/>
              <a:ext cx="142920" cy="139680"/>
              <a:chOff x="6000480" y="4983120"/>
              <a:chExt cx="142920" cy="139680"/>
            </a:xfrm>
          </p:grpSpPr>
          <p:sp>
            <p:nvSpPr>
              <p:cNvPr id="2728" name=""/>
              <p:cNvSpPr/>
              <p:nvPr/>
            </p:nvSpPr>
            <p:spPr>
              <a:xfrm>
                <a:off x="6067440" y="49831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6000480" y="50529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0" name=""/>
            <p:cNvSpPr/>
            <p:nvPr/>
          </p:nvSpPr>
          <p:spPr>
            <a:xfrm>
              <a:off x="5907240" y="48736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911920" y="56973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905440" y="65246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3" name=""/>
            <p:cNvGrpSpPr/>
            <p:nvPr/>
          </p:nvGrpSpPr>
          <p:grpSpPr>
            <a:xfrm>
              <a:off x="7648560" y="5355720"/>
              <a:ext cx="347760" cy="352440"/>
              <a:chOff x="7648560" y="5355720"/>
              <a:chExt cx="347760" cy="352440"/>
            </a:xfrm>
          </p:grpSpPr>
          <p:grpSp>
            <p:nvGrpSpPr>
              <p:cNvPr id="2734" name=""/>
              <p:cNvGrpSpPr/>
              <p:nvPr/>
            </p:nvGrpSpPr>
            <p:grpSpPr>
              <a:xfrm>
                <a:off x="7650000" y="5359320"/>
                <a:ext cx="343080" cy="344520"/>
                <a:chOff x="7650000" y="5359320"/>
                <a:chExt cx="343080" cy="3445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7650000" y="53593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7650000" y="53593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7" name=""/>
              <p:cNvSpPr/>
              <p:nvPr/>
            </p:nvSpPr>
            <p:spPr>
              <a:xfrm flipV="1">
                <a:off x="7648560" y="53557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"/>
          <p:cNvGrpSpPr/>
          <p:nvPr/>
        </p:nvGrpSpPr>
        <p:grpSpPr>
          <a:xfrm>
            <a:off x="-3162240" y="-111960"/>
            <a:ext cx="17172000" cy="9386280"/>
            <a:chOff x="-3162240" y="-111960"/>
            <a:chExt cx="17172000" cy="9386280"/>
          </a:xfrm>
        </p:grpSpPr>
        <p:sp>
          <p:nvSpPr>
            <p:cNvPr id="2739" name=""/>
            <p:cNvSpPr/>
            <p:nvPr/>
          </p:nvSpPr>
          <p:spPr>
            <a:xfrm flipV="1">
              <a:off x="2317680" y="1674000"/>
              <a:ext cx="482940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410600" y="838440"/>
              <a:ext cx="3400200" cy="1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257880" y="1674360"/>
              <a:ext cx="775188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068480" y="852480"/>
              <a:ext cx="814320" cy="3380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-52560" y="6840"/>
              <a:ext cx="924264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 flipV="1">
              <a:off x="767880" y="58320"/>
              <a:ext cx="343080" cy="3430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-1868400" y="835200"/>
              <a:ext cx="11469600" cy="28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 flipV="1">
              <a:off x="1112760" y="401400"/>
              <a:ext cx="1322640" cy="1323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7" name=""/>
            <p:cNvGrpSpPr/>
            <p:nvPr/>
          </p:nvGrpSpPr>
          <p:grpSpPr>
            <a:xfrm>
              <a:off x="1314360" y="247680"/>
              <a:ext cx="342720" cy="344520"/>
              <a:chOff x="1314360" y="247680"/>
              <a:chExt cx="342720" cy="344520"/>
            </a:xfrm>
          </p:grpSpPr>
          <p:sp>
            <p:nvSpPr>
              <p:cNvPr id="2748" name=""/>
              <p:cNvSpPr/>
              <p:nvPr/>
            </p:nvSpPr>
            <p:spPr>
              <a:xfrm>
                <a:off x="1314360" y="24768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314360" y="24768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 flipV="1">
              <a:off x="1311120" y="239400"/>
              <a:ext cx="3495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05880" y="516960"/>
              <a:ext cx="6944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EKW 114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76400" y="3063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1009800" y="376200"/>
              <a:ext cx="14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5160" y="-111960"/>
              <a:ext cx="6973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17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1544760" y="871200"/>
              <a:ext cx="2519280" cy="25160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1314360" y="11556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74480" y="425520"/>
              <a:ext cx="405000" cy="404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5375160" y="52200"/>
              <a:ext cx="379440" cy="3776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563800" y="-9900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993200" y="640800"/>
              <a:ext cx="6973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40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1" name=""/>
            <p:cNvGrpSpPr/>
            <p:nvPr/>
          </p:nvGrpSpPr>
          <p:grpSpPr>
            <a:xfrm>
              <a:off x="5695920" y="274320"/>
              <a:ext cx="349200" cy="352800"/>
              <a:chOff x="5695920" y="274320"/>
              <a:chExt cx="349200" cy="352800"/>
            </a:xfrm>
          </p:grpSpPr>
          <p:grpSp>
            <p:nvGrpSpPr>
              <p:cNvPr id="2762" name=""/>
              <p:cNvGrpSpPr/>
              <p:nvPr/>
            </p:nvGrpSpPr>
            <p:grpSpPr>
              <a:xfrm>
                <a:off x="5698800" y="282600"/>
                <a:ext cx="342720" cy="344520"/>
                <a:chOff x="5698800" y="282600"/>
                <a:chExt cx="342720" cy="34452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698800" y="2826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5698800" y="2826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5" name=""/>
              <p:cNvSpPr/>
              <p:nvPr/>
            </p:nvSpPr>
            <p:spPr>
              <a:xfrm flipV="1">
                <a:off x="5695920" y="27432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6" name=""/>
            <p:cNvSpPr/>
            <p:nvPr/>
          </p:nvSpPr>
          <p:spPr>
            <a:xfrm flipV="1">
              <a:off x="6041880" y="12816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557360" y="-5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1490400" y="1260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9" name=""/>
            <p:cNvGrpSpPr/>
            <p:nvPr/>
          </p:nvGrpSpPr>
          <p:grpSpPr>
            <a:xfrm>
              <a:off x="5033520" y="-61920"/>
              <a:ext cx="142920" cy="139680"/>
              <a:chOff x="5033520" y="-61920"/>
              <a:chExt cx="142920" cy="139680"/>
            </a:xfrm>
          </p:grpSpPr>
          <p:sp>
            <p:nvSpPr>
              <p:cNvPr id="2770" name=""/>
              <p:cNvSpPr/>
              <p:nvPr/>
            </p:nvSpPr>
            <p:spPr>
              <a:xfrm>
                <a:off x="5100480" y="-61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H="1">
                <a:off x="5033520" y="7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5281200" y="376200"/>
              <a:ext cx="142920" cy="139680"/>
              <a:chOff x="5281200" y="376200"/>
              <a:chExt cx="142920" cy="139680"/>
            </a:xfrm>
          </p:grpSpPr>
          <p:sp>
            <p:nvSpPr>
              <p:cNvPr id="2773" name=""/>
              <p:cNvSpPr/>
              <p:nvPr/>
            </p:nvSpPr>
            <p:spPr>
              <a:xfrm>
                <a:off x="5348160" y="376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5281200" y="446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5" name=""/>
            <p:cNvSpPr/>
            <p:nvPr/>
          </p:nvSpPr>
          <p:spPr>
            <a:xfrm flipV="1">
              <a:off x="3774960" y="1688760"/>
              <a:ext cx="5307120" cy="53118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2123280" y="1665360"/>
              <a:ext cx="5799240" cy="5797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2532960" y="1652400"/>
              <a:ext cx="4205160" cy="42051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8" name=""/>
            <p:cNvGrpSpPr/>
            <p:nvPr/>
          </p:nvGrpSpPr>
          <p:grpSpPr>
            <a:xfrm>
              <a:off x="5746320" y="765000"/>
              <a:ext cx="142920" cy="139680"/>
              <a:chOff x="5746320" y="765000"/>
              <a:chExt cx="142920" cy="139680"/>
            </a:xfrm>
          </p:grpSpPr>
          <p:sp>
            <p:nvSpPr>
              <p:cNvPr id="2779" name=""/>
              <p:cNvSpPr/>
              <p:nvPr/>
            </p:nvSpPr>
            <p:spPr>
              <a:xfrm>
                <a:off x="5813280" y="765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H="1">
                <a:off x="5746320" y="834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 flipV="1">
              <a:off x="5810400" y="1255320"/>
              <a:ext cx="404640" cy="405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6210360" y="882360"/>
              <a:ext cx="379440" cy="377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64080" y="8359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60480" y="1423440"/>
              <a:ext cx="4899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29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5" name=""/>
            <p:cNvGrpSpPr/>
            <p:nvPr/>
          </p:nvGrpSpPr>
          <p:grpSpPr>
            <a:xfrm>
              <a:off x="5524560" y="1056960"/>
              <a:ext cx="349200" cy="352800"/>
              <a:chOff x="5524560" y="1056960"/>
              <a:chExt cx="349200" cy="35280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5527440" y="1065240"/>
                <a:ext cx="342720" cy="344520"/>
                <a:chOff x="5527440" y="1065240"/>
                <a:chExt cx="342720" cy="34452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5527440" y="10652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527440" y="10652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9" name=""/>
              <p:cNvSpPr/>
              <p:nvPr/>
            </p:nvSpPr>
            <p:spPr>
              <a:xfrm flipV="1">
                <a:off x="5524560" y="105696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0" name=""/>
            <p:cNvGrpSpPr/>
            <p:nvPr/>
          </p:nvGrpSpPr>
          <p:grpSpPr>
            <a:xfrm>
              <a:off x="6048000" y="765000"/>
              <a:ext cx="142920" cy="139680"/>
              <a:chOff x="6048000" y="765000"/>
              <a:chExt cx="142920" cy="139680"/>
            </a:xfrm>
          </p:grpSpPr>
          <p:sp>
            <p:nvSpPr>
              <p:cNvPr id="2791" name=""/>
              <p:cNvSpPr/>
              <p:nvPr/>
            </p:nvSpPr>
            <p:spPr>
              <a:xfrm>
                <a:off x="6114960" y="765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H="1">
                <a:off x="6048000" y="834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"/>
            <p:cNvGrpSpPr/>
            <p:nvPr/>
          </p:nvGrpSpPr>
          <p:grpSpPr>
            <a:xfrm>
              <a:off x="6138360" y="1190520"/>
              <a:ext cx="142920" cy="139680"/>
              <a:chOff x="6138360" y="1190520"/>
              <a:chExt cx="142920" cy="139680"/>
            </a:xfrm>
          </p:grpSpPr>
          <p:sp>
            <p:nvSpPr>
              <p:cNvPr id="2794" name=""/>
              <p:cNvSpPr/>
              <p:nvPr/>
            </p:nvSpPr>
            <p:spPr>
              <a:xfrm>
                <a:off x="6205320" y="1190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H="1">
                <a:off x="6138360" y="1260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6025680" y="1609560"/>
              <a:ext cx="142920" cy="139680"/>
              <a:chOff x="6025680" y="1609560"/>
              <a:chExt cx="142920" cy="139680"/>
            </a:xfrm>
          </p:grpSpPr>
          <p:sp>
            <p:nvSpPr>
              <p:cNvPr id="2797" name=""/>
              <p:cNvSpPr/>
              <p:nvPr/>
            </p:nvSpPr>
            <p:spPr>
              <a:xfrm>
                <a:off x="6092640" y="16095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>
                <a:off x="6025680" y="16794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9" name=""/>
            <p:cNvGrpSpPr/>
            <p:nvPr/>
          </p:nvGrpSpPr>
          <p:grpSpPr>
            <a:xfrm>
              <a:off x="6283080" y="1606680"/>
              <a:ext cx="142920" cy="139680"/>
              <a:chOff x="6283080" y="1606680"/>
              <a:chExt cx="142920" cy="139680"/>
            </a:xfrm>
          </p:grpSpPr>
          <p:sp>
            <p:nvSpPr>
              <p:cNvPr id="2800" name=""/>
              <p:cNvSpPr/>
              <p:nvPr/>
            </p:nvSpPr>
            <p:spPr>
              <a:xfrm>
                <a:off x="6350040" y="16066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>
                <a:off x="6283080" y="16765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2" name=""/>
            <p:cNvSpPr/>
            <p:nvPr/>
          </p:nvSpPr>
          <p:spPr>
            <a:xfrm>
              <a:off x="5864400" y="1066680"/>
              <a:ext cx="520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3" name=""/>
            <p:cNvGrpSpPr/>
            <p:nvPr/>
          </p:nvGrpSpPr>
          <p:grpSpPr>
            <a:xfrm>
              <a:off x="6732720" y="1825200"/>
              <a:ext cx="349200" cy="352800"/>
              <a:chOff x="6732720" y="1825200"/>
              <a:chExt cx="349200" cy="352800"/>
            </a:xfrm>
          </p:grpSpPr>
          <p:grpSp>
            <p:nvGrpSpPr>
              <p:cNvPr id="2804" name=""/>
              <p:cNvGrpSpPr/>
              <p:nvPr/>
            </p:nvGrpSpPr>
            <p:grpSpPr>
              <a:xfrm>
                <a:off x="6735600" y="1833480"/>
                <a:ext cx="342720" cy="344520"/>
                <a:chOff x="6735600" y="1833480"/>
                <a:chExt cx="342720" cy="34452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6735600" y="1833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735600" y="1833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7" name=""/>
              <p:cNvSpPr/>
              <p:nvPr/>
            </p:nvSpPr>
            <p:spPr>
              <a:xfrm flipV="1">
                <a:off x="6732720" y="182520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8975880" y="1820520"/>
              <a:ext cx="349200" cy="352800"/>
              <a:chOff x="8975880" y="1820520"/>
              <a:chExt cx="349200" cy="352800"/>
            </a:xfrm>
          </p:grpSpPr>
          <p:grpSp>
            <p:nvGrpSpPr>
              <p:cNvPr id="2809" name=""/>
              <p:cNvGrpSpPr/>
              <p:nvPr/>
            </p:nvGrpSpPr>
            <p:grpSpPr>
              <a:xfrm>
                <a:off x="8978760" y="1828800"/>
                <a:ext cx="342720" cy="344520"/>
                <a:chOff x="8978760" y="1828800"/>
                <a:chExt cx="342720" cy="344520"/>
              </a:xfrm>
            </p:grpSpPr>
            <p:sp>
              <p:nvSpPr>
                <p:cNvPr id="2810" name=""/>
                <p:cNvSpPr/>
                <p:nvPr/>
              </p:nvSpPr>
              <p:spPr>
                <a:xfrm>
                  <a:off x="8978760" y="18288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8978760" y="18288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2" name=""/>
              <p:cNvSpPr/>
              <p:nvPr/>
            </p:nvSpPr>
            <p:spPr>
              <a:xfrm flipV="1">
                <a:off x="8975880" y="182052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3" name=""/>
            <p:cNvGrpSpPr/>
            <p:nvPr/>
          </p:nvGrpSpPr>
          <p:grpSpPr>
            <a:xfrm>
              <a:off x="7862760" y="1825200"/>
              <a:ext cx="349200" cy="352800"/>
              <a:chOff x="7862760" y="1825200"/>
              <a:chExt cx="349200" cy="352800"/>
            </a:xfrm>
          </p:grpSpPr>
          <p:grpSp>
            <p:nvGrpSpPr>
              <p:cNvPr id="2814" name=""/>
              <p:cNvGrpSpPr/>
              <p:nvPr/>
            </p:nvGrpSpPr>
            <p:grpSpPr>
              <a:xfrm>
                <a:off x="7865640" y="1833480"/>
                <a:ext cx="342720" cy="344520"/>
                <a:chOff x="7865640" y="1833480"/>
                <a:chExt cx="342720" cy="34452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7865640" y="1833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7865640" y="1833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7" name=""/>
              <p:cNvSpPr/>
              <p:nvPr/>
            </p:nvSpPr>
            <p:spPr>
              <a:xfrm flipV="1">
                <a:off x="7862760" y="182520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8" name=""/>
            <p:cNvSpPr/>
            <p:nvPr/>
          </p:nvSpPr>
          <p:spPr>
            <a:xfrm>
              <a:off x="8843760" y="15994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731000" y="15994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600600" y="16041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1" name=""/>
            <p:cNvGrpSpPr/>
            <p:nvPr/>
          </p:nvGrpSpPr>
          <p:grpSpPr>
            <a:xfrm>
              <a:off x="8225280" y="2034000"/>
              <a:ext cx="937440" cy="942120"/>
              <a:chOff x="8225280" y="2034000"/>
              <a:chExt cx="937440" cy="942120"/>
            </a:xfrm>
          </p:grpSpPr>
          <p:sp>
            <p:nvSpPr>
              <p:cNvPr id="2822" name=""/>
              <p:cNvSpPr/>
              <p:nvPr/>
            </p:nvSpPr>
            <p:spPr>
              <a:xfrm flipH="1">
                <a:off x="8287920" y="2388960"/>
                <a:ext cx="526320" cy="525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H="1" flipV="1">
                <a:off x="8225280" y="2864880"/>
                <a:ext cx="111240" cy="11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rot="18903000">
                <a:off x="8773920" y="2193840"/>
                <a:ext cx="193320" cy="251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rot="2703000">
                <a:off x="8698320" y="210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6" name=""/>
            <p:cNvSpPr/>
            <p:nvPr/>
          </p:nvSpPr>
          <p:spPr>
            <a:xfrm flipH="1" flipV="1">
              <a:off x="8421120" y="2105280"/>
              <a:ext cx="238680" cy="237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292520" y="2052360"/>
              <a:ext cx="24336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8" name=""/>
            <p:cNvGrpSpPr/>
            <p:nvPr/>
          </p:nvGrpSpPr>
          <p:grpSpPr>
            <a:xfrm>
              <a:off x="6252840" y="1998720"/>
              <a:ext cx="142920" cy="139680"/>
              <a:chOff x="6252840" y="1998720"/>
              <a:chExt cx="142920" cy="139680"/>
            </a:xfrm>
          </p:grpSpPr>
          <p:sp>
            <p:nvSpPr>
              <p:cNvPr id="2829" name=""/>
              <p:cNvSpPr/>
              <p:nvPr/>
            </p:nvSpPr>
            <p:spPr>
              <a:xfrm>
                <a:off x="6319800" y="1998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H="1">
                <a:off x="6252840" y="20685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1" name=""/>
            <p:cNvGrpSpPr/>
            <p:nvPr/>
          </p:nvGrpSpPr>
          <p:grpSpPr>
            <a:xfrm>
              <a:off x="7437600" y="1998720"/>
              <a:ext cx="142560" cy="139680"/>
              <a:chOff x="7437600" y="1998720"/>
              <a:chExt cx="142560" cy="139680"/>
            </a:xfrm>
          </p:grpSpPr>
          <p:sp>
            <p:nvSpPr>
              <p:cNvPr id="2832" name=""/>
              <p:cNvSpPr/>
              <p:nvPr/>
            </p:nvSpPr>
            <p:spPr>
              <a:xfrm>
                <a:off x="7503840" y="1998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7437600" y="206856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4" name=""/>
            <p:cNvGrpSpPr/>
            <p:nvPr/>
          </p:nvGrpSpPr>
          <p:grpSpPr>
            <a:xfrm>
              <a:off x="8592840" y="2033640"/>
              <a:ext cx="142920" cy="139680"/>
              <a:chOff x="8592840" y="2033640"/>
              <a:chExt cx="142920" cy="139680"/>
            </a:xfrm>
          </p:grpSpPr>
          <p:sp>
            <p:nvSpPr>
              <p:cNvPr id="2835" name=""/>
              <p:cNvSpPr/>
              <p:nvPr/>
            </p:nvSpPr>
            <p:spPr>
              <a:xfrm>
                <a:off x="8659800" y="20336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8592840" y="21034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7" name=""/>
            <p:cNvSpPr/>
            <p:nvPr/>
          </p:nvSpPr>
          <p:spPr>
            <a:xfrm flipV="1">
              <a:off x="-2433240" y="2499840"/>
              <a:ext cx="4829040" cy="1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-3162240" y="3340080"/>
              <a:ext cx="482904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2948040" y="1663560"/>
              <a:ext cx="814320" cy="3384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58840" y="73440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292560" y="1474200"/>
              <a:ext cx="6897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EKW 126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2" name=""/>
            <p:cNvGrpSpPr/>
            <p:nvPr/>
          </p:nvGrpSpPr>
          <p:grpSpPr>
            <a:xfrm>
              <a:off x="3990960" y="1107720"/>
              <a:ext cx="349200" cy="352800"/>
              <a:chOff x="3990960" y="1107720"/>
              <a:chExt cx="349200" cy="352800"/>
            </a:xfrm>
          </p:grpSpPr>
          <p:grpSp>
            <p:nvGrpSpPr>
              <p:cNvPr id="2843" name=""/>
              <p:cNvGrpSpPr/>
              <p:nvPr/>
            </p:nvGrpSpPr>
            <p:grpSpPr>
              <a:xfrm>
                <a:off x="3993840" y="1116000"/>
                <a:ext cx="342720" cy="344520"/>
                <a:chOff x="3993840" y="1116000"/>
                <a:chExt cx="342720" cy="34452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3993840" y="11160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3993840" y="11160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6" name=""/>
              <p:cNvSpPr/>
              <p:nvPr/>
            </p:nvSpPr>
            <p:spPr>
              <a:xfrm flipV="1">
                <a:off x="3990960" y="110772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7" name=""/>
            <p:cNvSpPr/>
            <p:nvPr/>
          </p:nvSpPr>
          <p:spPr>
            <a:xfrm flipV="1">
              <a:off x="4336920" y="96156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8" name=""/>
            <p:cNvGrpSpPr/>
            <p:nvPr/>
          </p:nvGrpSpPr>
          <p:grpSpPr>
            <a:xfrm>
              <a:off x="3328560" y="771480"/>
              <a:ext cx="142920" cy="139680"/>
              <a:chOff x="3328560" y="771480"/>
              <a:chExt cx="142920" cy="139680"/>
            </a:xfrm>
          </p:grpSpPr>
          <p:sp>
            <p:nvSpPr>
              <p:cNvPr id="2849" name=""/>
              <p:cNvSpPr/>
              <p:nvPr/>
            </p:nvSpPr>
            <p:spPr>
              <a:xfrm>
                <a:off x="3395520" y="7714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>
                <a:off x="3328560" y="8413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1" name=""/>
            <p:cNvGrpSpPr/>
            <p:nvPr/>
          </p:nvGrpSpPr>
          <p:grpSpPr>
            <a:xfrm>
              <a:off x="3576240" y="1209600"/>
              <a:ext cx="142920" cy="139680"/>
              <a:chOff x="3576240" y="1209600"/>
              <a:chExt cx="142920" cy="139680"/>
            </a:xfrm>
          </p:grpSpPr>
          <p:sp>
            <p:nvSpPr>
              <p:cNvPr id="2852" name=""/>
              <p:cNvSpPr/>
              <p:nvPr/>
            </p:nvSpPr>
            <p:spPr>
              <a:xfrm>
                <a:off x="3643200" y="1209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H="1">
                <a:off x="3576240" y="1279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4" name=""/>
            <p:cNvGrpSpPr/>
            <p:nvPr/>
          </p:nvGrpSpPr>
          <p:grpSpPr>
            <a:xfrm>
              <a:off x="4053960" y="1595520"/>
              <a:ext cx="142920" cy="139680"/>
              <a:chOff x="4053960" y="1595520"/>
              <a:chExt cx="142920" cy="139680"/>
            </a:xfrm>
          </p:grpSpPr>
          <p:sp>
            <p:nvSpPr>
              <p:cNvPr id="2855" name=""/>
              <p:cNvSpPr/>
              <p:nvPr/>
            </p:nvSpPr>
            <p:spPr>
              <a:xfrm>
                <a:off x="4120920" y="1595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H="1">
                <a:off x="4053960" y="1665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7" name=""/>
            <p:cNvSpPr/>
            <p:nvPr/>
          </p:nvSpPr>
          <p:spPr>
            <a:xfrm>
              <a:off x="2409480" y="1608840"/>
              <a:ext cx="6944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EKW 126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500480" y="963000"/>
              <a:ext cx="6897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EKW 114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9" name=""/>
            <p:cNvGrpSpPr/>
            <p:nvPr/>
          </p:nvGrpSpPr>
          <p:grpSpPr>
            <a:xfrm>
              <a:off x="2392200" y="1109160"/>
              <a:ext cx="349200" cy="352800"/>
              <a:chOff x="2392200" y="1109160"/>
              <a:chExt cx="349200" cy="352800"/>
            </a:xfrm>
          </p:grpSpPr>
          <p:grpSp>
            <p:nvGrpSpPr>
              <p:cNvPr id="2860" name=""/>
              <p:cNvGrpSpPr/>
              <p:nvPr/>
            </p:nvGrpSpPr>
            <p:grpSpPr>
              <a:xfrm>
                <a:off x="2395080" y="1117440"/>
                <a:ext cx="342720" cy="344520"/>
                <a:chOff x="2395080" y="1117440"/>
                <a:chExt cx="342720" cy="344520"/>
              </a:xfrm>
            </p:grpSpPr>
            <p:sp>
              <p:nvSpPr>
                <p:cNvPr id="2861" name=""/>
                <p:cNvSpPr/>
                <p:nvPr/>
              </p:nvSpPr>
              <p:spPr>
                <a:xfrm>
                  <a:off x="2395080" y="11174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2395080" y="11174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3" name=""/>
              <p:cNvSpPr/>
              <p:nvPr/>
            </p:nvSpPr>
            <p:spPr>
              <a:xfrm flipV="1">
                <a:off x="2392200" y="110916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4" name=""/>
            <p:cNvSpPr/>
            <p:nvPr/>
          </p:nvSpPr>
          <p:spPr>
            <a:xfrm flipV="1">
              <a:off x="2395440" y="1442520"/>
              <a:ext cx="0" cy="142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95640" y="1117440"/>
              <a:ext cx="188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6" name=""/>
            <p:cNvGrpSpPr/>
            <p:nvPr/>
          </p:nvGrpSpPr>
          <p:grpSpPr>
            <a:xfrm>
              <a:off x="2128320" y="771480"/>
              <a:ext cx="142920" cy="139680"/>
              <a:chOff x="2128320" y="771480"/>
              <a:chExt cx="142920" cy="139680"/>
            </a:xfrm>
          </p:grpSpPr>
          <p:sp>
            <p:nvSpPr>
              <p:cNvPr id="2867" name=""/>
              <p:cNvSpPr/>
              <p:nvPr/>
            </p:nvSpPr>
            <p:spPr>
              <a:xfrm>
                <a:off x="2195280" y="7714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>
                <a:off x="2128320" y="8413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9" name=""/>
            <p:cNvGrpSpPr/>
            <p:nvPr/>
          </p:nvGrpSpPr>
          <p:grpSpPr>
            <a:xfrm>
              <a:off x="2082960" y="1365120"/>
              <a:ext cx="142560" cy="139680"/>
              <a:chOff x="2082960" y="1365120"/>
              <a:chExt cx="142560" cy="139680"/>
            </a:xfrm>
          </p:grpSpPr>
          <p:sp>
            <p:nvSpPr>
              <p:cNvPr id="2870" name=""/>
              <p:cNvSpPr/>
              <p:nvPr/>
            </p:nvSpPr>
            <p:spPr>
              <a:xfrm>
                <a:off x="2149200" y="13651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2082960" y="143496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2" name=""/>
            <p:cNvGrpSpPr/>
            <p:nvPr/>
          </p:nvGrpSpPr>
          <p:grpSpPr>
            <a:xfrm>
              <a:off x="921960" y="784080"/>
              <a:ext cx="142920" cy="139680"/>
              <a:chOff x="921960" y="784080"/>
              <a:chExt cx="142920" cy="139680"/>
            </a:xfrm>
          </p:grpSpPr>
          <p:sp>
            <p:nvSpPr>
              <p:cNvPr id="2873" name=""/>
              <p:cNvSpPr/>
              <p:nvPr/>
            </p:nvSpPr>
            <p:spPr>
              <a:xfrm>
                <a:off x="988920" y="7840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921960" y="853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1609200" y="2428920"/>
              <a:ext cx="142920" cy="139680"/>
              <a:chOff x="1609200" y="2428920"/>
              <a:chExt cx="142920" cy="139680"/>
            </a:xfrm>
          </p:grpSpPr>
          <p:sp>
            <p:nvSpPr>
              <p:cNvPr id="2876" name=""/>
              <p:cNvSpPr/>
              <p:nvPr/>
            </p:nvSpPr>
            <p:spPr>
              <a:xfrm>
                <a:off x="1676160" y="2428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1609200" y="2498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8" name=""/>
            <p:cNvGrpSpPr/>
            <p:nvPr/>
          </p:nvGrpSpPr>
          <p:grpSpPr>
            <a:xfrm>
              <a:off x="1733040" y="3054240"/>
              <a:ext cx="142920" cy="139680"/>
              <a:chOff x="1733040" y="3054240"/>
              <a:chExt cx="142920" cy="139680"/>
            </a:xfrm>
          </p:grpSpPr>
          <p:sp>
            <p:nvSpPr>
              <p:cNvPr id="2879" name=""/>
              <p:cNvSpPr/>
              <p:nvPr/>
            </p:nvSpPr>
            <p:spPr>
              <a:xfrm>
                <a:off x="1800000" y="3054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1733040" y="31240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1" name=""/>
            <p:cNvSpPr/>
            <p:nvPr/>
          </p:nvSpPr>
          <p:spPr>
            <a:xfrm>
              <a:off x="1467000" y="233028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63760" y="31701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3" name=""/>
            <p:cNvGrpSpPr/>
            <p:nvPr/>
          </p:nvGrpSpPr>
          <p:grpSpPr>
            <a:xfrm>
              <a:off x="2031840" y="2001600"/>
              <a:ext cx="349200" cy="352800"/>
              <a:chOff x="2031840" y="2001600"/>
              <a:chExt cx="349200" cy="352800"/>
            </a:xfrm>
          </p:grpSpPr>
          <p:grpSp>
            <p:nvGrpSpPr>
              <p:cNvPr id="2884" name=""/>
              <p:cNvGrpSpPr/>
              <p:nvPr/>
            </p:nvGrpSpPr>
            <p:grpSpPr>
              <a:xfrm>
                <a:off x="2034720" y="2009880"/>
                <a:ext cx="342720" cy="344520"/>
                <a:chOff x="2034720" y="2009880"/>
                <a:chExt cx="342720" cy="34452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2034720" y="20098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2034720" y="20098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7" name=""/>
              <p:cNvSpPr/>
              <p:nvPr/>
            </p:nvSpPr>
            <p:spPr>
              <a:xfrm flipV="1">
                <a:off x="2031840" y="200160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8" name=""/>
            <p:cNvSpPr/>
            <p:nvPr/>
          </p:nvSpPr>
          <p:spPr>
            <a:xfrm>
              <a:off x="2050920" y="23677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V="1">
              <a:off x="2327400" y="1703520"/>
              <a:ext cx="2519280" cy="25192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-2384280" y="4172040"/>
              <a:ext cx="482904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4358880" y="1593720"/>
              <a:ext cx="142920" cy="139680"/>
              <a:chOff x="4358880" y="1593720"/>
              <a:chExt cx="142920" cy="139680"/>
            </a:xfrm>
          </p:grpSpPr>
          <p:sp>
            <p:nvSpPr>
              <p:cNvPr id="2892" name=""/>
              <p:cNvSpPr/>
              <p:nvPr/>
            </p:nvSpPr>
            <p:spPr>
              <a:xfrm>
                <a:off x="4425840" y="15937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4358880" y="16635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4" name=""/>
            <p:cNvGrpSpPr/>
            <p:nvPr/>
          </p:nvGrpSpPr>
          <p:grpSpPr>
            <a:xfrm>
              <a:off x="4400280" y="2003400"/>
              <a:ext cx="142920" cy="139680"/>
              <a:chOff x="4400280" y="2003400"/>
              <a:chExt cx="142920" cy="139680"/>
            </a:xfrm>
          </p:grpSpPr>
          <p:sp>
            <p:nvSpPr>
              <p:cNvPr id="2895" name=""/>
              <p:cNvSpPr/>
              <p:nvPr/>
            </p:nvSpPr>
            <p:spPr>
              <a:xfrm>
                <a:off x="4467240" y="20034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4400280" y="2073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4775040" y="15915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8" name=""/>
            <p:cNvGrpSpPr/>
            <p:nvPr/>
          </p:nvGrpSpPr>
          <p:grpSpPr>
            <a:xfrm>
              <a:off x="4906800" y="1815840"/>
              <a:ext cx="349200" cy="352800"/>
              <a:chOff x="4906800" y="1815840"/>
              <a:chExt cx="349200" cy="352800"/>
            </a:xfrm>
          </p:grpSpPr>
          <p:grpSp>
            <p:nvGrpSpPr>
              <p:cNvPr id="2899" name=""/>
              <p:cNvGrpSpPr/>
              <p:nvPr/>
            </p:nvGrpSpPr>
            <p:grpSpPr>
              <a:xfrm>
                <a:off x="4909680" y="1824120"/>
                <a:ext cx="342720" cy="344520"/>
                <a:chOff x="4909680" y="1824120"/>
                <a:chExt cx="342720" cy="34452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4909680" y="18241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4909680" y="18241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2" name=""/>
              <p:cNvSpPr/>
              <p:nvPr/>
            </p:nvSpPr>
            <p:spPr>
              <a:xfrm flipV="1">
                <a:off x="4906800" y="181584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3" name=""/>
            <p:cNvSpPr/>
            <p:nvPr/>
          </p:nvSpPr>
          <p:spPr>
            <a:xfrm>
              <a:off x="4219920" y="2087640"/>
              <a:ext cx="242280" cy="2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460520" y="40035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5" name=""/>
            <p:cNvGrpSpPr/>
            <p:nvPr/>
          </p:nvGrpSpPr>
          <p:grpSpPr>
            <a:xfrm>
              <a:off x="3047760" y="2509920"/>
              <a:ext cx="1631520" cy="1499040"/>
              <a:chOff x="3047760" y="2509920"/>
              <a:chExt cx="1631520" cy="1499040"/>
            </a:xfrm>
          </p:grpSpPr>
          <p:grpSp>
            <p:nvGrpSpPr>
              <p:cNvPr id="2906" name=""/>
              <p:cNvGrpSpPr/>
              <p:nvPr/>
            </p:nvGrpSpPr>
            <p:grpSpPr>
              <a:xfrm>
                <a:off x="3047760" y="2509920"/>
                <a:ext cx="1631520" cy="1499040"/>
                <a:chOff x="3047760" y="2509920"/>
                <a:chExt cx="1631520" cy="1499040"/>
              </a:xfrm>
            </p:grpSpPr>
            <p:sp>
              <p:nvSpPr>
                <p:cNvPr id="2907" name=""/>
                <p:cNvSpPr/>
                <p:nvPr/>
              </p:nvSpPr>
              <p:spPr>
                <a:xfrm flipV="1">
                  <a:off x="3353760" y="2511360"/>
                  <a:ext cx="1019880" cy="1014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8909600">
                  <a:off x="4365000" y="2505600"/>
                  <a:ext cx="107640" cy="290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8909600">
                  <a:off x="4474800" y="2714400"/>
                  <a:ext cx="171360" cy="1634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8909600">
                  <a:off x="3811680" y="2872800"/>
                  <a:ext cx="473400" cy="109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8909600">
                  <a:off x="3699360" y="3040200"/>
                  <a:ext cx="26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2" name=""/>
                <p:cNvGrpSpPr/>
                <p:nvPr/>
              </p:nvGrpSpPr>
              <p:grpSpPr>
                <a:xfrm>
                  <a:off x="3047760" y="3521160"/>
                  <a:ext cx="485640" cy="485640"/>
                  <a:chOff x="3047760" y="3521160"/>
                  <a:chExt cx="485640" cy="485640"/>
                </a:xfrm>
              </p:grpSpPr>
              <p:sp>
                <p:nvSpPr>
                  <p:cNvPr id="2913" name=""/>
                  <p:cNvSpPr/>
                  <p:nvPr/>
                </p:nvSpPr>
                <p:spPr>
                  <a:xfrm rot="18909600">
                    <a:off x="3119040" y="359172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3047760" y="3762720"/>
                    <a:ext cx="485640" cy="252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5" name=""/>
                <p:cNvSpPr/>
                <p:nvPr/>
              </p:nvSpPr>
              <p:spPr>
                <a:xfrm flipH="1" flipV="1">
                  <a:off x="3292920" y="3513960"/>
                  <a:ext cx="2160" cy="49500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645000" y="3432960"/>
                  <a:ext cx="98280" cy="9900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H="1">
                  <a:off x="3646440" y="3429360"/>
                  <a:ext cx="101520" cy="10044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8" name=""/>
              <p:cNvSpPr/>
              <p:nvPr/>
            </p:nvSpPr>
            <p:spPr>
              <a:xfrm>
                <a:off x="3309120" y="3476160"/>
                <a:ext cx="9144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9" name=""/>
            <p:cNvSpPr/>
            <p:nvPr/>
          </p:nvSpPr>
          <p:spPr>
            <a:xfrm flipV="1">
              <a:off x="-2179800" y="580716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0" name=""/>
            <p:cNvGrpSpPr/>
            <p:nvPr/>
          </p:nvGrpSpPr>
          <p:grpSpPr>
            <a:xfrm>
              <a:off x="6561720" y="2318760"/>
              <a:ext cx="1197000" cy="1215360"/>
              <a:chOff x="6561720" y="2318760"/>
              <a:chExt cx="1197000" cy="1215360"/>
            </a:xfrm>
          </p:grpSpPr>
          <p:grpSp>
            <p:nvGrpSpPr>
              <p:cNvPr id="2921" name=""/>
              <p:cNvGrpSpPr/>
              <p:nvPr/>
            </p:nvGrpSpPr>
            <p:grpSpPr>
              <a:xfrm>
                <a:off x="6886800" y="2318760"/>
                <a:ext cx="871920" cy="875160"/>
                <a:chOff x="6886800" y="2318760"/>
                <a:chExt cx="871920" cy="875160"/>
              </a:xfrm>
            </p:grpSpPr>
            <p:sp>
              <p:nvSpPr>
                <p:cNvPr id="2922" name=""/>
                <p:cNvSpPr/>
                <p:nvPr/>
              </p:nvSpPr>
              <p:spPr>
                <a:xfrm rot="18899400">
                  <a:off x="7440120" y="2374920"/>
                  <a:ext cx="266400" cy="2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8899400">
                  <a:off x="7453080" y="2389320"/>
                  <a:ext cx="24084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480440" y="2417400"/>
                  <a:ext cx="179280" cy="179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H="1">
                  <a:off x="6946920" y="2608560"/>
                  <a:ext cx="525960" cy="526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886800" y="3083040"/>
                  <a:ext cx="111240" cy="11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rot="18899400">
                  <a:off x="7158240" y="2669040"/>
                  <a:ext cx="488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6561720" y="3045960"/>
                <a:ext cx="486000" cy="486000"/>
                <a:chOff x="6561720" y="3045960"/>
                <a:chExt cx="486000" cy="486000"/>
              </a:xfrm>
            </p:grpSpPr>
            <p:sp>
              <p:nvSpPr>
                <p:cNvPr id="2929" name=""/>
                <p:cNvSpPr/>
                <p:nvPr/>
              </p:nvSpPr>
              <p:spPr>
                <a:xfrm rot="18899400">
                  <a:off x="6633000" y="311652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6561720" y="3288600"/>
                  <a:ext cx="486000" cy="7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1" name=""/>
              <p:cNvSpPr/>
              <p:nvPr/>
            </p:nvSpPr>
            <p:spPr>
              <a:xfrm flipH="1" flipV="1">
                <a:off x="6803640" y="3039120"/>
                <a:ext cx="3240" cy="49500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149960" y="3019320"/>
                <a:ext cx="98640" cy="9864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7147080" y="3019680"/>
                <a:ext cx="101160" cy="1011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4" name=""/>
            <p:cNvGrpSpPr/>
            <p:nvPr/>
          </p:nvGrpSpPr>
          <p:grpSpPr>
            <a:xfrm>
              <a:off x="4848480" y="3457080"/>
              <a:ext cx="1276920" cy="1275840"/>
              <a:chOff x="4848480" y="3457080"/>
              <a:chExt cx="1276920" cy="1275840"/>
            </a:xfrm>
          </p:grpSpPr>
          <p:grpSp>
            <p:nvGrpSpPr>
              <p:cNvPr id="2935" name=""/>
              <p:cNvGrpSpPr/>
              <p:nvPr/>
            </p:nvGrpSpPr>
            <p:grpSpPr>
              <a:xfrm>
                <a:off x="5639040" y="3457080"/>
                <a:ext cx="486360" cy="494640"/>
                <a:chOff x="5639040" y="3457080"/>
                <a:chExt cx="486360" cy="494640"/>
              </a:xfrm>
            </p:grpSpPr>
            <p:grpSp>
              <p:nvGrpSpPr>
                <p:cNvPr id="2936" name=""/>
                <p:cNvGrpSpPr/>
                <p:nvPr/>
              </p:nvGrpSpPr>
              <p:grpSpPr>
                <a:xfrm>
                  <a:off x="5639040" y="3463920"/>
                  <a:ext cx="486360" cy="486000"/>
                  <a:chOff x="5639040" y="3463920"/>
                  <a:chExt cx="486360" cy="486000"/>
                </a:xfrm>
              </p:grpSpPr>
              <p:sp>
                <p:nvSpPr>
                  <p:cNvPr id="2937" name=""/>
                  <p:cNvSpPr/>
                  <p:nvPr/>
                </p:nvSpPr>
                <p:spPr>
                  <a:xfrm rot="18898800">
                    <a:off x="5710320" y="35344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5639040" y="3706560"/>
                    <a:ext cx="486000" cy="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9" name=""/>
                <p:cNvSpPr/>
                <p:nvPr/>
              </p:nvSpPr>
              <p:spPr>
                <a:xfrm flipH="1" flipV="1">
                  <a:off x="5883120" y="345708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0" name=""/>
              <p:cNvSpPr/>
              <p:nvPr/>
            </p:nvSpPr>
            <p:spPr>
              <a:xfrm rot="18898800">
                <a:off x="4835520" y="402084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1" name=""/>
              <p:cNvGrpSpPr/>
              <p:nvPr/>
            </p:nvGrpSpPr>
            <p:grpSpPr>
              <a:xfrm>
                <a:off x="4869000" y="4619880"/>
                <a:ext cx="101160" cy="101160"/>
                <a:chOff x="4869000" y="4619880"/>
                <a:chExt cx="101160" cy="101160"/>
              </a:xfrm>
            </p:grpSpPr>
            <p:sp>
              <p:nvSpPr>
                <p:cNvPr id="2942" name=""/>
                <p:cNvSpPr/>
                <p:nvPr/>
              </p:nvSpPr>
              <p:spPr>
                <a:xfrm>
                  <a:off x="4869360" y="4622040"/>
                  <a:ext cx="98640" cy="986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>
                  <a:off x="4869000" y="4619880"/>
                  <a:ext cx="101160" cy="10116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4" name=""/>
            <p:cNvGrpSpPr/>
            <p:nvPr/>
          </p:nvGrpSpPr>
          <p:grpSpPr>
            <a:xfrm>
              <a:off x="5372280" y="4070160"/>
              <a:ext cx="1326960" cy="1325880"/>
              <a:chOff x="5372280" y="4070160"/>
              <a:chExt cx="1326960" cy="1325880"/>
            </a:xfrm>
          </p:grpSpPr>
          <p:grpSp>
            <p:nvGrpSpPr>
              <p:cNvPr id="2945" name=""/>
              <p:cNvGrpSpPr/>
              <p:nvPr/>
            </p:nvGrpSpPr>
            <p:grpSpPr>
              <a:xfrm>
                <a:off x="6213240" y="4070160"/>
                <a:ext cx="486000" cy="494640"/>
                <a:chOff x="6213240" y="4070160"/>
                <a:chExt cx="486000" cy="494640"/>
              </a:xfrm>
            </p:grpSpPr>
            <p:grpSp>
              <p:nvGrpSpPr>
                <p:cNvPr id="2946" name=""/>
                <p:cNvGrpSpPr/>
                <p:nvPr/>
              </p:nvGrpSpPr>
              <p:grpSpPr>
                <a:xfrm>
                  <a:off x="6213240" y="4077000"/>
                  <a:ext cx="486000" cy="485640"/>
                  <a:chOff x="6213240" y="4077000"/>
                  <a:chExt cx="486000" cy="485640"/>
                </a:xfrm>
              </p:grpSpPr>
              <p:sp>
                <p:nvSpPr>
                  <p:cNvPr id="2947" name=""/>
                  <p:cNvSpPr/>
                  <p:nvPr/>
                </p:nvSpPr>
                <p:spPr>
                  <a:xfrm rot="18899400">
                    <a:off x="6284520" y="4147560"/>
                    <a:ext cx="34272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6213240" y="4319280"/>
                    <a:ext cx="486000" cy="1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9" name=""/>
                <p:cNvSpPr/>
                <p:nvPr/>
              </p:nvSpPr>
              <p:spPr>
                <a:xfrm flipH="1" flipV="1">
                  <a:off x="6456960" y="407016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0" name=""/>
              <p:cNvSpPr/>
              <p:nvPr/>
            </p:nvSpPr>
            <p:spPr>
              <a:xfrm rot="18899400">
                <a:off x="5338440" y="463356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5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1" name=""/>
              <p:cNvGrpSpPr/>
              <p:nvPr/>
            </p:nvGrpSpPr>
            <p:grpSpPr>
              <a:xfrm>
                <a:off x="5444280" y="5232240"/>
                <a:ext cx="101520" cy="101160"/>
                <a:chOff x="5444280" y="5232240"/>
                <a:chExt cx="101520" cy="10116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5444280" y="5234400"/>
                  <a:ext cx="99000" cy="990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H="1">
                  <a:off x="5445000" y="523224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54" name=""/>
            <p:cNvGrpSpPr/>
            <p:nvPr/>
          </p:nvGrpSpPr>
          <p:grpSpPr>
            <a:xfrm>
              <a:off x="2561040" y="2727360"/>
              <a:ext cx="1255320" cy="1263240"/>
              <a:chOff x="2561040" y="2727360"/>
              <a:chExt cx="1255320" cy="1263240"/>
            </a:xfrm>
          </p:grpSpPr>
          <p:grpSp>
            <p:nvGrpSpPr>
              <p:cNvPr id="2955" name=""/>
              <p:cNvGrpSpPr/>
              <p:nvPr/>
            </p:nvGrpSpPr>
            <p:grpSpPr>
              <a:xfrm>
                <a:off x="3330000" y="2727360"/>
                <a:ext cx="486360" cy="494640"/>
                <a:chOff x="3330000" y="2727360"/>
                <a:chExt cx="486360" cy="494640"/>
              </a:xfrm>
            </p:grpSpPr>
            <p:grpSp>
              <p:nvGrpSpPr>
                <p:cNvPr id="2956" name=""/>
                <p:cNvGrpSpPr/>
                <p:nvPr/>
              </p:nvGrpSpPr>
              <p:grpSpPr>
                <a:xfrm>
                  <a:off x="3330000" y="2734200"/>
                  <a:ext cx="486360" cy="486000"/>
                  <a:chOff x="3330000" y="2734200"/>
                  <a:chExt cx="486360" cy="486000"/>
                </a:xfrm>
              </p:grpSpPr>
              <p:sp>
                <p:nvSpPr>
                  <p:cNvPr id="2957" name=""/>
                  <p:cNvSpPr/>
                  <p:nvPr/>
                </p:nvSpPr>
                <p:spPr>
                  <a:xfrm rot="18899400">
                    <a:off x="3401280" y="280476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3330000" y="2976840"/>
                    <a:ext cx="486000" cy="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9" name=""/>
                <p:cNvSpPr/>
                <p:nvPr/>
              </p:nvSpPr>
              <p:spPr>
                <a:xfrm flipH="1" flipV="1">
                  <a:off x="3574080" y="272736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0" name=""/>
              <p:cNvSpPr/>
              <p:nvPr/>
            </p:nvSpPr>
            <p:spPr>
              <a:xfrm rot="18899400">
                <a:off x="2654640" y="3367080"/>
                <a:ext cx="793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Gleis 5 Sü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1" name=""/>
              <p:cNvGrpSpPr/>
              <p:nvPr/>
            </p:nvGrpSpPr>
            <p:grpSpPr>
              <a:xfrm>
                <a:off x="2561040" y="3889800"/>
                <a:ext cx="100800" cy="100800"/>
                <a:chOff x="2561040" y="3889800"/>
                <a:chExt cx="100800" cy="10080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2561040" y="3891600"/>
                  <a:ext cx="99000" cy="990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2561040" y="388980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4" name=""/>
            <p:cNvSpPr/>
            <p:nvPr/>
          </p:nvSpPr>
          <p:spPr>
            <a:xfrm flipV="1">
              <a:off x="3809160" y="3935160"/>
              <a:ext cx="4211640" cy="4213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3906000" y="5059440"/>
              <a:ext cx="4216680" cy="42148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6" name=""/>
            <p:cNvGrpSpPr/>
            <p:nvPr/>
          </p:nvGrpSpPr>
          <p:grpSpPr>
            <a:xfrm>
              <a:off x="5992920" y="4685760"/>
              <a:ext cx="1279080" cy="1275120"/>
              <a:chOff x="5992920" y="4685760"/>
              <a:chExt cx="1279080" cy="1275120"/>
            </a:xfrm>
          </p:grpSpPr>
          <p:grpSp>
            <p:nvGrpSpPr>
              <p:cNvPr id="2967" name=""/>
              <p:cNvGrpSpPr/>
              <p:nvPr/>
            </p:nvGrpSpPr>
            <p:grpSpPr>
              <a:xfrm>
                <a:off x="6785640" y="4685760"/>
                <a:ext cx="486360" cy="495000"/>
                <a:chOff x="6785640" y="4685760"/>
                <a:chExt cx="486360" cy="495000"/>
              </a:xfrm>
            </p:grpSpPr>
            <p:grpSp>
              <p:nvGrpSpPr>
                <p:cNvPr id="2968" name=""/>
                <p:cNvGrpSpPr/>
                <p:nvPr/>
              </p:nvGrpSpPr>
              <p:grpSpPr>
                <a:xfrm>
                  <a:off x="6785640" y="4692600"/>
                  <a:ext cx="486360" cy="486000"/>
                  <a:chOff x="6785640" y="4692600"/>
                  <a:chExt cx="486360" cy="486000"/>
                </a:xfrm>
              </p:grpSpPr>
              <p:sp>
                <p:nvSpPr>
                  <p:cNvPr id="2969" name=""/>
                  <p:cNvSpPr/>
                  <p:nvPr/>
                </p:nvSpPr>
                <p:spPr>
                  <a:xfrm rot="18899400">
                    <a:off x="6856920" y="476316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6785640" y="4935240"/>
                    <a:ext cx="486000" cy="1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1" name=""/>
                <p:cNvSpPr/>
                <p:nvPr/>
              </p:nvSpPr>
              <p:spPr>
                <a:xfrm flipH="1" flipV="1">
                  <a:off x="7029720" y="4685760"/>
                  <a:ext cx="3960" cy="495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2" name=""/>
              <p:cNvSpPr/>
              <p:nvPr/>
            </p:nvSpPr>
            <p:spPr>
              <a:xfrm rot="18899400">
                <a:off x="5979960" y="524880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3" name=""/>
              <p:cNvGrpSpPr/>
              <p:nvPr/>
            </p:nvGrpSpPr>
            <p:grpSpPr>
              <a:xfrm>
                <a:off x="6016320" y="5847840"/>
                <a:ext cx="101160" cy="101160"/>
                <a:chOff x="6016320" y="5847840"/>
                <a:chExt cx="101160" cy="10116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6016680" y="5850000"/>
                  <a:ext cx="98640" cy="986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6016320" y="5847840"/>
                  <a:ext cx="101160" cy="10116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6" name=""/>
            <p:cNvGrpSpPr/>
            <p:nvPr/>
          </p:nvGrpSpPr>
          <p:grpSpPr>
            <a:xfrm>
              <a:off x="6602400" y="5295240"/>
              <a:ext cx="1279080" cy="1275120"/>
              <a:chOff x="6602400" y="5295240"/>
              <a:chExt cx="1279080" cy="1275120"/>
            </a:xfrm>
          </p:grpSpPr>
          <p:grpSp>
            <p:nvGrpSpPr>
              <p:cNvPr id="2977" name=""/>
              <p:cNvGrpSpPr/>
              <p:nvPr/>
            </p:nvGrpSpPr>
            <p:grpSpPr>
              <a:xfrm>
                <a:off x="7395120" y="5295240"/>
                <a:ext cx="486360" cy="495000"/>
                <a:chOff x="7395120" y="5295240"/>
                <a:chExt cx="486360" cy="495000"/>
              </a:xfrm>
            </p:grpSpPr>
            <p:grpSp>
              <p:nvGrpSpPr>
                <p:cNvPr id="2978" name=""/>
                <p:cNvGrpSpPr/>
                <p:nvPr/>
              </p:nvGrpSpPr>
              <p:grpSpPr>
                <a:xfrm>
                  <a:off x="7395120" y="5302080"/>
                  <a:ext cx="486360" cy="486000"/>
                  <a:chOff x="7395120" y="5302080"/>
                  <a:chExt cx="486360" cy="486000"/>
                </a:xfrm>
              </p:grpSpPr>
              <p:sp>
                <p:nvSpPr>
                  <p:cNvPr id="2979" name=""/>
                  <p:cNvSpPr/>
                  <p:nvPr/>
                </p:nvSpPr>
                <p:spPr>
                  <a:xfrm rot="18899400">
                    <a:off x="7466400" y="537264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7395120" y="5544720"/>
                    <a:ext cx="486000" cy="1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81" name=""/>
                <p:cNvSpPr/>
                <p:nvPr/>
              </p:nvSpPr>
              <p:spPr>
                <a:xfrm flipH="1" flipV="1">
                  <a:off x="7639200" y="5295240"/>
                  <a:ext cx="3960" cy="495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2" name=""/>
              <p:cNvSpPr/>
              <p:nvPr/>
            </p:nvSpPr>
            <p:spPr>
              <a:xfrm rot="18899400">
                <a:off x="6589440" y="585828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3" name=""/>
              <p:cNvGrpSpPr/>
              <p:nvPr/>
            </p:nvGrpSpPr>
            <p:grpSpPr>
              <a:xfrm>
                <a:off x="6626160" y="6456960"/>
                <a:ext cx="101160" cy="101160"/>
                <a:chOff x="6626160" y="6456960"/>
                <a:chExt cx="101160" cy="101160"/>
              </a:xfrm>
            </p:grpSpPr>
            <p:sp>
              <p:nvSpPr>
                <p:cNvPr id="2984" name=""/>
                <p:cNvSpPr/>
                <p:nvPr/>
              </p:nvSpPr>
              <p:spPr>
                <a:xfrm>
                  <a:off x="6626160" y="6459480"/>
                  <a:ext cx="98640" cy="986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H="1">
                  <a:off x="6626520" y="645696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6" name=""/>
            <p:cNvSpPr/>
            <p:nvPr/>
          </p:nvSpPr>
          <p:spPr>
            <a:xfrm flipH="1">
              <a:off x="-519120" y="5545080"/>
              <a:ext cx="300024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-263520" y="6068880"/>
              <a:ext cx="300024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18898800">
              <a:off x="4164840" y="314604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23 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Ablaufbe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>
              <a:off x="2457000" y="2772000"/>
              <a:ext cx="2779200" cy="27792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2715480" y="3157560"/>
              <a:ext cx="2916360" cy="29160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1" name=""/>
          <p:cNvGrpSpPr/>
          <p:nvPr/>
        </p:nvGrpSpPr>
        <p:grpSpPr>
          <a:xfrm>
            <a:off x="-11015640" y="-2384280"/>
            <a:ext cx="18170640" cy="9581760"/>
            <a:chOff x="-11015640" y="-2384280"/>
            <a:chExt cx="18170640" cy="9581760"/>
          </a:xfrm>
        </p:grpSpPr>
        <p:sp>
          <p:nvSpPr>
            <p:cNvPr id="2992" name=""/>
            <p:cNvSpPr/>
            <p:nvPr/>
          </p:nvSpPr>
          <p:spPr>
            <a:xfrm flipH="1">
              <a:off x="5428080" y="2059920"/>
              <a:ext cx="1800" cy="51354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H="1">
              <a:off x="6310080" y="578880"/>
              <a:ext cx="720" cy="66150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892600" y="834840"/>
              <a:ext cx="1312560" cy="3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V="1">
              <a:off x="-2161800" y="5760"/>
              <a:ext cx="383076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-1736280" y="838800"/>
              <a:ext cx="3400200" cy="1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3065400" y="4680"/>
              <a:ext cx="15145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 flipV="1">
              <a:off x="4080960" y="783720"/>
              <a:ext cx="1397160" cy="13971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-3879360" y="1674720"/>
              <a:ext cx="775152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5466600" y="3243240"/>
              <a:ext cx="423720" cy="4269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5886360" y="2869920"/>
              <a:ext cx="379440" cy="3776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87960" y="27187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230080" y="3477600"/>
              <a:ext cx="4899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3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4" name=""/>
            <p:cNvGrpSpPr/>
            <p:nvPr/>
          </p:nvGrpSpPr>
          <p:grpSpPr>
            <a:xfrm>
              <a:off x="5730840" y="3436920"/>
              <a:ext cx="342720" cy="344520"/>
              <a:chOff x="5730840" y="3436920"/>
              <a:chExt cx="342720" cy="344520"/>
            </a:xfrm>
          </p:grpSpPr>
          <p:sp>
            <p:nvSpPr>
              <p:cNvPr id="3005" name=""/>
              <p:cNvSpPr/>
              <p:nvPr/>
            </p:nvSpPr>
            <p:spPr>
              <a:xfrm>
                <a:off x="5730840" y="34369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730840" y="343692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7" name=""/>
            <p:cNvSpPr/>
            <p:nvPr/>
          </p:nvSpPr>
          <p:spPr>
            <a:xfrm flipV="1">
              <a:off x="5727600" y="3428640"/>
              <a:ext cx="34920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V="1">
              <a:off x="6073920" y="2955600"/>
              <a:ext cx="0" cy="469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9" name=""/>
            <p:cNvGrpSpPr/>
            <p:nvPr/>
          </p:nvGrpSpPr>
          <p:grpSpPr>
            <a:xfrm>
              <a:off x="6534000" y="890640"/>
              <a:ext cx="342720" cy="344520"/>
              <a:chOff x="6534000" y="890640"/>
              <a:chExt cx="342720" cy="344520"/>
            </a:xfrm>
          </p:grpSpPr>
          <p:sp>
            <p:nvSpPr>
              <p:cNvPr id="3010" name=""/>
              <p:cNvSpPr/>
              <p:nvPr/>
            </p:nvSpPr>
            <p:spPr>
              <a:xfrm>
                <a:off x="6534000" y="8906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34000" y="89064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 flipV="1">
              <a:off x="6531120" y="882360"/>
              <a:ext cx="34920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305400" y="31068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>
              <a:off x="6238440" y="31766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954760" y="3108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>
              <a:off x="5887800" y="31780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435640" y="3114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>
              <a:off x="5368680" y="31845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61840" y="15048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3750840" y="1625400"/>
              <a:ext cx="857160" cy="8571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319800" y="692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252840" y="7621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>
              <a:off x="4552920" y="2360520"/>
              <a:ext cx="2520" cy="29577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676520" y="-571680"/>
              <a:ext cx="0" cy="300060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171960" y="-581040"/>
              <a:ext cx="0" cy="300024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143160" y="-55260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3143160" y="240192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476360" y="-55260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476360" y="2401920"/>
              <a:ext cx="22860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706400" y="-579600"/>
              <a:ext cx="1440000" cy="300852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1991520" y="-865080"/>
              <a:ext cx="1800" cy="80611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 flipV="1">
              <a:off x="2865600" y="-1182960"/>
              <a:ext cx="1080" cy="8380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 flipV="1">
              <a:off x="4456080" y="-42840"/>
              <a:ext cx="1905120" cy="19051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311520" y="-2384280"/>
              <a:ext cx="2160" cy="29700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 flipV="1">
              <a:off x="6297480" y="-189360"/>
              <a:ext cx="857520" cy="8571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54480" y="15422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743440" y="11764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5676480" y="12463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9" name=""/>
            <p:cNvGrpSpPr/>
            <p:nvPr/>
          </p:nvGrpSpPr>
          <p:grpSpPr>
            <a:xfrm>
              <a:off x="4379400" y="4699080"/>
              <a:ext cx="344520" cy="342720"/>
              <a:chOff x="4379400" y="4699080"/>
              <a:chExt cx="344520" cy="342720"/>
            </a:xfrm>
          </p:grpSpPr>
          <p:sp>
            <p:nvSpPr>
              <p:cNvPr id="3040" name=""/>
              <p:cNvSpPr/>
              <p:nvPr/>
            </p:nvSpPr>
            <p:spPr>
              <a:xfrm rot="5400000">
                <a:off x="4380120" y="469800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4379400" y="4699080"/>
                <a:ext cx="34452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2" name=""/>
            <p:cNvSpPr/>
            <p:nvPr/>
          </p:nvSpPr>
          <p:spPr>
            <a:xfrm>
              <a:off x="4376880" y="4700520"/>
              <a:ext cx="35244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 rot="5400000">
              <a:off x="4031640" y="393840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>
              <a:off x="4483080" y="3508200"/>
              <a:ext cx="1396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V="1">
              <a:off x="4554360" y="3439800"/>
              <a:ext cx="0" cy="1429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54120" y="-105480"/>
              <a:ext cx="4644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6532560" y="114120"/>
              <a:ext cx="0" cy="1417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923160" y="365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6856560" y="43488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>
              <a:off x="6140520" y="-2138040"/>
              <a:ext cx="344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6137640" y="-979200"/>
              <a:ext cx="352440" cy="349200"/>
              <a:chOff x="6137640" y="-979200"/>
              <a:chExt cx="352440" cy="349200"/>
            </a:xfrm>
          </p:grpSpPr>
          <p:grpSp>
            <p:nvGrpSpPr>
              <p:cNvPr id="3052" name=""/>
              <p:cNvGrpSpPr/>
              <p:nvPr/>
            </p:nvGrpSpPr>
            <p:grpSpPr>
              <a:xfrm>
                <a:off x="6141960" y="-979200"/>
                <a:ext cx="344520" cy="343080"/>
                <a:chOff x="6141960" y="-979200"/>
                <a:chExt cx="344520" cy="343080"/>
              </a:xfrm>
            </p:grpSpPr>
            <p:sp>
              <p:nvSpPr>
                <p:cNvPr id="3053" name=""/>
                <p:cNvSpPr/>
                <p:nvPr/>
              </p:nvSpPr>
              <p:spPr>
                <a:xfrm rot="5400000">
                  <a:off x="6142680" y="-9799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>
                  <a:off x="6141960" y="-979200"/>
                  <a:ext cx="344520" cy="34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5" name=""/>
              <p:cNvSpPr/>
              <p:nvPr/>
            </p:nvSpPr>
            <p:spPr>
              <a:xfrm>
                <a:off x="6137640" y="-977400"/>
                <a:ext cx="352440" cy="34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 rot="5400000">
              <a:off x="6013440" y="-142416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81 Sü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6243480" y="-1789920"/>
              <a:ext cx="139680" cy="142920"/>
              <a:chOff x="6243480" y="-1789920"/>
              <a:chExt cx="139680" cy="142920"/>
            </a:xfrm>
          </p:grpSpPr>
          <p:sp>
            <p:nvSpPr>
              <p:cNvPr id="3058" name=""/>
              <p:cNvSpPr/>
              <p:nvPr/>
            </p:nvSpPr>
            <p:spPr>
              <a:xfrm flipH="1">
                <a:off x="6243480" y="-1719360"/>
                <a:ext cx="1396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V="1">
                <a:off x="6312600" y="-1789920"/>
                <a:ext cx="0" cy="1429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0" name=""/>
            <p:cNvSpPr/>
            <p:nvPr/>
          </p:nvSpPr>
          <p:spPr>
            <a:xfrm flipH="1">
              <a:off x="1817280" y="2741760"/>
              <a:ext cx="344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1" name=""/>
            <p:cNvGrpSpPr/>
            <p:nvPr/>
          </p:nvGrpSpPr>
          <p:grpSpPr>
            <a:xfrm>
              <a:off x="1817280" y="1273320"/>
              <a:ext cx="344520" cy="342720"/>
              <a:chOff x="1817280" y="1273320"/>
              <a:chExt cx="344520" cy="342720"/>
            </a:xfrm>
          </p:grpSpPr>
          <p:sp>
            <p:nvSpPr>
              <p:cNvPr id="3062" name=""/>
              <p:cNvSpPr/>
              <p:nvPr/>
            </p:nvSpPr>
            <p:spPr>
              <a:xfrm rot="5400000">
                <a:off x="1818000" y="12722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1817280" y="1273320"/>
                <a:ext cx="34452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4" name=""/>
            <p:cNvSpPr/>
            <p:nvPr/>
          </p:nvSpPr>
          <p:spPr>
            <a:xfrm>
              <a:off x="1814400" y="1274760"/>
              <a:ext cx="35244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rot="5400000">
              <a:off x="1602360" y="70956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Schiebeha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H="1">
              <a:off x="1920960" y="3380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1992240" y="269640"/>
              <a:ext cx="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-9199440" y="6840"/>
              <a:ext cx="924228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-9161640" y="18576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H="1">
              <a:off x="-11015640" y="835200"/>
              <a:ext cx="11469600" cy="28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1" name=""/>
            <p:cNvGrpSpPr/>
            <p:nvPr/>
          </p:nvGrpSpPr>
          <p:grpSpPr>
            <a:xfrm>
              <a:off x="405360" y="1193400"/>
              <a:ext cx="1061640" cy="378720"/>
              <a:chOff x="405360" y="1193400"/>
              <a:chExt cx="1061640" cy="378720"/>
            </a:xfrm>
          </p:grpSpPr>
          <p:sp>
            <p:nvSpPr>
              <p:cNvPr id="3072" name=""/>
              <p:cNvSpPr/>
              <p:nvPr/>
            </p:nvSpPr>
            <p:spPr>
              <a:xfrm>
                <a:off x="713520" y="1387440"/>
                <a:ext cx="744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1467000" y="130824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528480" y="125244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 rot="16200000">
                <a:off x="415440" y="11833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6" name=""/>
            <p:cNvGrpSpPr/>
            <p:nvPr/>
          </p:nvGrpSpPr>
          <p:grpSpPr>
            <a:xfrm>
              <a:off x="-174600" y="1821960"/>
              <a:ext cx="349200" cy="352800"/>
              <a:chOff x="-174600" y="1821960"/>
              <a:chExt cx="349200" cy="352800"/>
            </a:xfrm>
          </p:grpSpPr>
          <p:grpSp>
            <p:nvGrpSpPr>
              <p:cNvPr id="3077" name=""/>
              <p:cNvGrpSpPr/>
              <p:nvPr/>
            </p:nvGrpSpPr>
            <p:grpSpPr>
              <a:xfrm>
                <a:off x="-171360" y="1830240"/>
                <a:ext cx="342720" cy="344520"/>
                <a:chOff x="-171360" y="1830240"/>
                <a:chExt cx="342720" cy="34452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-171360" y="18302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-171360" y="18302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0" name=""/>
              <p:cNvSpPr/>
              <p:nvPr/>
            </p:nvSpPr>
            <p:spPr>
              <a:xfrm flipV="1">
                <a:off x="-174600" y="182196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-306720" y="16009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2" name=""/>
          <p:cNvGrpSpPr/>
          <p:nvPr/>
        </p:nvGrpSpPr>
        <p:grpSpPr>
          <a:xfrm>
            <a:off x="1655640" y="-787680"/>
            <a:ext cx="10103040" cy="9439560"/>
            <a:chOff x="1655640" y="-787680"/>
            <a:chExt cx="10103040" cy="9439560"/>
          </a:xfrm>
        </p:grpSpPr>
        <p:sp>
          <p:nvSpPr>
            <p:cNvPr id="3083" name=""/>
            <p:cNvSpPr/>
            <p:nvPr/>
          </p:nvSpPr>
          <p:spPr>
            <a:xfrm flipV="1">
              <a:off x="1828800" y="-427320"/>
              <a:ext cx="0" cy="75610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H="1">
              <a:off x="8631360" y="-58320"/>
              <a:ext cx="23238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 flipV="1">
              <a:off x="2730600" y="-425880"/>
              <a:ext cx="1440" cy="4800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3635280" y="-787680"/>
              <a:ext cx="0" cy="1143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584520" y="231840"/>
              <a:ext cx="3973680" cy="39672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4916160" y="1636560"/>
              <a:ext cx="521028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8196120" y="2478240"/>
              <a:ext cx="356256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7792560" y="3313080"/>
              <a:ext cx="279108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>
              <a:off x="7437240" y="4154400"/>
              <a:ext cx="232380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230880" y="1677960"/>
              <a:ext cx="1681200" cy="16797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396920" y="1609560"/>
              <a:ext cx="917640" cy="9144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68040" y="657360"/>
              <a:ext cx="4384440" cy="43812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720160" y="1838160"/>
              <a:ext cx="4040280" cy="40388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739960" y="3083040"/>
              <a:ext cx="3625920" cy="36241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682000" y="4251240"/>
              <a:ext cx="4403880" cy="44006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H="1">
              <a:off x="7030800" y="4989600"/>
              <a:ext cx="23238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H="1">
              <a:off x="6640200" y="5827680"/>
              <a:ext cx="280044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>
              <a:off x="6240240" y="6656400"/>
              <a:ext cx="30574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438800" y="6030720"/>
              <a:ext cx="0" cy="12934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4970880" y="6535440"/>
              <a:ext cx="240120" cy="244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3334680" y="3676320"/>
              <a:ext cx="242640" cy="241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V="1">
              <a:off x="3368160" y="2486520"/>
              <a:ext cx="240480" cy="241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3384720" y="1273320"/>
              <a:ext cx="244080" cy="245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7857000" y="2068200"/>
              <a:ext cx="240120" cy="244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6856560" y="2297160"/>
              <a:ext cx="240480" cy="244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5909040" y="2559240"/>
              <a:ext cx="240480" cy="244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9" name=""/>
            <p:cNvGrpSpPr/>
            <p:nvPr/>
          </p:nvGrpSpPr>
          <p:grpSpPr>
            <a:xfrm>
              <a:off x="2197080" y="322200"/>
              <a:ext cx="347760" cy="345960"/>
              <a:chOff x="2197080" y="322200"/>
              <a:chExt cx="347760" cy="345960"/>
            </a:xfrm>
          </p:grpSpPr>
          <p:sp>
            <p:nvSpPr>
              <p:cNvPr id="3110" name=""/>
              <p:cNvSpPr/>
              <p:nvPr/>
            </p:nvSpPr>
            <p:spPr>
              <a:xfrm>
                <a:off x="2201760" y="3236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197080" y="3222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2203560" y="33480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3" name=""/>
            <p:cNvGrpSpPr/>
            <p:nvPr/>
          </p:nvGrpSpPr>
          <p:grpSpPr>
            <a:xfrm>
              <a:off x="2197080" y="1554120"/>
              <a:ext cx="347760" cy="345960"/>
              <a:chOff x="2197080" y="1554120"/>
              <a:chExt cx="347760" cy="345960"/>
            </a:xfrm>
          </p:grpSpPr>
          <p:sp>
            <p:nvSpPr>
              <p:cNvPr id="3114" name=""/>
              <p:cNvSpPr/>
              <p:nvPr/>
            </p:nvSpPr>
            <p:spPr>
              <a:xfrm>
                <a:off x="2201760" y="155556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197080" y="155412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2203560" y="156672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2197080" y="2825640"/>
              <a:ext cx="347760" cy="345960"/>
              <a:chOff x="2197080" y="2825640"/>
              <a:chExt cx="347760" cy="345960"/>
            </a:xfrm>
          </p:grpSpPr>
          <p:sp>
            <p:nvSpPr>
              <p:cNvPr id="3118" name=""/>
              <p:cNvSpPr/>
              <p:nvPr/>
            </p:nvSpPr>
            <p:spPr>
              <a:xfrm>
                <a:off x="2201760" y="28270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197080" y="28256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2203560" y="283824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1" name=""/>
            <p:cNvGrpSpPr/>
            <p:nvPr/>
          </p:nvGrpSpPr>
          <p:grpSpPr>
            <a:xfrm>
              <a:off x="5033880" y="1103400"/>
              <a:ext cx="347760" cy="345960"/>
              <a:chOff x="5033880" y="1103400"/>
              <a:chExt cx="347760" cy="345960"/>
            </a:xfrm>
          </p:grpSpPr>
          <p:sp>
            <p:nvSpPr>
              <p:cNvPr id="3122" name=""/>
              <p:cNvSpPr/>
              <p:nvPr/>
            </p:nvSpPr>
            <p:spPr>
              <a:xfrm>
                <a:off x="5038560" y="11048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033880" y="11034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5040360" y="111600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5" name=""/>
            <p:cNvGrpSpPr/>
            <p:nvPr/>
          </p:nvGrpSpPr>
          <p:grpSpPr>
            <a:xfrm>
              <a:off x="6216480" y="1104840"/>
              <a:ext cx="347760" cy="345960"/>
              <a:chOff x="6216480" y="1104840"/>
              <a:chExt cx="347760" cy="345960"/>
            </a:xfrm>
          </p:grpSpPr>
          <p:sp>
            <p:nvSpPr>
              <p:cNvPr id="3126" name=""/>
              <p:cNvSpPr/>
              <p:nvPr/>
            </p:nvSpPr>
            <p:spPr>
              <a:xfrm>
                <a:off x="6221160" y="11062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216480" y="11048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6222960" y="111744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9" name=""/>
            <p:cNvGrpSpPr/>
            <p:nvPr/>
          </p:nvGrpSpPr>
          <p:grpSpPr>
            <a:xfrm>
              <a:off x="7442280" y="1104840"/>
              <a:ext cx="347760" cy="345960"/>
              <a:chOff x="7442280" y="1104840"/>
              <a:chExt cx="347760" cy="345960"/>
            </a:xfrm>
          </p:grpSpPr>
          <p:sp>
            <p:nvSpPr>
              <p:cNvPr id="3130" name=""/>
              <p:cNvSpPr/>
              <p:nvPr/>
            </p:nvSpPr>
            <p:spPr>
              <a:xfrm>
                <a:off x="7446960" y="11062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442280" y="11048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7448760" y="111744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3" name=""/>
            <p:cNvSpPr/>
            <p:nvPr/>
          </p:nvSpPr>
          <p:spPr>
            <a:xfrm>
              <a:off x="8231040" y="14619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4584600" y="5603760"/>
              <a:ext cx="347760" cy="345960"/>
              <a:chOff x="4584600" y="5603760"/>
              <a:chExt cx="347760" cy="345960"/>
            </a:xfrm>
          </p:grpSpPr>
          <p:sp>
            <p:nvSpPr>
              <p:cNvPr id="3135" name=""/>
              <p:cNvSpPr/>
              <p:nvPr/>
            </p:nvSpPr>
            <p:spPr>
              <a:xfrm>
                <a:off x="4589280" y="56052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584600" y="560376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V="1">
                <a:off x="4591080" y="561636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>
              <a:off x="2562120" y="6832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560680" y="191520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562120" y="31852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876920" y="14626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238800" y="146412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462800" y="146412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230720" y="59648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5" name=""/>
            <p:cNvGrpSpPr/>
            <p:nvPr/>
          </p:nvGrpSpPr>
          <p:grpSpPr>
            <a:xfrm>
              <a:off x="8623440" y="1573200"/>
              <a:ext cx="142560" cy="139680"/>
              <a:chOff x="8623440" y="1573200"/>
              <a:chExt cx="142560" cy="139680"/>
            </a:xfrm>
          </p:grpSpPr>
          <p:sp>
            <p:nvSpPr>
              <p:cNvPr id="3146" name=""/>
              <p:cNvSpPr/>
              <p:nvPr/>
            </p:nvSpPr>
            <p:spPr>
              <a:xfrm>
                <a:off x="8690040" y="1573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>
                <a:off x="8623440" y="164304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8" name=""/>
            <p:cNvGrpSpPr/>
            <p:nvPr/>
          </p:nvGrpSpPr>
          <p:grpSpPr>
            <a:xfrm>
              <a:off x="8623440" y="2409840"/>
              <a:ext cx="142560" cy="139680"/>
              <a:chOff x="8623440" y="2409840"/>
              <a:chExt cx="142560" cy="139680"/>
            </a:xfrm>
          </p:grpSpPr>
          <p:sp>
            <p:nvSpPr>
              <p:cNvPr id="3149" name=""/>
              <p:cNvSpPr/>
              <p:nvPr/>
            </p:nvSpPr>
            <p:spPr>
              <a:xfrm>
                <a:off x="8690040" y="2409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>
                <a:off x="8623440" y="247968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8623440" y="3255840"/>
              <a:ext cx="142560" cy="139680"/>
              <a:chOff x="8623440" y="3255840"/>
              <a:chExt cx="142560" cy="139680"/>
            </a:xfrm>
          </p:grpSpPr>
          <p:sp>
            <p:nvSpPr>
              <p:cNvPr id="3152" name=""/>
              <p:cNvSpPr/>
              <p:nvPr/>
            </p:nvSpPr>
            <p:spPr>
              <a:xfrm>
                <a:off x="8690040" y="3255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H="1">
                <a:off x="8623440" y="332568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4" name=""/>
            <p:cNvGrpSpPr/>
            <p:nvPr/>
          </p:nvGrpSpPr>
          <p:grpSpPr>
            <a:xfrm>
              <a:off x="8624520" y="4086360"/>
              <a:ext cx="142920" cy="139680"/>
              <a:chOff x="8624520" y="4086360"/>
              <a:chExt cx="142920" cy="139680"/>
            </a:xfrm>
          </p:grpSpPr>
          <p:sp>
            <p:nvSpPr>
              <p:cNvPr id="3155" name=""/>
              <p:cNvSpPr/>
              <p:nvPr/>
            </p:nvSpPr>
            <p:spPr>
              <a:xfrm>
                <a:off x="8691840" y="40863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>
                <a:off x="8624520" y="41562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7" name=""/>
            <p:cNvGrpSpPr/>
            <p:nvPr/>
          </p:nvGrpSpPr>
          <p:grpSpPr>
            <a:xfrm>
              <a:off x="4368960" y="6491160"/>
              <a:ext cx="142560" cy="139680"/>
              <a:chOff x="4368960" y="6491160"/>
              <a:chExt cx="142560" cy="139680"/>
            </a:xfrm>
          </p:grpSpPr>
          <p:sp>
            <p:nvSpPr>
              <p:cNvPr id="3158" name=""/>
              <p:cNvSpPr/>
              <p:nvPr/>
            </p:nvSpPr>
            <p:spPr>
              <a:xfrm>
                <a:off x="4435560" y="6491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4368960" y="65610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0" name=""/>
            <p:cNvGrpSpPr/>
            <p:nvPr/>
          </p:nvGrpSpPr>
          <p:grpSpPr>
            <a:xfrm>
              <a:off x="4835160" y="6394320"/>
              <a:ext cx="142920" cy="139680"/>
              <a:chOff x="4835160" y="6394320"/>
              <a:chExt cx="142920" cy="139680"/>
            </a:xfrm>
          </p:grpSpPr>
          <p:sp>
            <p:nvSpPr>
              <p:cNvPr id="3161" name=""/>
              <p:cNvSpPr/>
              <p:nvPr/>
            </p:nvSpPr>
            <p:spPr>
              <a:xfrm>
                <a:off x="4902480" y="63943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H="1">
                <a:off x="4835160" y="64641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3" name=""/>
            <p:cNvGrpSpPr/>
            <p:nvPr/>
          </p:nvGrpSpPr>
          <p:grpSpPr>
            <a:xfrm>
              <a:off x="4393800" y="4724280"/>
              <a:ext cx="142920" cy="139680"/>
              <a:chOff x="4393800" y="4724280"/>
              <a:chExt cx="142920" cy="139680"/>
            </a:xfrm>
          </p:grpSpPr>
          <p:sp>
            <p:nvSpPr>
              <p:cNvPr id="3164" name=""/>
              <p:cNvSpPr/>
              <p:nvPr/>
            </p:nvSpPr>
            <p:spPr>
              <a:xfrm>
                <a:off x="4461120" y="4724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H="1">
                <a:off x="4393800" y="47941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6" name=""/>
            <p:cNvGrpSpPr/>
            <p:nvPr/>
          </p:nvGrpSpPr>
          <p:grpSpPr>
            <a:xfrm>
              <a:off x="4393800" y="3500280"/>
              <a:ext cx="142920" cy="139680"/>
              <a:chOff x="4393800" y="3500280"/>
              <a:chExt cx="142920" cy="139680"/>
            </a:xfrm>
          </p:grpSpPr>
          <p:sp>
            <p:nvSpPr>
              <p:cNvPr id="3167" name=""/>
              <p:cNvSpPr/>
              <p:nvPr/>
            </p:nvSpPr>
            <p:spPr>
              <a:xfrm>
                <a:off x="4461120" y="3500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H="1">
                <a:off x="4393800" y="35701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"/>
            <p:cNvGrpSpPr/>
            <p:nvPr/>
          </p:nvGrpSpPr>
          <p:grpSpPr>
            <a:xfrm>
              <a:off x="4393800" y="2276640"/>
              <a:ext cx="142920" cy="139680"/>
              <a:chOff x="4393800" y="2276640"/>
              <a:chExt cx="142920" cy="139680"/>
            </a:xfrm>
          </p:grpSpPr>
          <p:sp>
            <p:nvSpPr>
              <p:cNvPr id="3170" name=""/>
              <p:cNvSpPr/>
              <p:nvPr/>
            </p:nvSpPr>
            <p:spPr>
              <a:xfrm>
                <a:off x="4461120" y="2276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H="1">
                <a:off x="4393800" y="2346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1655640" y="662004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3" name=""/>
          <p:cNvGrpSpPr/>
          <p:nvPr/>
        </p:nvGrpSpPr>
        <p:grpSpPr>
          <a:xfrm>
            <a:off x="-93960" y="-1109880"/>
            <a:ext cx="9013680" cy="9328320"/>
            <a:chOff x="-93960" y="-1109880"/>
            <a:chExt cx="9013680" cy="9328320"/>
          </a:xfrm>
        </p:grpSpPr>
        <p:sp>
          <p:nvSpPr>
            <p:cNvPr id="3174" name=""/>
            <p:cNvSpPr/>
            <p:nvPr/>
          </p:nvSpPr>
          <p:spPr>
            <a:xfrm flipH="1">
              <a:off x="-36360" y="-58320"/>
              <a:ext cx="23238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-93960" y="1635120"/>
              <a:ext cx="723564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 flipV="1">
              <a:off x="-5040" y="2478240"/>
              <a:ext cx="6202440" cy="1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-7920" y="3313080"/>
              <a:ext cx="537192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 flipV="1">
              <a:off x="-11160" y="4154040"/>
              <a:ext cx="4626000" cy="32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-1800" y="4983120"/>
              <a:ext cx="50194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-14400" y="5827680"/>
              <a:ext cx="542304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-18000" y="6656400"/>
              <a:ext cx="58309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2" name=""/>
            <p:cNvGrpSpPr/>
            <p:nvPr/>
          </p:nvGrpSpPr>
          <p:grpSpPr>
            <a:xfrm>
              <a:off x="1222200" y="1467000"/>
              <a:ext cx="343080" cy="344160"/>
              <a:chOff x="1222200" y="1467000"/>
              <a:chExt cx="343080" cy="344160"/>
            </a:xfrm>
          </p:grpSpPr>
          <p:sp>
            <p:nvSpPr>
              <p:cNvPr id="3183" name=""/>
              <p:cNvSpPr/>
              <p:nvPr/>
            </p:nvSpPr>
            <p:spPr>
              <a:xfrm>
                <a:off x="1222200" y="146700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222200" y="1467000"/>
                <a:ext cx="343080" cy="3441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5" name=""/>
            <p:cNvSpPr/>
            <p:nvPr/>
          </p:nvSpPr>
          <p:spPr>
            <a:xfrm flipV="1">
              <a:off x="1224000" y="1466640"/>
              <a:ext cx="336600" cy="33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729440" y="132012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8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4489560" y="831960"/>
              <a:ext cx="3381120" cy="33764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7738920" y="-93888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ffffff"/>
            </a:solidFill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V="1" rot="5400000">
              <a:off x="7311960" y="-790920"/>
              <a:ext cx="94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Götti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45400" y="-71280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ffffff"/>
            </a:solidFill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V="1" rot="5400000">
              <a:off x="8215200" y="-49788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Krei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V="1">
              <a:off x="7823160" y="123840"/>
              <a:ext cx="0" cy="828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V="1">
              <a:off x="8732880" y="130320"/>
              <a:ext cx="0" cy="48290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H="1">
              <a:off x="4894200" y="1238400"/>
              <a:ext cx="3795840" cy="37940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288040" y="4143240"/>
              <a:ext cx="1728720" cy="17319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5691240" y="4495680"/>
              <a:ext cx="2208240" cy="22050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403960" y="4838760"/>
              <a:ext cx="3378240" cy="33796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H="1" flipV="1">
              <a:off x="7846560" y="2028960"/>
              <a:ext cx="1800" cy="25891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6970680" y="3006360"/>
              <a:ext cx="0" cy="12574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212840" y="23050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212840" y="230508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1214280" y="2311560"/>
              <a:ext cx="339840" cy="342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193760" y="313992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193760" y="313992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V="1">
              <a:off x="1195560" y="3136680"/>
              <a:ext cx="347400" cy="352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193760" y="39844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193760" y="398448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1195560" y="3987720"/>
              <a:ext cx="342720" cy="34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9" name=""/>
            <p:cNvGrpSpPr/>
            <p:nvPr/>
          </p:nvGrpSpPr>
          <p:grpSpPr>
            <a:xfrm>
              <a:off x="3546360" y="4813200"/>
              <a:ext cx="343080" cy="344520"/>
              <a:chOff x="3546360" y="4813200"/>
              <a:chExt cx="343080" cy="344520"/>
            </a:xfrm>
          </p:grpSpPr>
          <p:sp>
            <p:nvSpPr>
              <p:cNvPr id="3210" name=""/>
              <p:cNvSpPr/>
              <p:nvPr/>
            </p:nvSpPr>
            <p:spPr>
              <a:xfrm>
                <a:off x="3546360" y="48132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546360" y="4813200"/>
                <a:ext cx="343080" cy="344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2" name=""/>
            <p:cNvSpPr/>
            <p:nvPr/>
          </p:nvSpPr>
          <p:spPr>
            <a:xfrm flipV="1">
              <a:off x="3548160" y="4806720"/>
              <a:ext cx="347400" cy="352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3537000" y="5651280"/>
              <a:ext cx="349200" cy="352440"/>
              <a:chOff x="3537000" y="5651280"/>
              <a:chExt cx="349200" cy="352440"/>
            </a:xfrm>
          </p:grpSpPr>
          <p:grpSp>
            <p:nvGrpSpPr>
              <p:cNvPr id="3214" name=""/>
              <p:cNvGrpSpPr/>
              <p:nvPr/>
            </p:nvGrpSpPr>
            <p:grpSpPr>
              <a:xfrm>
                <a:off x="3537000" y="5654520"/>
                <a:ext cx="342720" cy="344520"/>
                <a:chOff x="3537000" y="5654520"/>
                <a:chExt cx="342720" cy="34452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3537000" y="5654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3537000" y="5654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7" name=""/>
              <p:cNvSpPr/>
              <p:nvPr/>
            </p:nvSpPr>
            <p:spPr>
              <a:xfrm flipV="1">
                <a:off x="3538440" y="5651280"/>
                <a:ext cx="34776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8" name=""/>
            <p:cNvGrpSpPr/>
            <p:nvPr/>
          </p:nvGrpSpPr>
          <p:grpSpPr>
            <a:xfrm>
              <a:off x="3517920" y="6476760"/>
              <a:ext cx="349200" cy="352440"/>
              <a:chOff x="3517920" y="6476760"/>
              <a:chExt cx="349200" cy="352440"/>
            </a:xfrm>
          </p:grpSpPr>
          <p:grpSp>
            <p:nvGrpSpPr>
              <p:cNvPr id="3219" name=""/>
              <p:cNvGrpSpPr/>
              <p:nvPr/>
            </p:nvGrpSpPr>
            <p:grpSpPr>
              <a:xfrm>
                <a:off x="3517920" y="6480000"/>
                <a:ext cx="342720" cy="344520"/>
                <a:chOff x="3517920" y="6480000"/>
                <a:chExt cx="342720" cy="344520"/>
              </a:xfrm>
            </p:grpSpPr>
            <p:sp>
              <p:nvSpPr>
                <p:cNvPr id="3220" name=""/>
                <p:cNvSpPr/>
                <p:nvPr/>
              </p:nvSpPr>
              <p:spPr>
                <a:xfrm>
                  <a:off x="3517920" y="64800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3517920" y="64800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2" name=""/>
              <p:cNvSpPr/>
              <p:nvPr/>
            </p:nvSpPr>
            <p:spPr>
              <a:xfrm flipV="1">
                <a:off x="3519360" y="6476760"/>
                <a:ext cx="34776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3" name=""/>
            <p:cNvSpPr/>
            <p:nvPr/>
          </p:nvSpPr>
          <p:spPr>
            <a:xfrm>
              <a:off x="1727640" y="216792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7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727640" y="30092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6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727640" y="38505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5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3320" y="46760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4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3320" y="55238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3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2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6560" y="63540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2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76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9" name=""/>
            <p:cNvGrpSpPr/>
            <p:nvPr/>
          </p:nvGrpSpPr>
          <p:grpSpPr>
            <a:xfrm>
              <a:off x="5008680" y="2781360"/>
              <a:ext cx="347400" cy="345960"/>
              <a:chOff x="5008680" y="2781360"/>
              <a:chExt cx="347400" cy="345960"/>
            </a:xfrm>
          </p:grpSpPr>
          <p:sp>
            <p:nvSpPr>
              <p:cNvPr id="3230" name=""/>
              <p:cNvSpPr/>
              <p:nvPr/>
            </p:nvSpPr>
            <p:spPr>
              <a:xfrm>
                <a:off x="5013360" y="278280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008680" y="278136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V="1">
                <a:off x="5014800" y="2793600"/>
                <a:ext cx="328680" cy="331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3" name=""/>
            <p:cNvGrpSpPr/>
            <p:nvPr/>
          </p:nvGrpSpPr>
          <p:grpSpPr>
            <a:xfrm>
              <a:off x="5851440" y="1947960"/>
              <a:ext cx="347760" cy="345960"/>
              <a:chOff x="5851440" y="1947960"/>
              <a:chExt cx="347760" cy="345960"/>
            </a:xfrm>
          </p:grpSpPr>
          <p:sp>
            <p:nvSpPr>
              <p:cNvPr id="3234" name=""/>
              <p:cNvSpPr/>
              <p:nvPr/>
            </p:nvSpPr>
            <p:spPr>
              <a:xfrm>
                <a:off x="5856120" y="19494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851440" y="194796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 flipV="1">
                <a:off x="5857920" y="196056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6672240" y="1104840"/>
              <a:ext cx="347400" cy="345600"/>
              <a:chOff x="6672240" y="1104840"/>
              <a:chExt cx="347400" cy="345600"/>
            </a:xfrm>
          </p:grpSpPr>
          <p:sp>
            <p:nvSpPr>
              <p:cNvPr id="3238" name=""/>
              <p:cNvSpPr/>
              <p:nvPr/>
            </p:nvSpPr>
            <p:spPr>
              <a:xfrm>
                <a:off x="6676920" y="11062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672240" y="110484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V="1">
                <a:off x="6678360" y="1117440"/>
                <a:ext cx="328680" cy="331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1" name=""/>
            <p:cNvSpPr/>
            <p:nvPr/>
          </p:nvSpPr>
          <p:spPr>
            <a:xfrm>
              <a:off x="8215200" y="85572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15200" y="855720"/>
              <a:ext cx="34308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8217000" y="870120"/>
              <a:ext cx="330120" cy="326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8026560" y="2090880"/>
              <a:ext cx="347400" cy="345960"/>
              <a:chOff x="8026560" y="2090880"/>
              <a:chExt cx="347400" cy="345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8031240" y="20923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026560" y="209088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8032680" y="210348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8" name=""/>
            <p:cNvSpPr/>
            <p:nvPr/>
          </p:nvSpPr>
          <p:spPr>
            <a:xfrm>
              <a:off x="7153200" y="298296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157880" y="2986200"/>
              <a:ext cx="343080" cy="344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7161120" y="2984400"/>
              <a:ext cx="328680" cy="331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692760" y="146592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870520" y="23072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029200" y="31406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319960" y="121356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416720" y="21470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6537240" y="30358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973840" y="14619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230800" y="230652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805280" y="313848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 flipV="1">
              <a:off x="4656600" y="3797280"/>
              <a:ext cx="244800" cy="24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 flipV="1">
              <a:off x="6106680" y="3577680"/>
              <a:ext cx="241920" cy="24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7676640" y="407988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8559360" y="407988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6797160" y="407844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5" name=""/>
            <p:cNvGrpSpPr/>
            <p:nvPr/>
          </p:nvGrpSpPr>
          <p:grpSpPr>
            <a:xfrm>
              <a:off x="4393800" y="1574640"/>
              <a:ext cx="142920" cy="139680"/>
              <a:chOff x="4393800" y="1574640"/>
              <a:chExt cx="142920" cy="139680"/>
            </a:xfrm>
          </p:grpSpPr>
          <p:sp>
            <p:nvSpPr>
              <p:cNvPr id="3266" name=""/>
              <p:cNvSpPr/>
              <p:nvPr/>
            </p:nvSpPr>
            <p:spPr>
              <a:xfrm>
                <a:off x="4461120" y="1574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4393800" y="164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8" name=""/>
            <p:cNvGrpSpPr/>
            <p:nvPr/>
          </p:nvGrpSpPr>
          <p:grpSpPr>
            <a:xfrm>
              <a:off x="4393800" y="2414520"/>
              <a:ext cx="142920" cy="139680"/>
              <a:chOff x="4393800" y="2414520"/>
              <a:chExt cx="142920" cy="139680"/>
            </a:xfrm>
          </p:grpSpPr>
          <p:sp>
            <p:nvSpPr>
              <p:cNvPr id="3269" name=""/>
              <p:cNvSpPr/>
              <p:nvPr/>
            </p:nvSpPr>
            <p:spPr>
              <a:xfrm>
                <a:off x="4461120" y="2414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H="1">
                <a:off x="4393800" y="2484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4393800" y="3247920"/>
              <a:ext cx="142920" cy="139680"/>
              <a:chOff x="4393800" y="3247920"/>
              <a:chExt cx="142920" cy="139680"/>
            </a:xfrm>
          </p:grpSpPr>
          <p:sp>
            <p:nvSpPr>
              <p:cNvPr id="3272" name=""/>
              <p:cNvSpPr/>
              <p:nvPr/>
            </p:nvSpPr>
            <p:spPr>
              <a:xfrm>
                <a:off x="4461120" y="32479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H="1">
                <a:off x="4393800" y="33177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4393800" y="4097160"/>
              <a:ext cx="142920" cy="139680"/>
              <a:chOff x="4393800" y="4097160"/>
              <a:chExt cx="142920" cy="139680"/>
            </a:xfrm>
          </p:grpSpPr>
          <p:sp>
            <p:nvSpPr>
              <p:cNvPr id="3275" name=""/>
              <p:cNvSpPr/>
              <p:nvPr/>
            </p:nvSpPr>
            <p:spPr>
              <a:xfrm>
                <a:off x="4461120" y="4097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H="1">
                <a:off x="4393800" y="4167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7" name=""/>
            <p:cNvGrpSpPr/>
            <p:nvPr/>
          </p:nvGrpSpPr>
          <p:grpSpPr>
            <a:xfrm>
              <a:off x="5702040" y="4060800"/>
              <a:ext cx="142920" cy="139680"/>
              <a:chOff x="5702040" y="4060800"/>
              <a:chExt cx="142920" cy="139680"/>
            </a:xfrm>
          </p:grpSpPr>
          <p:sp>
            <p:nvSpPr>
              <p:cNvPr id="3278" name=""/>
              <p:cNvSpPr/>
              <p:nvPr/>
            </p:nvSpPr>
            <p:spPr>
              <a:xfrm>
                <a:off x="5769360" y="40608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5702040" y="41306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"/>
            <p:cNvGrpSpPr/>
            <p:nvPr/>
          </p:nvGrpSpPr>
          <p:grpSpPr>
            <a:xfrm>
              <a:off x="6389280" y="4618080"/>
              <a:ext cx="142920" cy="139680"/>
              <a:chOff x="6389280" y="4618080"/>
              <a:chExt cx="142920" cy="139680"/>
            </a:xfrm>
          </p:grpSpPr>
          <p:sp>
            <p:nvSpPr>
              <p:cNvPr id="3281" name=""/>
              <p:cNvSpPr/>
              <p:nvPr/>
            </p:nvSpPr>
            <p:spPr>
              <a:xfrm>
                <a:off x="6456600" y="46180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H="1">
                <a:off x="6389280" y="4687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3" name=""/>
            <p:cNvGrpSpPr/>
            <p:nvPr/>
          </p:nvGrpSpPr>
          <p:grpSpPr>
            <a:xfrm>
              <a:off x="7056000" y="5192640"/>
              <a:ext cx="142920" cy="139680"/>
              <a:chOff x="7056000" y="5192640"/>
              <a:chExt cx="142920" cy="139680"/>
            </a:xfrm>
          </p:grpSpPr>
          <p:sp>
            <p:nvSpPr>
              <p:cNvPr id="3284" name=""/>
              <p:cNvSpPr/>
              <p:nvPr/>
            </p:nvSpPr>
            <p:spPr>
              <a:xfrm>
                <a:off x="7123320" y="51926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>
                <a:off x="7056000" y="5262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7729200" y="5756400"/>
              <a:ext cx="142920" cy="139680"/>
              <a:chOff x="7729200" y="5756400"/>
              <a:chExt cx="142920" cy="139680"/>
            </a:xfrm>
          </p:grpSpPr>
          <p:sp>
            <p:nvSpPr>
              <p:cNvPr id="3287" name=""/>
              <p:cNvSpPr/>
              <p:nvPr/>
            </p:nvSpPr>
            <p:spPr>
              <a:xfrm>
                <a:off x="7796520" y="57564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H="1">
                <a:off x="7729200" y="5826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9" name=""/>
            <p:cNvGrpSpPr/>
            <p:nvPr/>
          </p:nvGrpSpPr>
          <p:grpSpPr>
            <a:xfrm>
              <a:off x="4303440" y="4917960"/>
              <a:ext cx="142920" cy="139680"/>
              <a:chOff x="4303440" y="4917960"/>
              <a:chExt cx="142920" cy="139680"/>
            </a:xfrm>
          </p:grpSpPr>
          <p:sp>
            <p:nvSpPr>
              <p:cNvPr id="3290" name=""/>
              <p:cNvSpPr/>
              <p:nvPr/>
            </p:nvSpPr>
            <p:spPr>
              <a:xfrm>
                <a:off x="4370760" y="49179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4303440" y="498780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2" name=""/>
            <p:cNvGrpSpPr/>
            <p:nvPr/>
          </p:nvGrpSpPr>
          <p:grpSpPr>
            <a:xfrm>
              <a:off x="4303440" y="5762520"/>
              <a:ext cx="142920" cy="139680"/>
              <a:chOff x="4303440" y="5762520"/>
              <a:chExt cx="142920" cy="139680"/>
            </a:xfrm>
          </p:grpSpPr>
          <p:sp>
            <p:nvSpPr>
              <p:cNvPr id="3293" name=""/>
              <p:cNvSpPr/>
              <p:nvPr/>
            </p:nvSpPr>
            <p:spPr>
              <a:xfrm>
                <a:off x="4370760" y="57625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H="1">
                <a:off x="4303440" y="583236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5" name=""/>
            <p:cNvGrpSpPr/>
            <p:nvPr/>
          </p:nvGrpSpPr>
          <p:grpSpPr>
            <a:xfrm>
              <a:off x="4303440" y="6597720"/>
              <a:ext cx="142920" cy="139680"/>
              <a:chOff x="4303440" y="6597720"/>
              <a:chExt cx="142920" cy="139680"/>
            </a:xfrm>
          </p:grpSpPr>
          <p:sp>
            <p:nvSpPr>
              <p:cNvPr id="3296" name=""/>
              <p:cNvSpPr/>
              <p:nvPr/>
            </p:nvSpPr>
            <p:spPr>
              <a:xfrm>
                <a:off x="4370760" y="65977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H="1">
                <a:off x="4303440" y="666756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8" name=""/>
            <p:cNvGrpSpPr/>
            <p:nvPr/>
          </p:nvGrpSpPr>
          <p:grpSpPr>
            <a:xfrm>
              <a:off x="701280" y="1574640"/>
              <a:ext cx="142920" cy="139680"/>
              <a:chOff x="701280" y="1574640"/>
              <a:chExt cx="142920" cy="139680"/>
            </a:xfrm>
          </p:grpSpPr>
          <p:sp>
            <p:nvSpPr>
              <p:cNvPr id="3299" name=""/>
              <p:cNvSpPr/>
              <p:nvPr/>
            </p:nvSpPr>
            <p:spPr>
              <a:xfrm>
                <a:off x="768600" y="15746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701280" y="16444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703440" y="2414520"/>
              <a:ext cx="142560" cy="139680"/>
              <a:chOff x="703440" y="2414520"/>
              <a:chExt cx="142560" cy="139680"/>
            </a:xfrm>
          </p:grpSpPr>
          <p:sp>
            <p:nvSpPr>
              <p:cNvPr id="3302" name=""/>
              <p:cNvSpPr/>
              <p:nvPr/>
            </p:nvSpPr>
            <p:spPr>
              <a:xfrm>
                <a:off x="770040" y="24145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 flipH="1">
                <a:off x="703440" y="248436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4" name=""/>
            <p:cNvGrpSpPr/>
            <p:nvPr/>
          </p:nvGrpSpPr>
          <p:grpSpPr>
            <a:xfrm>
              <a:off x="704520" y="3257640"/>
              <a:ext cx="142920" cy="139680"/>
              <a:chOff x="704520" y="3257640"/>
              <a:chExt cx="142920" cy="139680"/>
            </a:xfrm>
          </p:grpSpPr>
          <p:sp>
            <p:nvSpPr>
              <p:cNvPr id="3305" name=""/>
              <p:cNvSpPr/>
              <p:nvPr/>
            </p:nvSpPr>
            <p:spPr>
              <a:xfrm>
                <a:off x="771840" y="32576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H="1">
                <a:off x="704520" y="33274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"/>
            <p:cNvGrpSpPr/>
            <p:nvPr/>
          </p:nvGrpSpPr>
          <p:grpSpPr>
            <a:xfrm>
              <a:off x="704520" y="4095720"/>
              <a:ext cx="142920" cy="139680"/>
              <a:chOff x="704520" y="4095720"/>
              <a:chExt cx="142920" cy="139680"/>
            </a:xfrm>
          </p:grpSpPr>
          <p:sp>
            <p:nvSpPr>
              <p:cNvPr id="3308" name=""/>
              <p:cNvSpPr/>
              <p:nvPr/>
            </p:nvSpPr>
            <p:spPr>
              <a:xfrm>
                <a:off x="771840" y="40957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 flipH="1">
                <a:off x="704520" y="416556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-247680" y="2094840"/>
            <a:ext cx="10007640" cy="4750560"/>
            <a:chOff x="-247680" y="2094840"/>
            <a:chExt cx="10007640" cy="4750560"/>
          </a:xfrm>
        </p:grpSpPr>
        <p:grpSp>
          <p:nvGrpSpPr>
            <p:cNvPr id="273" name=""/>
            <p:cNvGrpSpPr/>
            <p:nvPr/>
          </p:nvGrpSpPr>
          <p:grpSpPr>
            <a:xfrm>
              <a:off x="-247680" y="2220480"/>
              <a:ext cx="10007640" cy="4624920"/>
              <a:chOff x="-247680" y="2220480"/>
              <a:chExt cx="10007640" cy="4624920"/>
            </a:xfrm>
          </p:grpSpPr>
          <p:sp>
            <p:nvSpPr>
              <p:cNvPr id="274" name=""/>
              <p:cNvSpPr/>
              <p:nvPr/>
            </p:nvSpPr>
            <p:spPr>
              <a:xfrm>
                <a:off x="-247680" y="6006960"/>
                <a:ext cx="10007640" cy="838440"/>
              </a:xfrm>
              <a:prstGeom prst="rect">
                <a:avLst/>
              </a:prstGeom>
              <a:solidFill>
                <a:srgbClr val="ffcc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-150840" y="2220480"/>
                <a:ext cx="9744120" cy="4165920"/>
                <a:chOff x="-150840" y="2220480"/>
                <a:chExt cx="9744120" cy="41659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-1440" y="3230640"/>
                  <a:ext cx="9594720" cy="0"/>
                </a:xfrm>
                <a:prstGeom prst="line">
                  <a:avLst/>
                </a:prstGeom>
                <a:ln w="34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-57240" y="2397600"/>
                  <a:ext cx="9242640" cy="720"/>
                </a:xfrm>
                <a:prstGeom prst="line">
                  <a:avLst/>
                </a:prstGeom>
                <a:ln w="34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-150840" y="5732640"/>
                  <a:ext cx="9499680" cy="1440"/>
                </a:xfrm>
                <a:prstGeom prst="line">
                  <a:avLst/>
                </a:prstGeom>
                <a:ln w="34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-130320" y="4062240"/>
                  <a:ext cx="9593280" cy="0"/>
                </a:xfrm>
                <a:prstGeom prst="line">
                  <a:avLst/>
                </a:prstGeom>
                <a:ln w="34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-87480" y="4892400"/>
                  <a:ext cx="9390240" cy="720"/>
                </a:xfrm>
                <a:prstGeom prst="line">
                  <a:avLst/>
                </a:prstGeom>
                <a:ln w="34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5346720" y="5917680"/>
                  <a:ext cx="1399680" cy="354600"/>
                  <a:chOff x="5346720" y="5917680"/>
                  <a:chExt cx="1399680" cy="35460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717880" y="5930640"/>
                    <a:ext cx="1028520" cy="341640"/>
                    <a:chOff x="5717880" y="5930640"/>
                    <a:chExt cx="1028520" cy="3416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6479640" y="5930640"/>
                      <a:ext cx="266760" cy="257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492600" y="5945040"/>
                      <a:ext cx="241200" cy="230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608160" y="5932080"/>
                      <a:ext cx="0" cy="25416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5724000" y="6062400"/>
                      <a:ext cx="74448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717880" y="5983200"/>
                      <a:ext cx="0" cy="156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988240" y="6026040"/>
                      <a:ext cx="5526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s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346720" y="5917680"/>
                    <a:ext cx="348840" cy="352440"/>
                    <a:chOff x="5346720" y="5917680"/>
                    <a:chExt cx="348840" cy="352440"/>
                  </a:xfrm>
                </p:grpSpPr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5346720" y="5921280"/>
                      <a:ext cx="342720" cy="344160"/>
                      <a:chOff x="5346720" y="5921280"/>
                      <a:chExt cx="342720" cy="34416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5346720" y="5921280"/>
                        <a:ext cx="342720" cy="344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00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5346720" y="5921280"/>
                        <a:ext cx="342720" cy="344160"/>
                      </a:xfrm>
                      <a:prstGeom prst="line">
                        <a:avLst/>
                      </a:prstGeom>
                      <a:ln w="28440">
                        <a:solidFill>
                          <a:srgbClr val="00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3" name=""/>
                    <p:cNvSpPr/>
                    <p:nvPr/>
                  </p:nvSpPr>
                  <p:spPr>
                    <a:xfrm flipV="1">
                      <a:off x="5348160" y="5917680"/>
                      <a:ext cx="347400" cy="352440"/>
                    </a:xfrm>
                    <a:prstGeom prst="line">
                      <a:avLst/>
                    </a:prstGeom>
                    <a:ln w="2844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870160" y="6122520"/>
                    <a:ext cx="142920" cy="139680"/>
                    <a:chOff x="5870160" y="6122520"/>
                    <a:chExt cx="142920" cy="13968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937480" y="6122520"/>
                      <a:ext cx="0" cy="139680"/>
                    </a:xfrm>
                    <a:prstGeom prst="line">
                      <a:avLst/>
                    </a:prstGeom>
                    <a:ln w="1260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>
                      <a:off x="5870160" y="6192360"/>
                      <a:ext cx="142920" cy="0"/>
                    </a:xfrm>
                    <a:prstGeom prst="line">
                      <a:avLst/>
                    </a:prstGeom>
                    <a:ln w="1260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7" name=""/>
                <p:cNvSpPr/>
                <p:nvPr/>
              </p:nvSpPr>
              <p:spPr>
                <a:xfrm>
                  <a:off x="732240" y="5425200"/>
                  <a:ext cx="1846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ffffff"/>
                      </a:solidFill>
                      <a:latin typeface="Times New Roman"/>
                    </a:rPr>
                    <a:t>Gleis 102</a:t>
                  </a:r>
                  <a:r>
                    <a:rPr b="1" lang="de-DE" sz="28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de-DE" sz="1200" spc="-1" strike="noStrike">
                      <a:solidFill>
                        <a:srgbClr val="ffffff"/>
                      </a:solidFill>
                      <a:latin typeface="Times New Roman"/>
                    </a:rPr>
                    <a:t>(NL 46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4587840" y="2220480"/>
                  <a:ext cx="349200" cy="352440"/>
                  <a:chOff x="4587840" y="2220480"/>
                  <a:chExt cx="349200" cy="35244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4587840" y="2224080"/>
                    <a:ext cx="342720" cy="344160"/>
                    <a:chOff x="4587840" y="2224080"/>
                    <a:chExt cx="342720" cy="34416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587840" y="222408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4587840" y="222408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2" name=""/>
                  <p:cNvSpPr/>
                  <p:nvPr/>
                </p:nvSpPr>
                <p:spPr>
                  <a:xfrm flipV="1">
                    <a:off x="4589280" y="2220480"/>
                    <a:ext cx="347760" cy="352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4000680" y="2351160"/>
                  <a:ext cx="142560" cy="139680"/>
                  <a:chOff x="4000680" y="2351160"/>
                  <a:chExt cx="142560" cy="139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4067280" y="235116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4000680" y="2421000"/>
                    <a:ext cx="1425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010280" y="5919480"/>
                  <a:ext cx="1839960" cy="466920"/>
                  <a:chOff x="7010280" y="5919480"/>
                  <a:chExt cx="1839960" cy="4669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7394400" y="5970600"/>
                    <a:ext cx="1438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712360" y="5956200"/>
                    <a:ext cx="107640" cy="290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78880" y="6222960"/>
                    <a:ext cx="171360" cy="163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72280" y="5981760"/>
                    <a:ext cx="473400" cy="10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870680" y="593100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J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010280" y="5923080"/>
                    <a:ext cx="342720" cy="344160"/>
                    <a:chOff x="7010280" y="5923080"/>
                    <a:chExt cx="342720" cy="344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010280" y="592308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7010280" y="592308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 flipV="1">
                    <a:off x="7012080" y="5919480"/>
                    <a:ext cx="347400" cy="35244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666200" y="61102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7598880" y="6180120"/>
                    <a:ext cx="142920" cy="0"/>
                  </a:xfrm>
                  <a:prstGeom prst="line">
                    <a:avLst/>
                  </a:prstGeom>
                  <a:ln w="1260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587840" y="5557320"/>
                  <a:ext cx="349200" cy="352440"/>
                  <a:chOff x="4587840" y="5557320"/>
                  <a:chExt cx="349200" cy="352440"/>
                </a:xfrm>
              </p:grpSpPr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587840" y="5560920"/>
                    <a:ext cx="342720" cy="344160"/>
                    <a:chOff x="4587840" y="5560920"/>
                    <a:chExt cx="342720" cy="34416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587840" y="556092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587840" y="556092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 flipV="1">
                    <a:off x="4589280" y="5557320"/>
                    <a:ext cx="347760" cy="352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4587840" y="4716000"/>
                  <a:ext cx="349200" cy="352440"/>
                  <a:chOff x="4587840" y="4716000"/>
                  <a:chExt cx="349200" cy="35244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587840" y="4719600"/>
                    <a:ext cx="342720" cy="344160"/>
                    <a:chOff x="4587840" y="4719600"/>
                    <a:chExt cx="342720" cy="3441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587840" y="471960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587840" y="471960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 flipV="1">
                    <a:off x="4589280" y="4716000"/>
                    <a:ext cx="347760" cy="352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4587840" y="3884400"/>
                  <a:ext cx="349200" cy="352440"/>
                  <a:chOff x="4587840" y="3884400"/>
                  <a:chExt cx="349200" cy="352440"/>
                </a:xfrm>
              </p:grpSpPr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4587840" y="3888000"/>
                    <a:ext cx="342720" cy="344160"/>
                    <a:chOff x="4587840" y="3888000"/>
                    <a:chExt cx="342720" cy="34416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587840" y="388800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4587840" y="388800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2" name=""/>
                  <p:cNvSpPr/>
                  <p:nvPr/>
                </p:nvSpPr>
                <p:spPr>
                  <a:xfrm flipV="1">
                    <a:off x="4589280" y="3884400"/>
                    <a:ext cx="347760" cy="352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4587840" y="3055680"/>
                  <a:ext cx="349200" cy="352440"/>
                  <a:chOff x="4587840" y="3055680"/>
                  <a:chExt cx="349200" cy="35244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587840" y="3059280"/>
                    <a:ext cx="342720" cy="344160"/>
                    <a:chOff x="4587840" y="3059280"/>
                    <a:chExt cx="342720" cy="3441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587840" y="3059280"/>
                      <a:ext cx="342720" cy="34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4587840" y="3059280"/>
                      <a:ext cx="342720" cy="34416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7" name=""/>
                  <p:cNvSpPr/>
                  <p:nvPr/>
                </p:nvSpPr>
                <p:spPr>
                  <a:xfrm flipV="1">
                    <a:off x="4589280" y="3055680"/>
                    <a:ext cx="347760" cy="352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4000680" y="5662440"/>
                  <a:ext cx="142560" cy="139680"/>
                  <a:chOff x="4000680" y="5662440"/>
                  <a:chExt cx="142560" cy="1396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067280" y="566244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>
                    <a:off x="4000680" y="5732280"/>
                    <a:ext cx="14256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4001760" y="4819680"/>
                  <a:ext cx="142920" cy="139680"/>
                  <a:chOff x="4001760" y="4819680"/>
                  <a:chExt cx="142920" cy="1396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069080" y="48196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4001760" y="4889520"/>
                    <a:ext cx="14292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4003200" y="4011480"/>
                  <a:ext cx="142920" cy="139680"/>
                  <a:chOff x="4003200" y="4011480"/>
                  <a:chExt cx="142920" cy="1396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4070520" y="40114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>
                    <a:off x="4003200" y="4081320"/>
                    <a:ext cx="14292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003200" y="3179880"/>
                  <a:ext cx="142920" cy="139680"/>
                  <a:chOff x="4003200" y="3179880"/>
                  <a:chExt cx="142920" cy="139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070520" y="3179880"/>
                    <a:ext cx="0" cy="13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>
                    <a:off x="4003200" y="3249720"/>
                    <a:ext cx="142920" cy="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7397640" y="5904000"/>
                  <a:ext cx="0" cy="129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734040" y="45903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3</a:t>
              </a:r>
              <a:r>
                <a:rPr b="1" lang="de-DE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(NL 6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4040" y="37490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4</a:t>
              </a:r>
              <a:r>
                <a:rPr b="1" lang="de-DE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(NL 5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2600" y="2928240"/>
              <a:ext cx="22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5</a:t>
              </a:r>
              <a:r>
                <a:rPr b="1" lang="de-DE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(NL 660 - 8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4400" y="2094840"/>
              <a:ext cx="22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6</a:t>
              </a:r>
              <a:r>
                <a:rPr b="1" lang="de-DE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(NL 550 - 7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0" name=""/>
          <p:cNvGrpSpPr/>
          <p:nvPr/>
        </p:nvGrpSpPr>
        <p:grpSpPr>
          <a:xfrm>
            <a:off x="3729240" y="1237320"/>
            <a:ext cx="8102520" cy="1934640"/>
            <a:chOff x="3729240" y="1237320"/>
            <a:chExt cx="8102520" cy="1934640"/>
          </a:xfrm>
        </p:grpSpPr>
        <p:grpSp>
          <p:nvGrpSpPr>
            <p:cNvPr id="3311" name=""/>
            <p:cNvGrpSpPr/>
            <p:nvPr/>
          </p:nvGrpSpPr>
          <p:grpSpPr>
            <a:xfrm>
              <a:off x="3729240" y="1237320"/>
              <a:ext cx="6192720" cy="1159560"/>
              <a:chOff x="3729240" y="1237320"/>
              <a:chExt cx="6192720" cy="1159560"/>
            </a:xfrm>
          </p:grpSpPr>
          <p:sp>
            <p:nvSpPr>
              <p:cNvPr id="3312" name=""/>
              <p:cNvSpPr/>
              <p:nvPr/>
            </p:nvSpPr>
            <p:spPr>
              <a:xfrm flipV="1">
                <a:off x="4937040" y="1401840"/>
                <a:ext cx="4829400" cy="144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V="1">
                <a:off x="4960800" y="2253960"/>
                <a:ext cx="4961160" cy="720"/>
              </a:xfrm>
              <a:prstGeom prst="line">
                <a:avLst/>
              </a:prstGeom>
              <a:ln w="3430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4" name=""/>
              <p:cNvGrpSpPr/>
              <p:nvPr/>
            </p:nvGrpSpPr>
            <p:grpSpPr>
              <a:xfrm>
                <a:off x="3939840" y="1237320"/>
                <a:ext cx="945720" cy="307080"/>
                <a:chOff x="3939840" y="1237320"/>
                <a:chExt cx="945720" cy="307080"/>
              </a:xfrm>
            </p:grpSpPr>
            <p:sp>
              <p:nvSpPr>
                <p:cNvPr id="3315" name=""/>
                <p:cNvSpPr/>
                <p:nvPr/>
              </p:nvSpPr>
              <p:spPr>
                <a:xfrm flipV="1" rot="5400000">
                  <a:off x="4347360" y="1062720"/>
                  <a:ext cx="162000" cy="671760"/>
                </a:xfrm>
                <a:prstGeom prst="upArrow">
                  <a:avLst>
                    <a:gd name="adj1" fmla="val 50000"/>
                    <a:gd name="adj2" fmla="val 103667"/>
                  </a:avLst>
                </a:prstGeom>
                <a:solidFill>
                  <a:srgbClr val="ffffff"/>
                </a:solidFill>
                <a:ln w="343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3939840" y="1237320"/>
                  <a:ext cx="945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Hanno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7" name=""/>
              <p:cNvGrpSpPr/>
              <p:nvPr/>
            </p:nvGrpSpPr>
            <p:grpSpPr>
              <a:xfrm>
                <a:off x="3729240" y="2089800"/>
                <a:ext cx="955080" cy="307080"/>
                <a:chOff x="3729240" y="2089800"/>
                <a:chExt cx="955080" cy="307080"/>
              </a:xfrm>
            </p:grpSpPr>
            <p:sp>
              <p:nvSpPr>
                <p:cNvPr id="3318" name=""/>
                <p:cNvSpPr/>
                <p:nvPr/>
              </p:nvSpPr>
              <p:spPr>
                <a:xfrm rot="5400000">
                  <a:off x="4147200" y="1926360"/>
                  <a:ext cx="161640" cy="671400"/>
                </a:xfrm>
                <a:prstGeom prst="upArrow">
                  <a:avLst>
                    <a:gd name="adj1" fmla="val 50000"/>
                    <a:gd name="adj2" fmla="val 103842"/>
                  </a:avLst>
                </a:prstGeom>
                <a:solidFill>
                  <a:srgbClr val="ffffff"/>
                </a:solidFill>
                <a:ln w="3430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3729240" y="2089800"/>
                  <a:ext cx="95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imes New Roman"/>
                    </a:rPr>
                    <a:t>Kreiens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0" name=""/>
            <p:cNvSpPr/>
            <p:nvPr/>
          </p:nvSpPr>
          <p:spPr>
            <a:xfrm flipH="1" flipV="1">
              <a:off x="7832520" y="2217600"/>
              <a:ext cx="479160" cy="478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7559640" y="2410920"/>
              <a:ext cx="347760" cy="352440"/>
              <a:chOff x="7559640" y="2410920"/>
              <a:chExt cx="347760" cy="352440"/>
            </a:xfrm>
          </p:grpSpPr>
          <p:grpSp>
            <p:nvGrpSpPr>
              <p:cNvPr id="3322" name=""/>
              <p:cNvGrpSpPr/>
              <p:nvPr/>
            </p:nvGrpSpPr>
            <p:grpSpPr>
              <a:xfrm>
                <a:off x="7562880" y="2414520"/>
                <a:ext cx="342720" cy="344520"/>
                <a:chOff x="7562880" y="2414520"/>
                <a:chExt cx="342720" cy="344520"/>
              </a:xfrm>
            </p:grpSpPr>
            <p:sp>
              <p:nvSpPr>
                <p:cNvPr id="3323" name=""/>
                <p:cNvSpPr/>
                <p:nvPr/>
              </p:nvSpPr>
              <p:spPr>
                <a:xfrm flipH="1">
                  <a:off x="7562880" y="2414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>
                  <a:off x="7562880" y="2414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5" name=""/>
              <p:cNvSpPr/>
              <p:nvPr/>
            </p:nvSpPr>
            <p:spPr>
              <a:xfrm flipH="1" flipV="1">
                <a:off x="7559640" y="24109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6" name=""/>
            <p:cNvSpPr/>
            <p:nvPr/>
          </p:nvSpPr>
          <p:spPr>
            <a:xfrm flipH="1">
              <a:off x="7826040" y="21837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8461440" y="2190600"/>
              <a:ext cx="142920" cy="139680"/>
              <a:chOff x="8461440" y="2190600"/>
              <a:chExt cx="142920" cy="139680"/>
            </a:xfrm>
          </p:grpSpPr>
          <p:sp>
            <p:nvSpPr>
              <p:cNvPr id="3328" name=""/>
              <p:cNvSpPr/>
              <p:nvPr/>
            </p:nvSpPr>
            <p:spPr>
              <a:xfrm>
                <a:off x="8537040" y="2190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8461440" y="2260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0" name=""/>
            <p:cNvSpPr/>
            <p:nvPr/>
          </p:nvSpPr>
          <p:spPr>
            <a:xfrm flipH="1" flipV="1">
              <a:off x="8310600" y="2693880"/>
              <a:ext cx="479520" cy="478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1" name=""/>
            <p:cNvGrpSpPr/>
            <p:nvPr/>
          </p:nvGrpSpPr>
          <p:grpSpPr>
            <a:xfrm>
              <a:off x="8237520" y="2630520"/>
              <a:ext cx="142920" cy="139680"/>
              <a:chOff x="8237520" y="2630520"/>
              <a:chExt cx="142920" cy="139680"/>
            </a:xfrm>
          </p:grpSpPr>
          <p:sp>
            <p:nvSpPr>
              <p:cNvPr id="3332" name=""/>
              <p:cNvSpPr/>
              <p:nvPr/>
            </p:nvSpPr>
            <p:spPr>
              <a:xfrm>
                <a:off x="8313480" y="2630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8237520" y="27003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4" name=""/>
            <p:cNvSpPr/>
            <p:nvPr/>
          </p:nvSpPr>
          <p:spPr>
            <a:xfrm flipV="1">
              <a:off x="8670960" y="3118680"/>
              <a:ext cx="3160800" cy="28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5" name=""/>
          <p:cNvGrpSpPr/>
          <p:nvPr/>
        </p:nvGrpSpPr>
        <p:grpSpPr>
          <a:xfrm>
            <a:off x="-3382920" y="-6597720"/>
            <a:ext cx="23028120" cy="10510560"/>
            <a:chOff x="-3382920" y="-6597720"/>
            <a:chExt cx="23028120" cy="10510560"/>
          </a:xfrm>
        </p:grpSpPr>
        <p:sp>
          <p:nvSpPr>
            <p:cNvPr id="3336" name=""/>
            <p:cNvSpPr/>
            <p:nvPr/>
          </p:nvSpPr>
          <p:spPr>
            <a:xfrm flipV="1">
              <a:off x="5427720" y="31320"/>
              <a:ext cx="711000" cy="282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270400" y="-276480"/>
              <a:ext cx="711360" cy="2826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1114560" y="-6597720"/>
              <a:ext cx="8005680" cy="7997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1457280" y="-5767560"/>
              <a:ext cx="8047080" cy="8072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21960" y="2567160"/>
              <a:ext cx="1402200" cy="376200"/>
              <a:chOff x="21960" y="2567160"/>
              <a:chExt cx="1402200" cy="376200"/>
            </a:xfrm>
          </p:grpSpPr>
          <p:sp>
            <p:nvSpPr>
              <p:cNvPr id="3341" name=""/>
              <p:cNvSpPr/>
              <p:nvPr/>
            </p:nvSpPr>
            <p:spPr>
              <a:xfrm rot="10800000">
                <a:off x="21960" y="2649240"/>
                <a:ext cx="266760" cy="2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rot="10800000">
                <a:off x="35280" y="2660760"/>
                <a:ext cx="241200" cy="230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V="1">
                <a:off x="160560" y="2651040"/>
                <a:ext cx="0" cy="253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98800" y="277524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V="1">
                <a:off x="1051200" y="2695320"/>
                <a:ext cx="0" cy="15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58480" y="2567160"/>
                <a:ext cx="48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7" name=""/>
              <p:cNvGrpSpPr/>
              <p:nvPr/>
            </p:nvGrpSpPr>
            <p:grpSpPr>
              <a:xfrm>
                <a:off x="1075320" y="2590920"/>
                <a:ext cx="348840" cy="352440"/>
                <a:chOff x="1075320" y="2590920"/>
                <a:chExt cx="348840" cy="352440"/>
              </a:xfrm>
            </p:grpSpPr>
            <p:grpSp>
              <p:nvGrpSpPr>
                <p:cNvPr id="3348" name=""/>
                <p:cNvGrpSpPr/>
                <p:nvPr/>
              </p:nvGrpSpPr>
              <p:grpSpPr>
                <a:xfrm>
                  <a:off x="1081440" y="2595600"/>
                  <a:ext cx="342720" cy="344160"/>
                  <a:chOff x="1081440" y="2595600"/>
                  <a:chExt cx="342720" cy="344160"/>
                </a:xfrm>
              </p:grpSpPr>
              <p:sp>
                <p:nvSpPr>
                  <p:cNvPr id="3349" name=""/>
                  <p:cNvSpPr/>
                  <p:nvPr/>
                </p:nvSpPr>
                <p:spPr>
                  <a:xfrm rot="10800000">
                    <a:off x="1081440" y="259560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 flipV="1">
                    <a:off x="1081440" y="259560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1" name=""/>
                <p:cNvSpPr/>
                <p:nvPr/>
              </p:nvSpPr>
              <p:spPr>
                <a:xfrm flipH="1">
                  <a:off x="1075320" y="259092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2" name=""/>
              <p:cNvGrpSpPr/>
              <p:nvPr/>
            </p:nvGrpSpPr>
            <p:grpSpPr>
              <a:xfrm>
                <a:off x="757440" y="2576520"/>
                <a:ext cx="142920" cy="139680"/>
                <a:chOff x="757440" y="2576520"/>
                <a:chExt cx="142920" cy="139680"/>
              </a:xfrm>
            </p:grpSpPr>
            <p:sp>
              <p:nvSpPr>
                <p:cNvPr id="3353" name=""/>
                <p:cNvSpPr/>
                <p:nvPr/>
              </p:nvSpPr>
              <p:spPr>
                <a:xfrm flipV="1">
                  <a:off x="833040" y="257652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757440" y="264636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5" name=""/>
            <p:cNvGrpSpPr/>
            <p:nvPr/>
          </p:nvGrpSpPr>
          <p:grpSpPr>
            <a:xfrm>
              <a:off x="1901520" y="1733400"/>
              <a:ext cx="142920" cy="139680"/>
              <a:chOff x="1901520" y="1733400"/>
              <a:chExt cx="142920" cy="139680"/>
            </a:xfrm>
          </p:grpSpPr>
          <p:sp>
            <p:nvSpPr>
              <p:cNvPr id="3356" name=""/>
              <p:cNvSpPr/>
              <p:nvPr/>
            </p:nvSpPr>
            <p:spPr>
              <a:xfrm>
                <a:off x="1968480" y="17334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1901520" y="1803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8" name=""/>
            <p:cNvSpPr/>
            <p:nvPr/>
          </p:nvSpPr>
          <p:spPr>
            <a:xfrm>
              <a:off x="3981600" y="1707840"/>
              <a:ext cx="15663600" cy="39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4481640" y="-4138920"/>
              <a:ext cx="5381640" cy="5381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V="1">
              <a:off x="6932520" y="-3295800"/>
              <a:ext cx="3324240" cy="33228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7051680" y="-2462040"/>
              <a:ext cx="3589200" cy="359064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728880" y="19800"/>
              <a:ext cx="441972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6420600" y="1126800"/>
              <a:ext cx="631800" cy="6318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376880" y="287496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5883120" y="3714480"/>
              <a:ext cx="4961160" cy="72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-3102120" y="1401840"/>
              <a:ext cx="4829400" cy="1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1726920" y="1401840"/>
              <a:ext cx="671400" cy="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-3382920" y="2253960"/>
              <a:ext cx="4960800" cy="72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 flipV="1">
              <a:off x="-1325520" y="2217600"/>
              <a:ext cx="479520" cy="47808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-1598760" y="2410920"/>
              <a:ext cx="347760" cy="352440"/>
              <a:chOff x="-1598760" y="2410920"/>
              <a:chExt cx="347760" cy="352440"/>
            </a:xfrm>
          </p:grpSpPr>
          <p:grpSp>
            <p:nvGrpSpPr>
              <p:cNvPr id="3371" name=""/>
              <p:cNvGrpSpPr/>
              <p:nvPr/>
            </p:nvGrpSpPr>
            <p:grpSpPr>
              <a:xfrm>
                <a:off x="-1595520" y="2414520"/>
                <a:ext cx="342720" cy="344520"/>
                <a:chOff x="-1595520" y="2414520"/>
                <a:chExt cx="342720" cy="344520"/>
              </a:xfrm>
            </p:grpSpPr>
            <p:sp>
              <p:nvSpPr>
                <p:cNvPr id="3372" name=""/>
                <p:cNvSpPr/>
                <p:nvPr/>
              </p:nvSpPr>
              <p:spPr>
                <a:xfrm flipH="1">
                  <a:off x="-1595520" y="2414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 flipH="1">
                  <a:off x="-1595520" y="2414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4" name=""/>
              <p:cNvSpPr/>
              <p:nvPr/>
            </p:nvSpPr>
            <p:spPr>
              <a:xfrm flipH="1" flipV="1">
                <a:off x="-1598760" y="24109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-1332360" y="21837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6" name=""/>
            <p:cNvGrpSpPr/>
            <p:nvPr/>
          </p:nvGrpSpPr>
          <p:grpSpPr>
            <a:xfrm>
              <a:off x="-696960" y="2190600"/>
              <a:ext cx="142920" cy="139680"/>
              <a:chOff x="-696960" y="2190600"/>
              <a:chExt cx="142920" cy="139680"/>
            </a:xfrm>
          </p:grpSpPr>
          <p:sp>
            <p:nvSpPr>
              <p:cNvPr id="3377" name=""/>
              <p:cNvSpPr/>
              <p:nvPr/>
            </p:nvSpPr>
            <p:spPr>
              <a:xfrm>
                <a:off x="-621360" y="2190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-696960" y="22604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9" name=""/>
            <p:cNvSpPr/>
            <p:nvPr/>
          </p:nvSpPr>
          <p:spPr>
            <a:xfrm flipH="1" flipV="1">
              <a:off x="-847800" y="2693880"/>
              <a:ext cx="479520" cy="478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0" name=""/>
            <p:cNvGrpSpPr/>
            <p:nvPr/>
          </p:nvGrpSpPr>
          <p:grpSpPr>
            <a:xfrm>
              <a:off x="-920880" y="2630520"/>
              <a:ext cx="142920" cy="139680"/>
              <a:chOff x="-920880" y="2630520"/>
              <a:chExt cx="142920" cy="139680"/>
            </a:xfrm>
          </p:grpSpPr>
          <p:sp>
            <p:nvSpPr>
              <p:cNvPr id="3381" name=""/>
              <p:cNvSpPr/>
              <p:nvPr/>
            </p:nvSpPr>
            <p:spPr>
              <a:xfrm>
                <a:off x="-844920" y="2630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-920880" y="27003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3" name=""/>
            <p:cNvSpPr/>
            <p:nvPr/>
          </p:nvSpPr>
          <p:spPr>
            <a:xfrm flipV="1">
              <a:off x="-487440" y="3118680"/>
              <a:ext cx="3160800" cy="28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2554200" y="1233360"/>
              <a:ext cx="1936800" cy="19353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5" name=""/>
            <p:cNvGrpSpPr/>
            <p:nvPr/>
          </p:nvGrpSpPr>
          <p:grpSpPr>
            <a:xfrm>
              <a:off x="1895400" y="893520"/>
              <a:ext cx="347760" cy="352440"/>
              <a:chOff x="1895400" y="893520"/>
              <a:chExt cx="347760" cy="352440"/>
            </a:xfrm>
          </p:grpSpPr>
          <p:grpSp>
            <p:nvGrpSpPr>
              <p:cNvPr id="3386" name=""/>
              <p:cNvGrpSpPr/>
              <p:nvPr/>
            </p:nvGrpSpPr>
            <p:grpSpPr>
              <a:xfrm>
                <a:off x="1898640" y="897120"/>
                <a:ext cx="342720" cy="344520"/>
                <a:chOff x="1898640" y="897120"/>
                <a:chExt cx="342720" cy="344520"/>
              </a:xfrm>
            </p:grpSpPr>
            <p:sp>
              <p:nvSpPr>
                <p:cNvPr id="3387" name=""/>
                <p:cNvSpPr/>
                <p:nvPr/>
              </p:nvSpPr>
              <p:spPr>
                <a:xfrm flipH="1">
                  <a:off x="1898640" y="8971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 flipH="1">
                  <a:off x="1898640" y="8971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9" name=""/>
              <p:cNvSpPr/>
              <p:nvPr/>
            </p:nvSpPr>
            <p:spPr>
              <a:xfrm flipH="1" flipV="1">
                <a:off x="1895400" y="8935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0" name=""/>
            <p:cNvSpPr/>
            <p:nvPr/>
          </p:nvSpPr>
          <p:spPr>
            <a:xfrm flipH="1">
              <a:off x="2145960" y="12567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1068120" y="12549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736640" y="1332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1665360" y="14018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9600" y="1241280"/>
              <a:ext cx="426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5" name=""/>
            <p:cNvGrpSpPr/>
            <p:nvPr/>
          </p:nvGrpSpPr>
          <p:grpSpPr>
            <a:xfrm>
              <a:off x="1468080" y="920880"/>
              <a:ext cx="142920" cy="139680"/>
              <a:chOff x="1468080" y="920880"/>
              <a:chExt cx="142920" cy="139680"/>
            </a:xfrm>
          </p:grpSpPr>
          <p:sp>
            <p:nvSpPr>
              <p:cNvPr id="3396" name=""/>
              <p:cNvSpPr/>
              <p:nvPr/>
            </p:nvSpPr>
            <p:spPr>
              <a:xfrm>
                <a:off x="1535040" y="920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1468080" y="9907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8" name=""/>
            <p:cNvGrpSpPr/>
            <p:nvPr/>
          </p:nvGrpSpPr>
          <p:grpSpPr>
            <a:xfrm>
              <a:off x="2197080" y="-605160"/>
              <a:ext cx="347760" cy="352440"/>
              <a:chOff x="2197080" y="-605160"/>
              <a:chExt cx="347760" cy="352440"/>
            </a:xfrm>
          </p:grpSpPr>
          <p:grpSp>
            <p:nvGrpSpPr>
              <p:cNvPr id="3399" name=""/>
              <p:cNvGrpSpPr/>
              <p:nvPr/>
            </p:nvGrpSpPr>
            <p:grpSpPr>
              <a:xfrm>
                <a:off x="2198520" y="-599760"/>
                <a:ext cx="342720" cy="344160"/>
                <a:chOff x="2198520" y="-599760"/>
                <a:chExt cx="342720" cy="344160"/>
              </a:xfrm>
            </p:grpSpPr>
            <p:sp>
              <p:nvSpPr>
                <p:cNvPr id="3400" name=""/>
                <p:cNvSpPr/>
                <p:nvPr/>
              </p:nvSpPr>
              <p:spPr>
                <a:xfrm>
                  <a:off x="2198520" y="-5997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2198520" y="-5997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2" name=""/>
              <p:cNvSpPr/>
              <p:nvPr/>
            </p:nvSpPr>
            <p:spPr>
              <a:xfrm flipV="1">
                <a:off x="2197080" y="-6051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 flipH="1">
              <a:off x="2557080" y="-5040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4" name=""/>
            <p:cNvGrpSpPr/>
            <p:nvPr/>
          </p:nvGrpSpPr>
          <p:grpSpPr>
            <a:xfrm>
              <a:off x="3094920" y="-714240"/>
              <a:ext cx="142920" cy="139680"/>
              <a:chOff x="3094920" y="-714240"/>
              <a:chExt cx="142920" cy="139680"/>
            </a:xfrm>
          </p:grpSpPr>
          <p:sp>
            <p:nvSpPr>
              <p:cNvPr id="3405" name=""/>
              <p:cNvSpPr/>
              <p:nvPr/>
            </p:nvSpPr>
            <p:spPr>
              <a:xfrm>
                <a:off x="3162240" y="-714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H="1">
                <a:off x="3094920" y="-644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7" name=""/>
            <p:cNvSpPr/>
            <p:nvPr/>
          </p:nvSpPr>
          <p:spPr>
            <a:xfrm flipH="1">
              <a:off x="3941640" y="16437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7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8" name=""/>
            <p:cNvGrpSpPr/>
            <p:nvPr/>
          </p:nvGrpSpPr>
          <p:grpSpPr>
            <a:xfrm>
              <a:off x="3990960" y="1869840"/>
              <a:ext cx="347760" cy="352440"/>
              <a:chOff x="3990960" y="1869840"/>
              <a:chExt cx="347760" cy="352440"/>
            </a:xfrm>
          </p:grpSpPr>
          <p:grpSp>
            <p:nvGrpSpPr>
              <p:cNvPr id="3409" name=""/>
              <p:cNvGrpSpPr/>
              <p:nvPr/>
            </p:nvGrpSpPr>
            <p:grpSpPr>
              <a:xfrm>
                <a:off x="3994200" y="1873440"/>
                <a:ext cx="342720" cy="344520"/>
                <a:chOff x="3994200" y="1873440"/>
                <a:chExt cx="342720" cy="344520"/>
              </a:xfrm>
            </p:grpSpPr>
            <p:sp>
              <p:nvSpPr>
                <p:cNvPr id="3410" name=""/>
                <p:cNvSpPr/>
                <p:nvPr/>
              </p:nvSpPr>
              <p:spPr>
                <a:xfrm flipH="1">
                  <a:off x="3994200" y="18734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 flipH="1">
                  <a:off x="3994200" y="18734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2" name=""/>
              <p:cNvSpPr/>
              <p:nvPr/>
            </p:nvSpPr>
            <p:spPr>
              <a:xfrm flipH="1" flipV="1">
                <a:off x="3990960" y="18698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3" name=""/>
            <p:cNvGrpSpPr/>
            <p:nvPr/>
          </p:nvGrpSpPr>
          <p:grpSpPr>
            <a:xfrm>
              <a:off x="6381720" y="1643760"/>
              <a:ext cx="412200" cy="578520"/>
              <a:chOff x="6381720" y="1643760"/>
              <a:chExt cx="412200" cy="578520"/>
            </a:xfrm>
          </p:grpSpPr>
          <p:sp>
            <p:nvSpPr>
              <p:cNvPr id="3414" name=""/>
              <p:cNvSpPr/>
              <p:nvPr/>
            </p:nvSpPr>
            <p:spPr>
              <a:xfrm flipH="1">
                <a:off x="6381360" y="1643760"/>
                <a:ext cx="412200" cy="21564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ffffff"/>
                    </a:solidFill>
                    <a:latin typeface="Times New Roman"/>
                  </a:rPr>
                  <a:t>W 7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5" name=""/>
              <p:cNvGrpSpPr/>
              <p:nvPr/>
            </p:nvGrpSpPr>
            <p:grpSpPr>
              <a:xfrm>
                <a:off x="6430680" y="1870200"/>
                <a:ext cx="347760" cy="352080"/>
                <a:chOff x="6430680" y="1870200"/>
                <a:chExt cx="347760" cy="352080"/>
              </a:xfrm>
            </p:grpSpPr>
            <p:grpSp>
              <p:nvGrpSpPr>
                <p:cNvPr id="3416" name=""/>
                <p:cNvGrpSpPr/>
                <p:nvPr/>
              </p:nvGrpSpPr>
              <p:grpSpPr>
                <a:xfrm>
                  <a:off x="6433920" y="1873080"/>
                  <a:ext cx="342720" cy="344160"/>
                  <a:chOff x="6433920" y="1873080"/>
                  <a:chExt cx="342720" cy="344160"/>
                </a:xfrm>
              </p:grpSpPr>
              <p:sp>
                <p:nvSpPr>
                  <p:cNvPr id="3417" name=""/>
                  <p:cNvSpPr/>
                  <p:nvPr/>
                </p:nvSpPr>
                <p:spPr>
                  <a:xfrm flipH="1">
                    <a:off x="6433920" y="187308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 flipH="1">
                    <a:off x="6433920" y="187308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9" name=""/>
                <p:cNvSpPr/>
                <p:nvPr/>
              </p:nvSpPr>
              <p:spPr>
                <a:xfrm flipH="1" flipV="1">
                  <a:off x="6430680" y="1870200"/>
                  <a:ext cx="347760" cy="3520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0" name=""/>
            <p:cNvGrpSpPr/>
            <p:nvPr/>
          </p:nvGrpSpPr>
          <p:grpSpPr>
            <a:xfrm>
              <a:off x="4695840" y="-402120"/>
              <a:ext cx="347760" cy="352440"/>
              <a:chOff x="4695840" y="-402120"/>
              <a:chExt cx="347760" cy="352440"/>
            </a:xfrm>
          </p:grpSpPr>
          <p:grpSp>
            <p:nvGrpSpPr>
              <p:cNvPr id="3421" name=""/>
              <p:cNvGrpSpPr/>
              <p:nvPr/>
            </p:nvGrpSpPr>
            <p:grpSpPr>
              <a:xfrm>
                <a:off x="4699080" y="-398520"/>
                <a:ext cx="342720" cy="344520"/>
                <a:chOff x="4699080" y="-398520"/>
                <a:chExt cx="342720" cy="344520"/>
              </a:xfrm>
            </p:grpSpPr>
            <p:sp>
              <p:nvSpPr>
                <p:cNvPr id="3422" name=""/>
                <p:cNvSpPr/>
                <p:nvPr/>
              </p:nvSpPr>
              <p:spPr>
                <a:xfrm flipH="1">
                  <a:off x="4699080" y="-398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H="1">
                  <a:off x="4699080" y="-398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4" name=""/>
              <p:cNvSpPr/>
              <p:nvPr/>
            </p:nvSpPr>
            <p:spPr>
              <a:xfrm flipH="1" flipV="1">
                <a:off x="4695840" y="-4021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5" name=""/>
            <p:cNvSpPr/>
            <p:nvPr/>
          </p:nvSpPr>
          <p:spPr>
            <a:xfrm flipH="1">
              <a:off x="3665160" y="-403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>
              <a:off x="4850280" y="-38880"/>
              <a:ext cx="7218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DKW 80 c/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5771160" y="-143640"/>
              <a:ext cx="72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DKW 80 a/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6459480" y="-505080"/>
              <a:ext cx="347760" cy="352440"/>
              <a:chOff x="6459480" y="-505080"/>
              <a:chExt cx="347760" cy="352440"/>
            </a:xfrm>
          </p:grpSpPr>
          <p:grpSp>
            <p:nvGrpSpPr>
              <p:cNvPr id="3429" name=""/>
              <p:cNvGrpSpPr/>
              <p:nvPr/>
            </p:nvGrpSpPr>
            <p:grpSpPr>
              <a:xfrm>
                <a:off x="6462720" y="-501480"/>
                <a:ext cx="342720" cy="344520"/>
                <a:chOff x="6462720" y="-501480"/>
                <a:chExt cx="342720" cy="344520"/>
              </a:xfrm>
            </p:grpSpPr>
            <p:sp>
              <p:nvSpPr>
                <p:cNvPr id="3430" name=""/>
                <p:cNvSpPr/>
                <p:nvPr/>
              </p:nvSpPr>
              <p:spPr>
                <a:xfrm flipH="1">
                  <a:off x="6462720" y="-501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H="1">
                  <a:off x="6462720" y="-501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2" name=""/>
              <p:cNvSpPr/>
              <p:nvPr/>
            </p:nvSpPr>
            <p:spPr>
              <a:xfrm flipH="1" flipV="1">
                <a:off x="6459480" y="-5050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3" name=""/>
            <p:cNvGrpSpPr/>
            <p:nvPr/>
          </p:nvGrpSpPr>
          <p:grpSpPr>
            <a:xfrm>
              <a:off x="7677000" y="-444960"/>
              <a:ext cx="347760" cy="352440"/>
              <a:chOff x="7677000" y="-444960"/>
              <a:chExt cx="347760" cy="352440"/>
            </a:xfrm>
          </p:grpSpPr>
          <p:grpSp>
            <p:nvGrpSpPr>
              <p:cNvPr id="3434" name=""/>
              <p:cNvGrpSpPr/>
              <p:nvPr/>
            </p:nvGrpSpPr>
            <p:grpSpPr>
              <a:xfrm>
                <a:off x="7680240" y="-441360"/>
                <a:ext cx="342720" cy="344520"/>
                <a:chOff x="7680240" y="-441360"/>
                <a:chExt cx="342720" cy="344520"/>
              </a:xfrm>
            </p:grpSpPr>
            <p:sp>
              <p:nvSpPr>
                <p:cNvPr id="3435" name=""/>
                <p:cNvSpPr/>
                <p:nvPr/>
              </p:nvSpPr>
              <p:spPr>
                <a:xfrm flipH="1">
                  <a:off x="7680240" y="-4413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H="1">
                  <a:off x="7680240" y="-4413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7" name=""/>
              <p:cNvSpPr/>
              <p:nvPr/>
            </p:nvSpPr>
            <p:spPr>
              <a:xfrm flipH="1" flipV="1">
                <a:off x="7677000" y="-4449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 flipH="1">
              <a:off x="6975360" y="-831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>
              <a:off x="7824600" y="-831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070520" y="-54000"/>
              <a:ext cx="622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69120" y="-96840"/>
              <a:ext cx="426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2" name=""/>
            <p:cNvGrpSpPr/>
            <p:nvPr/>
          </p:nvGrpSpPr>
          <p:grpSpPr>
            <a:xfrm>
              <a:off x="6698520" y="-1882440"/>
              <a:ext cx="1629360" cy="1496160"/>
              <a:chOff x="6698520" y="-1882440"/>
              <a:chExt cx="1629360" cy="1496160"/>
            </a:xfrm>
          </p:grpSpPr>
          <p:sp>
            <p:nvSpPr>
              <p:cNvPr id="3443" name=""/>
              <p:cNvSpPr/>
              <p:nvPr/>
            </p:nvSpPr>
            <p:spPr>
              <a:xfrm flipH="1">
                <a:off x="7003440" y="-140076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rot="8109600">
                <a:off x="6903720" y="-672480"/>
                <a:ext cx="107640" cy="290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rot="8109600">
                <a:off x="6730920" y="-754920"/>
                <a:ext cx="171360" cy="1630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rot="8109600">
                <a:off x="7091280" y="-857880"/>
                <a:ext cx="473040" cy="10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rot="18909600">
                <a:off x="7390800" y="-120960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K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8" name=""/>
              <p:cNvGrpSpPr/>
              <p:nvPr/>
            </p:nvGrpSpPr>
            <p:grpSpPr>
              <a:xfrm>
                <a:off x="7841880" y="-1874160"/>
                <a:ext cx="486000" cy="485640"/>
                <a:chOff x="7841880" y="-1874160"/>
                <a:chExt cx="486000" cy="485640"/>
              </a:xfrm>
            </p:grpSpPr>
            <p:sp>
              <p:nvSpPr>
                <p:cNvPr id="3449" name=""/>
                <p:cNvSpPr/>
                <p:nvPr/>
              </p:nvSpPr>
              <p:spPr>
                <a:xfrm rot="8109600">
                  <a:off x="7913520" y="-180324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H="1" flipV="1">
                  <a:off x="7841880" y="-1632240"/>
                  <a:ext cx="486000" cy="2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1" name=""/>
              <p:cNvSpPr/>
              <p:nvPr/>
            </p:nvSpPr>
            <p:spPr>
              <a:xfrm>
                <a:off x="8084520" y="-1882440"/>
                <a:ext cx="1800" cy="4946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 flipV="1">
                <a:off x="7634520" y="-1407960"/>
                <a:ext cx="98280" cy="990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7629120" y="-140400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 flipV="1">
                <a:off x="7977240" y="-1442880"/>
                <a:ext cx="9180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3750120" y="-2144160"/>
              <a:ext cx="1629720" cy="1495800"/>
              <a:chOff x="3750120" y="-2144160"/>
              <a:chExt cx="1629720" cy="1495800"/>
            </a:xfrm>
          </p:grpSpPr>
          <p:sp>
            <p:nvSpPr>
              <p:cNvPr id="3456" name=""/>
              <p:cNvSpPr/>
              <p:nvPr/>
            </p:nvSpPr>
            <p:spPr>
              <a:xfrm flipH="1">
                <a:off x="4055400" y="-1662840"/>
                <a:ext cx="1020240" cy="10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 rot="8109600">
                <a:off x="3955680" y="-934560"/>
                <a:ext cx="10764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rot="8109600">
                <a:off x="3782880" y="-101736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rot="8109600">
                <a:off x="4142880" y="-112032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 rot="18909600">
                <a:off x="4442760" y="-147168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K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1" name=""/>
              <p:cNvGrpSpPr/>
              <p:nvPr/>
            </p:nvGrpSpPr>
            <p:grpSpPr>
              <a:xfrm>
                <a:off x="4893840" y="-2135880"/>
                <a:ext cx="486000" cy="486000"/>
                <a:chOff x="4893840" y="-2135880"/>
                <a:chExt cx="486000" cy="486000"/>
              </a:xfrm>
            </p:grpSpPr>
            <p:sp>
              <p:nvSpPr>
                <p:cNvPr id="3462" name=""/>
                <p:cNvSpPr/>
                <p:nvPr/>
              </p:nvSpPr>
              <p:spPr>
                <a:xfrm rot="8109600">
                  <a:off x="4965480" y="-20649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 flipH="1" flipV="1">
                  <a:off x="4893840" y="-1893960"/>
                  <a:ext cx="486000" cy="252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4" name=""/>
              <p:cNvSpPr/>
              <p:nvPr/>
            </p:nvSpPr>
            <p:spPr>
              <a:xfrm>
                <a:off x="5136120" y="-2144160"/>
                <a:ext cx="2160" cy="4946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H="1" flipV="1">
                <a:off x="4686120" y="-1670400"/>
                <a:ext cx="98640" cy="9936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flipV="1">
                <a:off x="4681080" y="-1666080"/>
                <a:ext cx="101160" cy="1008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H="1" flipV="1">
                <a:off x="5028840" y="-1704960"/>
                <a:ext cx="92160" cy="92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1914480" y="2944440"/>
              <a:ext cx="347760" cy="352440"/>
              <a:chOff x="1914480" y="2944440"/>
              <a:chExt cx="347760" cy="352440"/>
            </a:xfrm>
          </p:grpSpPr>
          <p:grpSp>
            <p:nvGrpSpPr>
              <p:cNvPr id="3469" name=""/>
              <p:cNvGrpSpPr/>
              <p:nvPr/>
            </p:nvGrpSpPr>
            <p:grpSpPr>
              <a:xfrm>
                <a:off x="1917720" y="2948040"/>
                <a:ext cx="342720" cy="344520"/>
                <a:chOff x="1917720" y="2948040"/>
                <a:chExt cx="342720" cy="344520"/>
              </a:xfrm>
            </p:grpSpPr>
            <p:sp>
              <p:nvSpPr>
                <p:cNvPr id="3470" name=""/>
                <p:cNvSpPr/>
                <p:nvPr/>
              </p:nvSpPr>
              <p:spPr>
                <a:xfrm flipH="1">
                  <a:off x="1917720" y="294804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>
                  <a:off x="1917720" y="294804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2" name=""/>
              <p:cNvSpPr/>
              <p:nvPr/>
            </p:nvSpPr>
            <p:spPr>
              <a:xfrm flipH="1" flipV="1">
                <a:off x="1914480" y="294444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3" name=""/>
            <p:cNvGrpSpPr/>
            <p:nvPr/>
          </p:nvGrpSpPr>
          <p:grpSpPr>
            <a:xfrm>
              <a:off x="537840" y="3044880"/>
              <a:ext cx="142920" cy="139680"/>
              <a:chOff x="537840" y="3044880"/>
              <a:chExt cx="142920" cy="139680"/>
            </a:xfrm>
          </p:grpSpPr>
          <p:sp>
            <p:nvSpPr>
              <p:cNvPr id="3474" name=""/>
              <p:cNvSpPr/>
              <p:nvPr/>
            </p:nvSpPr>
            <p:spPr>
              <a:xfrm>
                <a:off x="604800" y="304488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H="1">
                <a:off x="537840" y="311472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6" name=""/>
            <p:cNvSpPr/>
            <p:nvPr/>
          </p:nvSpPr>
          <p:spPr>
            <a:xfrm>
              <a:off x="759600" y="29217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7" name=""/>
            <p:cNvGrpSpPr/>
            <p:nvPr/>
          </p:nvGrpSpPr>
          <p:grpSpPr>
            <a:xfrm>
              <a:off x="6409800" y="2680200"/>
              <a:ext cx="1724400" cy="398880"/>
              <a:chOff x="6409800" y="2680200"/>
              <a:chExt cx="1724400" cy="398880"/>
            </a:xfrm>
          </p:grpSpPr>
          <p:grpSp>
            <p:nvGrpSpPr>
              <p:cNvPr id="3478" name=""/>
              <p:cNvGrpSpPr/>
              <p:nvPr/>
            </p:nvGrpSpPr>
            <p:grpSpPr>
              <a:xfrm>
                <a:off x="7786440" y="2700000"/>
                <a:ext cx="347760" cy="352080"/>
                <a:chOff x="7786440" y="2700000"/>
                <a:chExt cx="347760" cy="352080"/>
              </a:xfrm>
            </p:grpSpPr>
            <p:grpSp>
              <p:nvGrpSpPr>
                <p:cNvPr id="3479" name=""/>
                <p:cNvGrpSpPr/>
                <p:nvPr/>
              </p:nvGrpSpPr>
              <p:grpSpPr>
                <a:xfrm>
                  <a:off x="7789680" y="2702880"/>
                  <a:ext cx="342720" cy="344160"/>
                  <a:chOff x="7789680" y="2702880"/>
                  <a:chExt cx="342720" cy="344160"/>
                </a:xfrm>
              </p:grpSpPr>
              <p:sp>
                <p:nvSpPr>
                  <p:cNvPr id="3480" name=""/>
                  <p:cNvSpPr/>
                  <p:nvPr/>
                </p:nvSpPr>
                <p:spPr>
                  <a:xfrm flipH="1">
                    <a:off x="7789680" y="270288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7789680" y="270288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2" name=""/>
                <p:cNvSpPr/>
                <p:nvPr/>
              </p:nvSpPr>
              <p:spPr>
                <a:xfrm flipH="1" flipV="1">
                  <a:off x="7786440" y="2700000"/>
                  <a:ext cx="347760" cy="352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3" name=""/>
              <p:cNvGrpSpPr/>
              <p:nvPr/>
            </p:nvGrpSpPr>
            <p:grpSpPr>
              <a:xfrm>
                <a:off x="6409800" y="2803320"/>
                <a:ext cx="142920" cy="139320"/>
                <a:chOff x="6409800" y="2803320"/>
                <a:chExt cx="142920" cy="13932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6476760" y="2803320"/>
                  <a:ext cx="0" cy="139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 flipH="1">
                  <a:off x="6409800" y="2872800"/>
                  <a:ext cx="1429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6" name=""/>
              <p:cNvSpPr/>
              <p:nvPr/>
            </p:nvSpPr>
            <p:spPr>
              <a:xfrm>
                <a:off x="6631920" y="2680200"/>
                <a:ext cx="10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13</a:t>
                </a:r>
                <a:r>
                  <a:rPr b="1" lang="de-DE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7786440" y="3536640"/>
              <a:ext cx="347400" cy="352440"/>
              <a:chOff x="7786440" y="3536640"/>
              <a:chExt cx="347400" cy="352440"/>
            </a:xfrm>
          </p:grpSpPr>
          <p:grpSp>
            <p:nvGrpSpPr>
              <p:cNvPr id="3488" name=""/>
              <p:cNvGrpSpPr/>
              <p:nvPr/>
            </p:nvGrpSpPr>
            <p:grpSpPr>
              <a:xfrm>
                <a:off x="7790040" y="3540240"/>
                <a:ext cx="342360" cy="344520"/>
                <a:chOff x="7790040" y="3540240"/>
                <a:chExt cx="342360" cy="344520"/>
              </a:xfrm>
            </p:grpSpPr>
            <p:sp>
              <p:nvSpPr>
                <p:cNvPr id="3489" name=""/>
                <p:cNvSpPr/>
                <p:nvPr/>
              </p:nvSpPr>
              <p:spPr>
                <a:xfrm flipH="1">
                  <a:off x="7789680" y="3540240"/>
                  <a:ext cx="34236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 flipH="1">
                  <a:off x="7790040" y="3540240"/>
                  <a:ext cx="342360" cy="34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1" name=""/>
              <p:cNvSpPr/>
              <p:nvPr/>
            </p:nvSpPr>
            <p:spPr>
              <a:xfrm flipH="1" flipV="1">
                <a:off x="7786440" y="3536640"/>
                <a:ext cx="34740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6381360" y="3637080"/>
              <a:ext cx="142920" cy="139680"/>
              <a:chOff x="6381360" y="3637080"/>
              <a:chExt cx="142920" cy="139680"/>
            </a:xfrm>
          </p:grpSpPr>
          <p:sp>
            <p:nvSpPr>
              <p:cNvPr id="3493" name=""/>
              <p:cNvSpPr/>
              <p:nvPr/>
            </p:nvSpPr>
            <p:spPr>
              <a:xfrm>
                <a:off x="6448320" y="363708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H="1">
                <a:off x="6381360" y="370692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5" name=""/>
            <p:cNvSpPr/>
            <p:nvPr/>
          </p:nvSpPr>
          <p:spPr>
            <a:xfrm>
              <a:off x="6622200" y="35139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2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6" name=""/>
            <p:cNvGrpSpPr/>
            <p:nvPr/>
          </p:nvGrpSpPr>
          <p:grpSpPr>
            <a:xfrm>
              <a:off x="4425480" y="1170000"/>
              <a:ext cx="142920" cy="139680"/>
              <a:chOff x="4425480" y="1170000"/>
              <a:chExt cx="142920" cy="139680"/>
            </a:xfrm>
          </p:grpSpPr>
          <p:sp>
            <p:nvSpPr>
              <p:cNvPr id="3497" name=""/>
              <p:cNvSpPr/>
              <p:nvPr/>
            </p:nvSpPr>
            <p:spPr>
              <a:xfrm>
                <a:off x="4492440" y="1170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H="1">
                <a:off x="4425480" y="1239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4571640" y="1631880"/>
              <a:ext cx="142920" cy="139680"/>
              <a:chOff x="4571640" y="1631880"/>
              <a:chExt cx="142920" cy="139680"/>
            </a:xfrm>
          </p:grpSpPr>
          <p:sp>
            <p:nvSpPr>
              <p:cNvPr id="3500" name=""/>
              <p:cNvSpPr/>
              <p:nvPr/>
            </p:nvSpPr>
            <p:spPr>
              <a:xfrm>
                <a:off x="4638600" y="16318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4571640" y="17017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2" name=""/>
            <p:cNvSpPr/>
            <p:nvPr/>
          </p:nvSpPr>
          <p:spPr>
            <a:xfrm>
              <a:off x="8333640" y="-38772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52640" y="-62892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290640" y="-806760"/>
              <a:ext cx="236160" cy="23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226760" y="-71136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3309120" y="-1024200"/>
              <a:ext cx="236520" cy="23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7" name=""/>
            <p:cNvGrpSpPr/>
            <p:nvPr/>
          </p:nvGrpSpPr>
          <p:grpSpPr>
            <a:xfrm>
              <a:off x="4113360" y="-488880"/>
              <a:ext cx="142560" cy="139680"/>
              <a:chOff x="4113360" y="-488880"/>
              <a:chExt cx="142560" cy="139680"/>
            </a:xfrm>
          </p:grpSpPr>
          <p:sp>
            <p:nvSpPr>
              <p:cNvPr id="3508" name=""/>
              <p:cNvSpPr/>
              <p:nvPr/>
            </p:nvSpPr>
            <p:spPr>
              <a:xfrm>
                <a:off x="4179600" y="-488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4113360" y="-41904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0" name=""/>
            <p:cNvGrpSpPr/>
            <p:nvPr/>
          </p:nvGrpSpPr>
          <p:grpSpPr>
            <a:xfrm>
              <a:off x="4500720" y="-42840"/>
              <a:ext cx="142560" cy="139680"/>
              <a:chOff x="4500720" y="-42840"/>
              <a:chExt cx="142560" cy="139680"/>
            </a:xfrm>
          </p:grpSpPr>
          <p:sp>
            <p:nvSpPr>
              <p:cNvPr id="3511" name=""/>
              <p:cNvSpPr/>
              <p:nvPr/>
            </p:nvSpPr>
            <p:spPr>
              <a:xfrm>
                <a:off x="4566960" y="-42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4500720" y="2700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3" name=""/>
            <p:cNvGrpSpPr/>
            <p:nvPr/>
          </p:nvGrpSpPr>
          <p:grpSpPr>
            <a:xfrm>
              <a:off x="5182920" y="403200"/>
              <a:ext cx="142920" cy="139680"/>
              <a:chOff x="5182920" y="403200"/>
              <a:chExt cx="142920" cy="139680"/>
            </a:xfrm>
          </p:grpSpPr>
          <p:sp>
            <p:nvSpPr>
              <p:cNvPr id="3514" name=""/>
              <p:cNvSpPr/>
              <p:nvPr/>
            </p:nvSpPr>
            <p:spPr>
              <a:xfrm>
                <a:off x="5249880" y="403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H="1">
                <a:off x="5182920" y="473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6106320" y="-523800"/>
              <a:ext cx="142920" cy="139680"/>
              <a:chOff x="6106320" y="-523800"/>
              <a:chExt cx="142920" cy="139680"/>
            </a:xfrm>
          </p:grpSpPr>
          <p:sp>
            <p:nvSpPr>
              <p:cNvPr id="3517" name=""/>
              <p:cNvSpPr/>
              <p:nvPr/>
            </p:nvSpPr>
            <p:spPr>
              <a:xfrm>
                <a:off x="6173640" y="-5238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H="1">
                <a:off x="6106320" y="-453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9" name=""/>
            <p:cNvGrpSpPr/>
            <p:nvPr/>
          </p:nvGrpSpPr>
          <p:grpSpPr>
            <a:xfrm>
              <a:off x="6552720" y="-42840"/>
              <a:ext cx="142920" cy="139680"/>
              <a:chOff x="6552720" y="-42840"/>
              <a:chExt cx="142920" cy="139680"/>
            </a:xfrm>
          </p:grpSpPr>
          <p:sp>
            <p:nvSpPr>
              <p:cNvPr id="3520" name=""/>
              <p:cNvSpPr/>
              <p:nvPr/>
            </p:nvSpPr>
            <p:spPr>
              <a:xfrm>
                <a:off x="6619680" y="-42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H="1">
                <a:off x="6552720" y="27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2" name=""/>
            <p:cNvGrpSpPr/>
            <p:nvPr/>
          </p:nvGrpSpPr>
          <p:grpSpPr>
            <a:xfrm>
              <a:off x="7257240" y="-433440"/>
              <a:ext cx="142920" cy="139680"/>
              <a:chOff x="7257240" y="-433440"/>
              <a:chExt cx="142920" cy="139680"/>
            </a:xfrm>
          </p:grpSpPr>
          <p:sp>
            <p:nvSpPr>
              <p:cNvPr id="3523" name=""/>
              <p:cNvSpPr/>
              <p:nvPr/>
            </p:nvSpPr>
            <p:spPr>
              <a:xfrm>
                <a:off x="7324560" y="-433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flipH="1">
                <a:off x="7257240" y="-363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7470360" y="-39600"/>
              <a:ext cx="142920" cy="139680"/>
              <a:chOff x="7470360" y="-39600"/>
              <a:chExt cx="142920" cy="139680"/>
            </a:xfrm>
          </p:grpSpPr>
          <p:sp>
            <p:nvSpPr>
              <p:cNvPr id="3526" name=""/>
              <p:cNvSpPr/>
              <p:nvPr/>
            </p:nvSpPr>
            <p:spPr>
              <a:xfrm>
                <a:off x="7537320" y="-39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flipH="1">
                <a:off x="7470360" y="302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8" name=""/>
            <p:cNvGrpSpPr/>
            <p:nvPr/>
          </p:nvGrpSpPr>
          <p:grpSpPr>
            <a:xfrm>
              <a:off x="7752960" y="291960"/>
              <a:ext cx="142920" cy="139680"/>
              <a:chOff x="7752960" y="291960"/>
              <a:chExt cx="142920" cy="139680"/>
            </a:xfrm>
          </p:grpSpPr>
          <p:sp>
            <p:nvSpPr>
              <p:cNvPr id="3529" name=""/>
              <p:cNvSpPr/>
              <p:nvPr/>
            </p:nvSpPr>
            <p:spPr>
              <a:xfrm>
                <a:off x="7819920" y="2919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flipH="1">
                <a:off x="7752960" y="3618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6810120" y="1243080"/>
              <a:ext cx="142920" cy="139680"/>
              <a:chOff x="6810120" y="1243080"/>
              <a:chExt cx="142920" cy="139680"/>
            </a:xfrm>
          </p:grpSpPr>
          <p:sp>
            <p:nvSpPr>
              <p:cNvPr id="3532" name=""/>
              <p:cNvSpPr/>
              <p:nvPr/>
            </p:nvSpPr>
            <p:spPr>
              <a:xfrm>
                <a:off x="6877080" y="1243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H="1">
                <a:off x="6810120" y="13129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4" name=""/>
            <p:cNvGrpSpPr/>
            <p:nvPr/>
          </p:nvGrpSpPr>
          <p:grpSpPr>
            <a:xfrm>
              <a:off x="7201080" y="1633680"/>
              <a:ext cx="142560" cy="139680"/>
              <a:chOff x="7201080" y="1633680"/>
              <a:chExt cx="142560" cy="139680"/>
            </a:xfrm>
          </p:grpSpPr>
          <p:sp>
            <p:nvSpPr>
              <p:cNvPr id="3535" name=""/>
              <p:cNvSpPr/>
              <p:nvPr/>
            </p:nvSpPr>
            <p:spPr>
              <a:xfrm>
                <a:off x="7267320" y="16336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H="1">
                <a:off x="7201080" y="17035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7" name=""/>
          <p:cNvGrpSpPr/>
          <p:nvPr/>
        </p:nvGrpSpPr>
        <p:grpSpPr>
          <a:xfrm>
            <a:off x="-5124600" y="-246960"/>
            <a:ext cx="17029440" cy="4077000"/>
            <a:chOff x="-5124600" y="-246960"/>
            <a:chExt cx="17029440" cy="4077000"/>
          </a:xfrm>
        </p:grpSpPr>
        <p:sp>
          <p:nvSpPr>
            <p:cNvPr id="3538" name=""/>
            <p:cNvSpPr/>
            <p:nvPr/>
          </p:nvSpPr>
          <p:spPr>
            <a:xfrm flipV="1">
              <a:off x="2832120" y="-38880"/>
              <a:ext cx="907272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206880" y="790200"/>
              <a:ext cx="8408880" cy="21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-5124600" y="1626120"/>
              <a:ext cx="15663960" cy="36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1" name=""/>
            <p:cNvGrpSpPr/>
            <p:nvPr/>
          </p:nvGrpSpPr>
          <p:grpSpPr>
            <a:xfrm>
              <a:off x="9619560" y="-87480"/>
              <a:ext cx="142920" cy="139680"/>
              <a:chOff x="9619560" y="-87480"/>
              <a:chExt cx="142920" cy="139680"/>
            </a:xfrm>
          </p:grpSpPr>
          <p:sp>
            <p:nvSpPr>
              <p:cNvPr id="3542" name=""/>
              <p:cNvSpPr/>
              <p:nvPr/>
            </p:nvSpPr>
            <p:spPr>
              <a:xfrm>
                <a:off x="9686880" y="-874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H="1">
                <a:off x="9619560" y="-169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4" name=""/>
            <p:cNvGrpSpPr/>
            <p:nvPr/>
          </p:nvGrpSpPr>
          <p:grpSpPr>
            <a:xfrm>
              <a:off x="9859680" y="447840"/>
              <a:ext cx="142920" cy="139680"/>
              <a:chOff x="9859680" y="447840"/>
              <a:chExt cx="142920" cy="139680"/>
            </a:xfrm>
          </p:grpSpPr>
          <p:sp>
            <p:nvSpPr>
              <p:cNvPr id="3545" name=""/>
              <p:cNvSpPr/>
              <p:nvPr/>
            </p:nvSpPr>
            <p:spPr>
              <a:xfrm>
                <a:off x="9926640" y="447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9859680" y="517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>
              <a:off x="9526680" y="-20952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1187280" y="-87840"/>
              <a:ext cx="1762200" cy="17607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1219320" y="739440"/>
              <a:ext cx="2106360" cy="21034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-3490920" y="279252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-3191040" y="3631680"/>
              <a:ext cx="4961160" cy="72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1647720" y="1577520"/>
              <a:ext cx="2106720" cy="21034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3" name=""/>
            <p:cNvGrpSpPr/>
            <p:nvPr/>
          </p:nvGrpSpPr>
          <p:grpSpPr>
            <a:xfrm>
              <a:off x="10067400" y="239760"/>
              <a:ext cx="142920" cy="139680"/>
              <a:chOff x="10067400" y="239760"/>
              <a:chExt cx="142920" cy="139680"/>
            </a:xfrm>
          </p:grpSpPr>
          <p:sp>
            <p:nvSpPr>
              <p:cNvPr id="3554" name=""/>
              <p:cNvSpPr/>
              <p:nvPr/>
            </p:nvSpPr>
            <p:spPr>
              <a:xfrm>
                <a:off x="10134360" y="239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H="1">
                <a:off x="10067400" y="309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6" name=""/>
            <p:cNvSpPr/>
            <p:nvPr/>
          </p:nvSpPr>
          <p:spPr>
            <a:xfrm flipV="1">
              <a:off x="2170080" y="1623600"/>
              <a:ext cx="711360" cy="2826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2031840" y="1337760"/>
              <a:ext cx="711360" cy="2826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H="1">
              <a:off x="1540440" y="1721880"/>
              <a:ext cx="72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DKW 79 a/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H="1">
              <a:off x="2534040" y="1281960"/>
              <a:ext cx="7218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DKW 79 c/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H="1">
              <a:off x="755280" y="15739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7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1" name=""/>
            <p:cNvGrpSpPr/>
            <p:nvPr/>
          </p:nvGrpSpPr>
          <p:grpSpPr>
            <a:xfrm>
              <a:off x="1179360" y="1742760"/>
              <a:ext cx="347760" cy="352440"/>
              <a:chOff x="1179360" y="1742760"/>
              <a:chExt cx="347760" cy="352440"/>
            </a:xfrm>
          </p:grpSpPr>
          <p:grpSp>
            <p:nvGrpSpPr>
              <p:cNvPr id="3562" name=""/>
              <p:cNvGrpSpPr/>
              <p:nvPr/>
            </p:nvGrpSpPr>
            <p:grpSpPr>
              <a:xfrm>
                <a:off x="1182600" y="1746360"/>
                <a:ext cx="342720" cy="344520"/>
                <a:chOff x="1182600" y="1746360"/>
                <a:chExt cx="342720" cy="344520"/>
              </a:xfrm>
            </p:grpSpPr>
            <p:sp>
              <p:nvSpPr>
                <p:cNvPr id="3563" name=""/>
                <p:cNvSpPr/>
                <p:nvPr/>
              </p:nvSpPr>
              <p:spPr>
                <a:xfrm flipH="1">
                  <a:off x="1182600" y="17463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H="1">
                  <a:off x="1182600" y="17463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5" name=""/>
              <p:cNvSpPr/>
              <p:nvPr/>
            </p:nvSpPr>
            <p:spPr>
              <a:xfrm flipH="1" flipV="1">
                <a:off x="1179360" y="17427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6" name=""/>
            <p:cNvGrpSpPr/>
            <p:nvPr/>
          </p:nvGrpSpPr>
          <p:grpSpPr>
            <a:xfrm>
              <a:off x="3267000" y="1164960"/>
              <a:ext cx="347760" cy="352440"/>
              <a:chOff x="3267000" y="1164960"/>
              <a:chExt cx="347760" cy="352440"/>
            </a:xfrm>
          </p:grpSpPr>
          <p:grpSp>
            <p:nvGrpSpPr>
              <p:cNvPr id="3567" name=""/>
              <p:cNvGrpSpPr/>
              <p:nvPr/>
            </p:nvGrpSpPr>
            <p:grpSpPr>
              <a:xfrm>
                <a:off x="3270240" y="1168560"/>
                <a:ext cx="342720" cy="344520"/>
                <a:chOff x="3270240" y="1168560"/>
                <a:chExt cx="342720" cy="344520"/>
              </a:xfrm>
            </p:grpSpPr>
            <p:sp>
              <p:nvSpPr>
                <p:cNvPr id="3568" name=""/>
                <p:cNvSpPr/>
                <p:nvPr/>
              </p:nvSpPr>
              <p:spPr>
                <a:xfrm flipH="1">
                  <a:off x="3270240" y="11685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H="1">
                  <a:off x="3270240" y="11685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0" name=""/>
              <p:cNvSpPr/>
              <p:nvPr/>
            </p:nvSpPr>
            <p:spPr>
              <a:xfrm flipH="1" flipV="1">
                <a:off x="3267000" y="11649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 flipH="1">
              <a:off x="3627000" y="14853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8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2" name=""/>
            <p:cNvGrpSpPr/>
            <p:nvPr/>
          </p:nvGrpSpPr>
          <p:grpSpPr>
            <a:xfrm>
              <a:off x="-2553120" y="2597760"/>
              <a:ext cx="1724400" cy="398880"/>
              <a:chOff x="-2553120" y="2597760"/>
              <a:chExt cx="1724400" cy="398880"/>
            </a:xfrm>
          </p:grpSpPr>
          <p:grpSp>
            <p:nvGrpSpPr>
              <p:cNvPr id="3573" name=""/>
              <p:cNvGrpSpPr/>
              <p:nvPr/>
            </p:nvGrpSpPr>
            <p:grpSpPr>
              <a:xfrm>
                <a:off x="-1176480" y="2617560"/>
                <a:ext cx="347760" cy="352080"/>
                <a:chOff x="-1176480" y="2617560"/>
                <a:chExt cx="347760" cy="352080"/>
              </a:xfrm>
            </p:grpSpPr>
            <p:grpSp>
              <p:nvGrpSpPr>
                <p:cNvPr id="3574" name=""/>
                <p:cNvGrpSpPr/>
                <p:nvPr/>
              </p:nvGrpSpPr>
              <p:grpSpPr>
                <a:xfrm>
                  <a:off x="-1173240" y="2620440"/>
                  <a:ext cx="342720" cy="344160"/>
                  <a:chOff x="-1173240" y="2620440"/>
                  <a:chExt cx="342720" cy="344160"/>
                </a:xfrm>
              </p:grpSpPr>
              <p:sp>
                <p:nvSpPr>
                  <p:cNvPr id="3575" name=""/>
                  <p:cNvSpPr/>
                  <p:nvPr/>
                </p:nvSpPr>
                <p:spPr>
                  <a:xfrm flipH="1">
                    <a:off x="-1173240" y="262044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>
                    <a:off x="-1173240" y="262044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7" name=""/>
                <p:cNvSpPr/>
                <p:nvPr/>
              </p:nvSpPr>
              <p:spPr>
                <a:xfrm flipH="1" flipV="1">
                  <a:off x="-1176480" y="2617560"/>
                  <a:ext cx="347760" cy="352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8" name=""/>
              <p:cNvGrpSpPr/>
              <p:nvPr/>
            </p:nvGrpSpPr>
            <p:grpSpPr>
              <a:xfrm>
                <a:off x="-2553120" y="2720880"/>
                <a:ext cx="142920" cy="139320"/>
                <a:chOff x="-2553120" y="2720880"/>
                <a:chExt cx="142920" cy="139320"/>
              </a:xfrm>
            </p:grpSpPr>
            <p:sp>
              <p:nvSpPr>
                <p:cNvPr id="3579" name=""/>
                <p:cNvSpPr/>
                <p:nvPr/>
              </p:nvSpPr>
              <p:spPr>
                <a:xfrm>
                  <a:off x="-2486160" y="2720880"/>
                  <a:ext cx="0" cy="139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H="1">
                  <a:off x="-2553120" y="2790360"/>
                  <a:ext cx="1429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1" name=""/>
              <p:cNvSpPr/>
              <p:nvPr/>
            </p:nvSpPr>
            <p:spPr>
              <a:xfrm>
                <a:off x="-2331000" y="2597760"/>
                <a:ext cx="10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13</a:t>
                </a: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2" name=""/>
            <p:cNvGrpSpPr/>
            <p:nvPr/>
          </p:nvGrpSpPr>
          <p:grpSpPr>
            <a:xfrm>
              <a:off x="-1176480" y="3454200"/>
              <a:ext cx="347760" cy="352440"/>
              <a:chOff x="-1176480" y="3454200"/>
              <a:chExt cx="347760" cy="352440"/>
            </a:xfrm>
          </p:grpSpPr>
          <p:grpSp>
            <p:nvGrpSpPr>
              <p:cNvPr id="3583" name=""/>
              <p:cNvGrpSpPr/>
              <p:nvPr/>
            </p:nvGrpSpPr>
            <p:grpSpPr>
              <a:xfrm>
                <a:off x="-1173240" y="3457800"/>
                <a:ext cx="342720" cy="344520"/>
                <a:chOff x="-1173240" y="3457800"/>
                <a:chExt cx="342720" cy="344520"/>
              </a:xfrm>
            </p:grpSpPr>
            <p:sp>
              <p:nvSpPr>
                <p:cNvPr id="3584" name=""/>
                <p:cNvSpPr/>
                <p:nvPr/>
              </p:nvSpPr>
              <p:spPr>
                <a:xfrm flipH="1">
                  <a:off x="-1173240" y="345780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H="1">
                  <a:off x="-1173240" y="345780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6" name=""/>
              <p:cNvSpPr/>
              <p:nvPr/>
            </p:nvSpPr>
            <p:spPr>
              <a:xfrm flipH="1" flipV="1">
                <a:off x="-1176480" y="345420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7" name=""/>
            <p:cNvSpPr/>
            <p:nvPr/>
          </p:nvSpPr>
          <p:spPr>
            <a:xfrm>
              <a:off x="-2340720" y="343116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2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98600" y="145908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137680" y="488520"/>
              <a:ext cx="236520" cy="23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066120" y="763200"/>
              <a:ext cx="236520" cy="235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686960" y="2140560"/>
              <a:ext cx="239400" cy="23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947320" y="2150640"/>
              <a:ext cx="236520" cy="235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3" name=""/>
            <p:cNvGrpSpPr/>
            <p:nvPr/>
          </p:nvGrpSpPr>
          <p:grpSpPr>
            <a:xfrm>
              <a:off x="1579320" y="1135080"/>
              <a:ext cx="142920" cy="139680"/>
              <a:chOff x="1579320" y="1135080"/>
              <a:chExt cx="142920" cy="139680"/>
            </a:xfrm>
          </p:grpSpPr>
          <p:sp>
            <p:nvSpPr>
              <p:cNvPr id="3594" name=""/>
              <p:cNvSpPr/>
              <p:nvPr/>
            </p:nvSpPr>
            <p:spPr>
              <a:xfrm>
                <a:off x="1646280" y="113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H="1">
                <a:off x="1579320" y="12049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1882440" y="2027160"/>
              <a:ext cx="142920" cy="139680"/>
              <a:chOff x="1882440" y="2027160"/>
              <a:chExt cx="142920" cy="139680"/>
            </a:xfrm>
          </p:grpSpPr>
          <p:sp>
            <p:nvSpPr>
              <p:cNvPr id="3597" name=""/>
              <p:cNvSpPr/>
              <p:nvPr/>
            </p:nvSpPr>
            <p:spPr>
              <a:xfrm>
                <a:off x="1949400" y="2027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H="1">
                <a:off x="1882440" y="20970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1693440" y="1550880"/>
              <a:ext cx="142920" cy="139680"/>
              <a:chOff x="1693440" y="1550880"/>
              <a:chExt cx="142920" cy="139680"/>
            </a:xfrm>
          </p:grpSpPr>
          <p:sp>
            <p:nvSpPr>
              <p:cNvPr id="3600" name=""/>
              <p:cNvSpPr/>
              <p:nvPr/>
            </p:nvSpPr>
            <p:spPr>
              <a:xfrm>
                <a:off x="1760400" y="15508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>
                <a:off x="1693440" y="16207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2" name=""/>
            <p:cNvGrpSpPr/>
            <p:nvPr/>
          </p:nvGrpSpPr>
          <p:grpSpPr>
            <a:xfrm>
              <a:off x="2952360" y="1035000"/>
              <a:ext cx="142920" cy="139680"/>
              <a:chOff x="2952360" y="1035000"/>
              <a:chExt cx="142920" cy="139680"/>
            </a:xfrm>
          </p:grpSpPr>
          <p:sp>
            <p:nvSpPr>
              <p:cNvPr id="3603" name=""/>
              <p:cNvSpPr/>
              <p:nvPr/>
            </p:nvSpPr>
            <p:spPr>
              <a:xfrm>
                <a:off x="3019320" y="1035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H="1">
                <a:off x="2952360" y="1104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214440" y="1962000"/>
              <a:ext cx="142920" cy="139680"/>
              <a:chOff x="3214440" y="1962000"/>
              <a:chExt cx="142920" cy="139680"/>
            </a:xfrm>
          </p:grpSpPr>
          <p:sp>
            <p:nvSpPr>
              <p:cNvPr id="3606" name=""/>
              <p:cNvSpPr/>
              <p:nvPr/>
            </p:nvSpPr>
            <p:spPr>
              <a:xfrm>
                <a:off x="3281400" y="1962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 flipH="1">
                <a:off x="3214440" y="2031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2906280" y="1566720"/>
              <a:ext cx="142920" cy="139680"/>
              <a:chOff x="2906280" y="1566720"/>
              <a:chExt cx="142920" cy="139680"/>
            </a:xfrm>
          </p:grpSpPr>
          <p:sp>
            <p:nvSpPr>
              <p:cNvPr id="3609" name=""/>
              <p:cNvSpPr/>
              <p:nvPr/>
            </p:nvSpPr>
            <p:spPr>
              <a:xfrm>
                <a:off x="2973240" y="1566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>
                <a:off x="2906280" y="16365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-1905480" y="1550880"/>
              <a:ext cx="142920" cy="139680"/>
              <a:chOff x="-1905480" y="1550880"/>
              <a:chExt cx="142920" cy="139680"/>
            </a:xfrm>
          </p:grpSpPr>
          <p:sp>
            <p:nvSpPr>
              <p:cNvPr id="3612" name=""/>
              <p:cNvSpPr/>
              <p:nvPr/>
            </p:nvSpPr>
            <p:spPr>
              <a:xfrm>
                <a:off x="-1838520" y="15508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H="1">
                <a:off x="-1905480" y="16207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"/>
            <p:cNvGrpSpPr/>
            <p:nvPr/>
          </p:nvGrpSpPr>
          <p:grpSpPr>
            <a:xfrm>
              <a:off x="3811680" y="-210960"/>
              <a:ext cx="750600" cy="352080"/>
              <a:chOff x="3811680" y="-210960"/>
              <a:chExt cx="750600" cy="352080"/>
            </a:xfrm>
          </p:grpSpPr>
          <p:grpSp>
            <p:nvGrpSpPr>
              <p:cNvPr id="3615" name=""/>
              <p:cNvGrpSpPr/>
              <p:nvPr/>
            </p:nvGrpSpPr>
            <p:grpSpPr>
              <a:xfrm>
                <a:off x="4213080" y="-210960"/>
                <a:ext cx="349200" cy="352080"/>
                <a:chOff x="4213080" y="-210960"/>
                <a:chExt cx="349200" cy="352080"/>
              </a:xfrm>
            </p:grpSpPr>
            <p:sp>
              <p:nvSpPr>
                <p:cNvPr id="3616" name=""/>
                <p:cNvSpPr/>
                <p:nvPr/>
              </p:nvSpPr>
              <p:spPr>
                <a:xfrm>
                  <a:off x="4213080" y="-207720"/>
                  <a:ext cx="342720" cy="3438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4213080" y="-207720"/>
                  <a:ext cx="342720" cy="34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V="1">
                  <a:off x="4214520" y="-210960"/>
                  <a:ext cx="347760" cy="352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9" name=""/>
              <p:cNvGrpSpPr/>
              <p:nvPr/>
            </p:nvGrpSpPr>
            <p:grpSpPr>
              <a:xfrm>
                <a:off x="3811680" y="-110880"/>
                <a:ext cx="142560" cy="139320"/>
                <a:chOff x="3811680" y="-110880"/>
                <a:chExt cx="142560" cy="139320"/>
              </a:xfrm>
            </p:grpSpPr>
            <p:sp>
              <p:nvSpPr>
                <p:cNvPr id="3620" name=""/>
                <p:cNvSpPr/>
                <p:nvPr/>
              </p:nvSpPr>
              <p:spPr>
                <a:xfrm>
                  <a:off x="3878280" y="-110880"/>
                  <a:ext cx="0" cy="139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 flipH="1">
                  <a:off x="3811680" y="-4104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2" name=""/>
            <p:cNvGrpSpPr/>
            <p:nvPr/>
          </p:nvGrpSpPr>
          <p:grpSpPr>
            <a:xfrm>
              <a:off x="3811680" y="617040"/>
              <a:ext cx="750600" cy="352440"/>
              <a:chOff x="3811680" y="617040"/>
              <a:chExt cx="750600" cy="352440"/>
            </a:xfrm>
          </p:grpSpPr>
          <p:grpSp>
            <p:nvGrpSpPr>
              <p:cNvPr id="3623" name=""/>
              <p:cNvGrpSpPr/>
              <p:nvPr/>
            </p:nvGrpSpPr>
            <p:grpSpPr>
              <a:xfrm>
                <a:off x="4213080" y="617040"/>
                <a:ext cx="349200" cy="352440"/>
                <a:chOff x="4213080" y="617040"/>
                <a:chExt cx="349200" cy="352440"/>
              </a:xfrm>
            </p:grpSpPr>
            <p:sp>
              <p:nvSpPr>
                <p:cNvPr id="3624" name=""/>
                <p:cNvSpPr/>
                <p:nvPr/>
              </p:nvSpPr>
              <p:spPr>
                <a:xfrm>
                  <a:off x="4213080" y="62064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4213080" y="62064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 flipV="1">
                  <a:off x="4214520" y="61704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7" name=""/>
              <p:cNvGrpSpPr/>
              <p:nvPr/>
            </p:nvGrpSpPr>
            <p:grpSpPr>
              <a:xfrm>
                <a:off x="3811680" y="717480"/>
                <a:ext cx="142560" cy="139680"/>
                <a:chOff x="3811680" y="717480"/>
                <a:chExt cx="142560" cy="13968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3878280" y="71748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 flipH="1">
                  <a:off x="3811680" y="78732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0" name=""/>
            <p:cNvSpPr/>
            <p:nvPr/>
          </p:nvSpPr>
          <p:spPr>
            <a:xfrm>
              <a:off x="4871520" y="-246960"/>
              <a:ext cx="9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871520" y="581760"/>
              <a:ext cx="92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871160" y="142452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3" name=""/>
          <p:cNvGrpSpPr/>
          <p:nvPr/>
        </p:nvGrpSpPr>
        <p:grpSpPr>
          <a:xfrm>
            <a:off x="-385920" y="-1011960"/>
            <a:ext cx="12908160" cy="6393600"/>
            <a:chOff x="-385920" y="-1011960"/>
            <a:chExt cx="12908160" cy="6393600"/>
          </a:xfrm>
        </p:grpSpPr>
        <p:sp>
          <p:nvSpPr>
            <p:cNvPr id="3634" name=""/>
            <p:cNvSpPr/>
            <p:nvPr/>
          </p:nvSpPr>
          <p:spPr>
            <a:xfrm flipV="1">
              <a:off x="2973240" y="243360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7215120" y="243360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6943680" y="328140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7693200" y="414828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 flipV="1">
              <a:off x="6092640" y="2479680"/>
              <a:ext cx="1719000" cy="17193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7889760" y="3974760"/>
              <a:ext cx="349200" cy="352440"/>
              <a:chOff x="7889760" y="3974760"/>
              <a:chExt cx="349200" cy="352440"/>
            </a:xfrm>
          </p:grpSpPr>
          <p:sp>
            <p:nvSpPr>
              <p:cNvPr id="3640" name=""/>
              <p:cNvSpPr/>
              <p:nvPr/>
            </p:nvSpPr>
            <p:spPr>
              <a:xfrm>
                <a:off x="7889760" y="39783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889760" y="39783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7891200" y="39747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3" name=""/>
            <p:cNvGrpSpPr/>
            <p:nvPr/>
          </p:nvGrpSpPr>
          <p:grpSpPr>
            <a:xfrm>
              <a:off x="7453440" y="3816360"/>
              <a:ext cx="142560" cy="139680"/>
              <a:chOff x="7453440" y="3816360"/>
              <a:chExt cx="142560" cy="139680"/>
            </a:xfrm>
          </p:grpSpPr>
          <p:sp>
            <p:nvSpPr>
              <p:cNvPr id="3644" name=""/>
              <p:cNvSpPr/>
              <p:nvPr/>
            </p:nvSpPr>
            <p:spPr>
              <a:xfrm>
                <a:off x="7520040" y="381636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H="1">
                <a:off x="7453440" y="388620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rot="2715000">
              <a:off x="7502760" y="3906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1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7" name=""/>
            <p:cNvGrpSpPr/>
            <p:nvPr/>
          </p:nvGrpSpPr>
          <p:grpSpPr>
            <a:xfrm>
              <a:off x="7197480" y="3568680"/>
              <a:ext cx="142920" cy="139680"/>
              <a:chOff x="7197480" y="3568680"/>
              <a:chExt cx="142920" cy="139680"/>
            </a:xfrm>
          </p:grpSpPr>
          <p:sp>
            <p:nvSpPr>
              <p:cNvPr id="3648" name=""/>
              <p:cNvSpPr/>
              <p:nvPr/>
            </p:nvSpPr>
            <p:spPr>
              <a:xfrm>
                <a:off x="7264440" y="35686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H="1">
                <a:off x="7197480" y="36385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0" name=""/>
            <p:cNvSpPr/>
            <p:nvPr/>
          </p:nvSpPr>
          <p:spPr>
            <a:xfrm>
              <a:off x="8785080" y="39783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912080" y="3112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147080" y="22636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3" name=""/>
            <p:cNvGrpSpPr/>
            <p:nvPr/>
          </p:nvGrpSpPr>
          <p:grpSpPr>
            <a:xfrm>
              <a:off x="7530840" y="3213000"/>
              <a:ext cx="142920" cy="139680"/>
              <a:chOff x="7530840" y="3213000"/>
              <a:chExt cx="142920" cy="139680"/>
            </a:xfrm>
          </p:grpSpPr>
          <p:sp>
            <p:nvSpPr>
              <p:cNvPr id="3654" name=""/>
              <p:cNvSpPr/>
              <p:nvPr/>
            </p:nvSpPr>
            <p:spPr>
              <a:xfrm>
                <a:off x="7597800" y="3213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7530840" y="3282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6" name=""/>
            <p:cNvGrpSpPr/>
            <p:nvPr/>
          </p:nvGrpSpPr>
          <p:grpSpPr>
            <a:xfrm>
              <a:off x="6435360" y="2816280"/>
              <a:ext cx="142920" cy="139680"/>
              <a:chOff x="6435360" y="2816280"/>
              <a:chExt cx="142920" cy="139680"/>
            </a:xfrm>
          </p:grpSpPr>
          <p:sp>
            <p:nvSpPr>
              <p:cNvPr id="3657" name=""/>
              <p:cNvSpPr/>
              <p:nvPr/>
            </p:nvSpPr>
            <p:spPr>
              <a:xfrm>
                <a:off x="6502320" y="2816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H="1">
                <a:off x="6435360" y="2886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9" name=""/>
            <p:cNvSpPr/>
            <p:nvPr/>
          </p:nvSpPr>
          <p:spPr>
            <a:xfrm flipH="1">
              <a:off x="6504120" y="2890440"/>
              <a:ext cx="24300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0" name=""/>
            <p:cNvGrpSpPr/>
            <p:nvPr/>
          </p:nvGrpSpPr>
          <p:grpSpPr>
            <a:xfrm>
              <a:off x="6629040" y="2370240"/>
              <a:ext cx="142920" cy="139680"/>
              <a:chOff x="6629040" y="2370240"/>
              <a:chExt cx="142920" cy="139680"/>
            </a:xfrm>
          </p:grpSpPr>
          <p:sp>
            <p:nvSpPr>
              <p:cNvPr id="3661" name=""/>
              <p:cNvSpPr/>
              <p:nvPr/>
            </p:nvSpPr>
            <p:spPr>
              <a:xfrm>
                <a:off x="6696000" y="23702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6629040" y="24400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3" name=""/>
            <p:cNvGrpSpPr/>
            <p:nvPr/>
          </p:nvGrpSpPr>
          <p:grpSpPr>
            <a:xfrm>
              <a:off x="5954760" y="1928520"/>
              <a:ext cx="347760" cy="352440"/>
              <a:chOff x="5954760" y="1928520"/>
              <a:chExt cx="347760" cy="352440"/>
            </a:xfrm>
          </p:grpSpPr>
          <p:grpSp>
            <p:nvGrpSpPr>
              <p:cNvPr id="3664" name=""/>
              <p:cNvGrpSpPr/>
              <p:nvPr/>
            </p:nvGrpSpPr>
            <p:grpSpPr>
              <a:xfrm>
                <a:off x="5956200" y="1931760"/>
                <a:ext cx="343080" cy="344520"/>
                <a:chOff x="5956200" y="1931760"/>
                <a:chExt cx="343080" cy="344520"/>
              </a:xfrm>
            </p:grpSpPr>
            <p:sp>
              <p:nvSpPr>
                <p:cNvPr id="3665" name=""/>
                <p:cNvSpPr/>
                <p:nvPr/>
              </p:nvSpPr>
              <p:spPr>
                <a:xfrm>
                  <a:off x="5956200" y="193176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5956200" y="193176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7" name=""/>
              <p:cNvSpPr/>
              <p:nvPr/>
            </p:nvSpPr>
            <p:spPr>
              <a:xfrm flipV="1">
                <a:off x="5954760" y="19285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8" name=""/>
            <p:cNvGrpSpPr/>
            <p:nvPr/>
          </p:nvGrpSpPr>
          <p:grpSpPr>
            <a:xfrm>
              <a:off x="6929280" y="2795760"/>
              <a:ext cx="347760" cy="352080"/>
              <a:chOff x="6929280" y="2795760"/>
              <a:chExt cx="347760" cy="352080"/>
            </a:xfrm>
          </p:grpSpPr>
          <p:grpSp>
            <p:nvGrpSpPr>
              <p:cNvPr id="3669" name=""/>
              <p:cNvGrpSpPr/>
              <p:nvPr/>
            </p:nvGrpSpPr>
            <p:grpSpPr>
              <a:xfrm>
                <a:off x="6930720" y="2798280"/>
                <a:ext cx="343080" cy="344160"/>
                <a:chOff x="6930720" y="2798280"/>
                <a:chExt cx="343080" cy="344160"/>
              </a:xfrm>
            </p:grpSpPr>
            <p:sp>
              <p:nvSpPr>
                <p:cNvPr id="3670" name=""/>
                <p:cNvSpPr/>
                <p:nvPr/>
              </p:nvSpPr>
              <p:spPr>
                <a:xfrm>
                  <a:off x="6930720" y="2798280"/>
                  <a:ext cx="34308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6930720" y="2798280"/>
                  <a:ext cx="34308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2" name=""/>
              <p:cNvSpPr/>
              <p:nvPr/>
            </p:nvSpPr>
            <p:spPr>
              <a:xfrm flipV="1">
                <a:off x="6929280" y="2795760"/>
                <a:ext cx="347760" cy="352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3" name=""/>
            <p:cNvSpPr/>
            <p:nvPr/>
          </p:nvSpPr>
          <p:spPr>
            <a:xfrm>
              <a:off x="5996160" y="22932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8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795720" y="31600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9153360" y="466560"/>
              <a:ext cx="0" cy="491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flipV="1">
              <a:off x="6524640" y="75420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V="1">
              <a:off x="5979960" y="-873000"/>
              <a:ext cx="1681200" cy="167472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flipV="1">
              <a:off x="6540480" y="75420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V="1">
              <a:off x="4433760" y="159228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flipV="1">
              <a:off x="-361800" y="-73800"/>
              <a:ext cx="719928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V="1">
              <a:off x="-371520" y="752760"/>
              <a:ext cx="6932520" cy="1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V="1">
              <a:off x="-385920" y="159084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4867200" y="43920"/>
              <a:ext cx="1062000" cy="378720"/>
              <a:chOff x="4867200" y="43920"/>
              <a:chExt cx="1062000" cy="378720"/>
            </a:xfrm>
          </p:grpSpPr>
          <p:sp>
            <p:nvSpPr>
              <p:cNvPr id="3684" name=""/>
              <p:cNvSpPr/>
              <p:nvPr/>
            </p:nvSpPr>
            <p:spPr>
              <a:xfrm flipH="1">
                <a:off x="4875120" y="23796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4867200" y="15876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5611680" y="102960"/>
                <a:ext cx="193680" cy="250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rot="5400000">
                <a:off x="5540400" y="33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9933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8" name=""/>
            <p:cNvGrpSpPr/>
            <p:nvPr/>
          </p:nvGrpSpPr>
          <p:grpSpPr>
            <a:xfrm>
              <a:off x="7713720" y="-787680"/>
              <a:ext cx="347760" cy="352440"/>
              <a:chOff x="7713720" y="-787680"/>
              <a:chExt cx="347760" cy="352440"/>
            </a:xfrm>
          </p:grpSpPr>
          <p:grpSp>
            <p:nvGrpSpPr>
              <p:cNvPr id="3689" name=""/>
              <p:cNvGrpSpPr/>
              <p:nvPr/>
            </p:nvGrpSpPr>
            <p:grpSpPr>
              <a:xfrm>
                <a:off x="7715160" y="-784440"/>
                <a:ext cx="343080" cy="344520"/>
                <a:chOff x="7715160" y="-784440"/>
                <a:chExt cx="343080" cy="344520"/>
              </a:xfrm>
            </p:grpSpPr>
            <p:sp>
              <p:nvSpPr>
                <p:cNvPr id="3690" name=""/>
                <p:cNvSpPr/>
                <p:nvPr/>
              </p:nvSpPr>
              <p:spPr>
                <a:xfrm>
                  <a:off x="7715160" y="-7844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7715160" y="-78444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2" name=""/>
              <p:cNvSpPr/>
              <p:nvPr/>
            </p:nvSpPr>
            <p:spPr>
              <a:xfrm flipV="1">
                <a:off x="7713720" y="-7876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3" name=""/>
            <p:cNvSpPr/>
            <p:nvPr/>
          </p:nvSpPr>
          <p:spPr>
            <a:xfrm>
              <a:off x="5932080" y="55980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4" name=""/>
            <p:cNvGrpSpPr/>
            <p:nvPr/>
          </p:nvGrpSpPr>
          <p:grpSpPr>
            <a:xfrm>
              <a:off x="6710400" y="198000"/>
              <a:ext cx="347760" cy="352440"/>
              <a:chOff x="6710400" y="198000"/>
              <a:chExt cx="347760" cy="352440"/>
            </a:xfrm>
          </p:grpSpPr>
          <p:grpSp>
            <p:nvGrpSpPr>
              <p:cNvPr id="3695" name=""/>
              <p:cNvGrpSpPr/>
              <p:nvPr/>
            </p:nvGrpSpPr>
            <p:grpSpPr>
              <a:xfrm>
                <a:off x="6711840" y="201240"/>
                <a:ext cx="343080" cy="344520"/>
                <a:chOff x="6711840" y="201240"/>
                <a:chExt cx="343080" cy="344520"/>
              </a:xfrm>
            </p:grpSpPr>
            <p:sp>
              <p:nvSpPr>
                <p:cNvPr id="3696" name=""/>
                <p:cNvSpPr/>
                <p:nvPr/>
              </p:nvSpPr>
              <p:spPr>
                <a:xfrm>
                  <a:off x="6711840" y="2012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6711840" y="20124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8" name=""/>
              <p:cNvSpPr/>
              <p:nvPr/>
            </p:nvSpPr>
            <p:spPr>
              <a:xfrm flipV="1">
                <a:off x="6710400" y="19800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7659360" y="-10119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6453000" y="-1324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1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396120" y="546120"/>
              <a:ext cx="426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6932520" y="-8928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6832080" y="695160"/>
              <a:ext cx="142920" cy="139680"/>
              <a:chOff x="6832080" y="695160"/>
              <a:chExt cx="142920" cy="139680"/>
            </a:xfrm>
          </p:grpSpPr>
          <p:sp>
            <p:nvSpPr>
              <p:cNvPr id="3704" name=""/>
              <p:cNvSpPr/>
              <p:nvPr/>
            </p:nvSpPr>
            <p:spPr>
              <a:xfrm>
                <a:off x="6899040" y="695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H="1">
                <a:off x="6832080" y="7650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6" name=""/>
            <p:cNvGrpSpPr/>
            <p:nvPr/>
          </p:nvGrpSpPr>
          <p:grpSpPr>
            <a:xfrm>
              <a:off x="5992200" y="-123840"/>
              <a:ext cx="142920" cy="139680"/>
              <a:chOff x="5992200" y="-123840"/>
              <a:chExt cx="142920" cy="139680"/>
            </a:xfrm>
          </p:grpSpPr>
          <p:sp>
            <p:nvSpPr>
              <p:cNvPr id="3707" name=""/>
              <p:cNvSpPr/>
              <p:nvPr/>
            </p:nvSpPr>
            <p:spPr>
              <a:xfrm>
                <a:off x="6059520" y="-1238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H="1">
                <a:off x="5992200" y="-536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9" name=""/>
            <p:cNvGrpSpPr/>
            <p:nvPr/>
          </p:nvGrpSpPr>
          <p:grpSpPr>
            <a:xfrm>
              <a:off x="6316200" y="316080"/>
              <a:ext cx="142920" cy="139680"/>
              <a:chOff x="6316200" y="316080"/>
              <a:chExt cx="142920" cy="139680"/>
            </a:xfrm>
          </p:grpSpPr>
          <p:sp>
            <p:nvSpPr>
              <p:cNvPr id="3710" name=""/>
              <p:cNvSpPr/>
              <p:nvPr/>
            </p:nvSpPr>
            <p:spPr>
              <a:xfrm>
                <a:off x="6383160" y="316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H="1">
                <a:off x="6316200" y="3859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2" name=""/>
            <p:cNvSpPr/>
            <p:nvPr/>
          </p:nvSpPr>
          <p:spPr>
            <a:xfrm>
              <a:off x="5899320" y="-2430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148520" y="5824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460840" y="5824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165480" y="14223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 flipV="1">
              <a:off x="2190600" y="1577880"/>
              <a:ext cx="905040" cy="9050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1827360" y="1726920"/>
              <a:ext cx="347400" cy="352440"/>
              <a:chOff x="1827360" y="1726920"/>
              <a:chExt cx="347400" cy="352440"/>
            </a:xfrm>
          </p:grpSpPr>
          <p:grpSp>
            <p:nvGrpSpPr>
              <p:cNvPr id="3718" name=""/>
              <p:cNvGrpSpPr/>
              <p:nvPr/>
            </p:nvGrpSpPr>
            <p:grpSpPr>
              <a:xfrm>
                <a:off x="1828440" y="1730160"/>
                <a:ext cx="342720" cy="344520"/>
                <a:chOff x="1828440" y="1730160"/>
                <a:chExt cx="342720" cy="34452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1828440" y="17301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1828440" y="17301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1" name=""/>
              <p:cNvSpPr/>
              <p:nvPr/>
            </p:nvSpPr>
            <p:spPr>
              <a:xfrm flipV="1">
                <a:off x="1827360" y="172692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2" name=""/>
            <p:cNvSpPr/>
            <p:nvPr/>
          </p:nvSpPr>
          <p:spPr>
            <a:xfrm>
              <a:off x="2033640" y="14994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8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3" name=""/>
            <p:cNvGrpSpPr/>
            <p:nvPr/>
          </p:nvGrpSpPr>
          <p:grpSpPr>
            <a:xfrm>
              <a:off x="2771280" y="1519200"/>
              <a:ext cx="142920" cy="139680"/>
              <a:chOff x="2771280" y="1519200"/>
              <a:chExt cx="142920" cy="139680"/>
            </a:xfrm>
          </p:grpSpPr>
          <p:sp>
            <p:nvSpPr>
              <p:cNvPr id="3724" name=""/>
              <p:cNvSpPr/>
              <p:nvPr/>
            </p:nvSpPr>
            <p:spPr>
              <a:xfrm>
                <a:off x="2838240" y="1519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H="1">
                <a:off x="2771280" y="15890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6" name=""/>
            <p:cNvGrpSpPr/>
            <p:nvPr/>
          </p:nvGrpSpPr>
          <p:grpSpPr>
            <a:xfrm>
              <a:off x="2647440" y="2027160"/>
              <a:ext cx="142920" cy="139680"/>
              <a:chOff x="2647440" y="2027160"/>
              <a:chExt cx="142920" cy="139680"/>
            </a:xfrm>
          </p:grpSpPr>
          <p:sp>
            <p:nvSpPr>
              <p:cNvPr id="3727" name=""/>
              <p:cNvSpPr/>
              <p:nvPr/>
            </p:nvSpPr>
            <p:spPr>
              <a:xfrm>
                <a:off x="2714400" y="20271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H="1">
                <a:off x="2647440" y="20970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9" name=""/>
            <p:cNvSpPr/>
            <p:nvPr/>
          </p:nvSpPr>
          <p:spPr>
            <a:xfrm>
              <a:off x="3164040" y="22654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3357720" y="2223000"/>
              <a:ext cx="2007720" cy="398880"/>
              <a:chOff x="3357720" y="2223000"/>
              <a:chExt cx="2007720" cy="398880"/>
            </a:xfrm>
          </p:grpSpPr>
          <p:sp>
            <p:nvSpPr>
              <p:cNvPr id="3731" name=""/>
              <p:cNvSpPr/>
              <p:nvPr/>
            </p:nvSpPr>
            <p:spPr>
              <a:xfrm>
                <a:off x="3707640" y="222300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2" name=""/>
              <p:cNvGrpSpPr/>
              <p:nvPr/>
            </p:nvGrpSpPr>
            <p:grpSpPr>
              <a:xfrm>
                <a:off x="5016240" y="2260080"/>
                <a:ext cx="349200" cy="352440"/>
                <a:chOff x="5016240" y="2260080"/>
                <a:chExt cx="349200" cy="352440"/>
              </a:xfrm>
            </p:grpSpPr>
            <p:sp>
              <p:nvSpPr>
                <p:cNvPr id="3733" name=""/>
                <p:cNvSpPr/>
                <p:nvPr/>
              </p:nvSpPr>
              <p:spPr>
                <a:xfrm>
                  <a:off x="5016240" y="22636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5016240" y="22636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V="1">
                  <a:off x="5017680" y="226008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6" name=""/>
              <p:cNvGrpSpPr/>
              <p:nvPr/>
            </p:nvGrpSpPr>
            <p:grpSpPr>
              <a:xfrm>
                <a:off x="3357720" y="2369880"/>
                <a:ext cx="142560" cy="139680"/>
                <a:chOff x="3357720" y="2369880"/>
                <a:chExt cx="142560" cy="139680"/>
              </a:xfrm>
            </p:grpSpPr>
            <p:sp>
              <p:nvSpPr>
                <p:cNvPr id="3737" name=""/>
                <p:cNvSpPr/>
                <p:nvPr/>
              </p:nvSpPr>
              <p:spPr>
                <a:xfrm>
                  <a:off x="3424320" y="236988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 flipH="1">
                  <a:off x="3357720" y="243972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9" name=""/>
            <p:cNvGrpSpPr/>
            <p:nvPr/>
          </p:nvGrpSpPr>
          <p:grpSpPr>
            <a:xfrm>
              <a:off x="3357720" y="1375200"/>
              <a:ext cx="2007720" cy="398880"/>
              <a:chOff x="3357720" y="1375200"/>
              <a:chExt cx="2007720" cy="398880"/>
            </a:xfrm>
          </p:grpSpPr>
          <p:sp>
            <p:nvSpPr>
              <p:cNvPr id="3740" name=""/>
              <p:cNvSpPr/>
              <p:nvPr/>
            </p:nvSpPr>
            <p:spPr>
              <a:xfrm>
                <a:off x="3611160" y="1375200"/>
                <a:ext cx="124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5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1" name=""/>
              <p:cNvGrpSpPr/>
              <p:nvPr/>
            </p:nvGrpSpPr>
            <p:grpSpPr>
              <a:xfrm>
                <a:off x="5016240" y="1412280"/>
                <a:ext cx="349200" cy="352440"/>
                <a:chOff x="5016240" y="1412280"/>
                <a:chExt cx="349200" cy="352440"/>
              </a:xfrm>
            </p:grpSpPr>
            <p:sp>
              <p:nvSpPr>
                <p:cNvPr id="3742" name=""/>
                <p:cNvSpPr/>
                <p:nvPr/>
              </p:nvSpPr>
              <p:spPr>
                <a:xfrm>
                  <a:off x="5016240" y="14158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5016240" y="14158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 flipV="1">
                  <a:off x="5017680" y="141228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5" name=""/>
              <p:cNvGrpSpPr/>
              <p:nvPr/>
            </p:nvGrpSpPr>
            <p:grpSpPr>
              <a:xfrm>
                <a:off x="3357720" y="1522080"/>
                <a:ext cx="142560" cy="139680"/>
                <a:chOff x="3357720" y="1522080"/>
                <a:chExt cx="142560" cy="13968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3424320" y="152208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 flipH="1">
                  <a:off x="3357720" y="159192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8" name=""/>
          <p:cNvGrpSpPr/>
          <p:nvPr/>
        </p:nvGrpSpPr>
        <p:grpSpPr>
          <a:xfrm>
            <a:off x="-2629080" y="-5040000"/>
            <a:ext cx="11711160" cy="9376560"/>
            <a:chOff x="-2629080" y="-5040000"/>
            <a:chExt cx="11711160" cy="9376560"/>
          </a:xfrm>
        </p:grpSpPr>
        <p:sp>
          <p:nvSpPr>
            <p:cNvPr id="3749" name=""/>
            <p:cNvSpPr/>
            <p:nvPr/>
          </p:nvSpPr>
          <p:spPr>
            <a:xfrm flipV="1">
              <a:off x="2424240" y="-5016960"/>
              <a:ext cx="6657840" cy="665820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2077560" y="-5040000"/>
              <a:ext cx="5845320" cy="584208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1" name=""/>
            <p:cNvGrpSpPr/>
            <p:nvPr/>
          </p:nvGrpSpPr>
          <p:grpSpPr>
            <a:xfrm>
              <a:off x="5378400" y="-2629080"/>
              <a:ext cx="1326960" cy="1326240"/>
              <a:chOff x="5378400" y="-2629080"/>
              <a:chExt cx="1326960" cy="1326240"/>
            </a:xfrm>
          </p:grpSpPr>
          <p:grpSp>
            <p:nvGrpSpPr>
              <p:cNvPr id="3752" name=""/>
              <p:cNvGrpSpPr/>
              <p:nvPr/>
            </p:nvGrpSpPr>
            <p:grpSpPr>
              <a:xfrm>
                <a:off x="6219360" y="-2629080"/>
                <a:ext cx="486000" cy="494640"/>
                <a:chOff x="6219360" y="-2629080"/>
                <a:chExt cx="486000" cy="494640"/>
              </a:xfrm>
            </p:grpSpPr>
            <p:grpSp>
              <p:nvGrpSpPr>
                <p:cNvPr id="3753" name=""/>
                <p:cNvGrpSpPr/>
                <p:nvPr/>
              </p:nvGrpSpPr>
              <p:grpSpPr>
                <a:xfrm>
                  <a:off x="6219360" y="-2622240"/>
                  <a:ext cx="486000" cy="485640"/>
                  <a:chOff x="6219360" y="-2622240"/>
                  <a:chExt cx="486000" cy="485640"/>
                </a:xfrm>
              </p:grpSpPr>
              <p:sp>
                <p:nvSpPr>
                  <p:cNvPr id="3754" name=""/>
                  <p:cNvSpPr/>
                  <p:nvPr/>
                </p:nvSpPr>
                <p:spPr>
                  <a:xfrm rot="18899400">
                    <a:off x="6290640" y="-2551320"/>
                    <a:ext cx="34272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5" name=""/>
                  <p:cNvSpPr/>
                  <p:nvPr/>
                </p:nvSpPr>
                <p:spPr>
                  <a:xfrm>
                    <a:off x="6219360" y="-2379960"/>
                    <a:ext cx="486000" cy="10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56" name=""/>
                <p:cNvSpPr/>
                <p:nvPr/>
              </p:nvSpPr>
              <p:spPr>
                <a:xfrm flipH="1" flipV="1">
                  <a:off x="6463080" y="-262908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7" name=""/>
              <p:cNvSpPr/>
              <p:nvPr/>
            </p:nvSpPr>
            <p:spPr>
              <a:xfrm rot="18899400">
                <a:off x="5344560" y="-2064960"/>
                <a:ext cx="119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5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8" name=""/>
              <p:cNvGrpSpPr/>
              <p:nvPr/>
            </p:nvGrpSpPr>
            <p:grpSpPr>
              <a:xfrm>
                <a:off x="5450040" y="-1466640"/>
                <a:ext cx="101520" cy="100800"/>
                <a:chOff x="5450040" y="-1466640"/>
                <a:chExt cx="101520" cy="100800"/>
              </a:xfrm>
            </p:grpSpPr>
            <p:sp>
              <p:nvSpPr>
                <p:cNvPr id="3759" name=""/>
                <p:cNvSpPr/>
                <p:nvPr/>
              </p:nvSpPr>
              <p:spPr>
                <a:xfrm>
                  <a:off x="5450040" y="-1464840"/>
                  <a:ext cx="99360" cy="990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H="1">
                  <a:off x="5450760" y="-146664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1" name=""/>
            <p:cNvSpPr/>
            <p:nvPr/>
          </p:nvSpPr>
          <p:spPr>
            <a:xfrm flipV="1">
              <a:off x="2769840" y="-2769840"/>
              <a:ext cx="5251320" cy="52545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V="1">
              <a:off x="3145680" y="-1646640"/>
              <a:ext cx="4977000" cy="4978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5992920" y="-2019960"/>
              <a:ext cx="1279080" cy="1275480"/>
              <a:chOff x="5992920" y="-2019960"/>
              <a:chExt cx="1279080" cy="1275480"/>
            </a:xfrm>
          </p:grpSpPr>
          <p:grpSp>
            <p:nvGrpSpPr>
              <p:cNvPr id="3764" name=""/>
              <p:cNvGrpSpPr/>
              <p:nvPr/>
            </p:nvGrpSpPr>
            <p:grpSpPr>
              <a:xfrm>
                <a:off x="6785640" y="-2019960"/>
                <a:ext cx="486360" cy="494640"/>
                <a:chOff x="6785640" y="-2019960"/>
                <a:chExt cx="486360" cy="494640"/>
              </a:xfrm>
            </p:grpSpPr>
            <p:grpSp>
              <p:nvGrpSpPr>
                <p:cNvPr id="3765" name=""/>
                <p:cNvGrpSpPr/>
                <p:nvPr/>
              </p:nvGrpSpPr>
              <p:grpSpPr>
                <a:xfrm>
                  <a:off x="6785640" y="-2013120"/>
                  <a:ext cx="486360" cy="486000"/>
                  <a:chOff x="6785640" y="-2013120"/>
                  <a:chExt cx="486360" cy="486000"/>
                </a:xfrm>
              </p:grpSpPr>
              <p:sp>
                <p:nvSpPr>
                  <p:cNvPr id="3766" name=""/>
                  <p:cNvSpPr/>
                  <p:nvPr/>
                </p:nvSpPr>
                <p:spPr>
                  <a:xfrm rot="18899400">
                    <a:off x="6856920" y="-194220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7" name=""/>
                  <p:cNvSpPr/>
                  <p:nvPr/>
                </p:nvSpPr>
                <p:spPr>
                  <a:xfrm>
                    <a:off x="6785640" y="-1770480"/>
                    <a:ext cx="486000" cy="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8" name=""/>
                <p:cNvSpPr/>
                <p:nvPr/>
              </p:nvSpPr>
              <p:spPr>
                <a:xfrm flipH="1" flipV="1">
                  <a:off x="7029720" y="-201996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9" name=""/>
              <p:cNvSpPr/>
              <p:nvPr/>
            </p:nvSpPr>
            <p:spPr>
              <a:xfrm rot="18899400">
                <a:off x="5979960" y="-145620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0" name=""/>
              <p:cNvGrpSpPr/>
              <p:nvPr/>
            </p:nvGrpSpPr>
            <p:grpSpPr>
              <a:xfrm>
                <a:off x="6016320" y="-857160"/>
                <a:ext cx="101520" cy="100800"/>
                <a:chOff x="6016320" y="-857160"/>
                <a:chExt cx="101520" cy="100800"/>
              </a:xfrm>
            </p:grpSpPr>
            <p:sp>
              <p:nvSpPr>
                <p:cNvPr id="3771" name=""/>
                <p:cNvSpPr/>
                <p:nvPr/>
              </p:nvSpPr>
              <p:spPr>
                <a:xfrm>
                  <a:off x="6016320" y="-855000"/>
                  <a:ext cx="99000" cy="986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 flipH="1">
                  <a:off x="6017040" y="-85716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3" name=""/>
            <p:cNvGrpSpPr/>
            <p:nvPr/>
          </p:nvGrpSpPr>
          <p:grpSpPr>
            <a:xfrm>
              <a:off x="6602400" y="-1410480"/>
              <a:ext cx="1279080" cy="1275480"/>
              <a:chOff x="6602400" y="-1410480"/>
              <a:chExt cx="1279080" cy="1275480"/>
            </a:xfrm>
          </p:grpSpPr>
          <p:grpSp>
            <p:nvGrpSpPr>
              <p:cNvPr id="3774" name=""/>
              <p:cNvGrpSpPr/>
              <p:nvPr/>
            </p:nvGrpSpPr>
            <p:grpSpPr>
              <a:xfrm>
                <a:off x="7395120" y="-1410480"/>
                <a:ext cx="486360" cy="494640"/>
                <a:chOff x="7395120" y="-1410480"/>
                <a:chExt cx="486360" cy="494640"/>
              </a:xfrm>
            </p:grpSpPr>
            <p:grpSp>
              <p:nvGrpSpPr>
                <p:cNvPr id="3775" name=""/>
                <p:cNvGrpSpPr/>
                <p:nvPr/>
              </p:nvGrpSpPr>
              <p:grpSpPr>
                <a:xfrm>
                  <a:off x="7395120" y="-1403640"/>
                  <a:ext cx="486360" cy="486000"/>
                  <a:chOff x="7395120" y="-1403640"/>
                  <a:chExt cx="486360" cy="486000"/>
                </a:xfrm>
              </p:grpSpPr>
              <p:sp>
                <p:nvSpPr>
                  <p:cNvPr id="3776" name=""/>
                  <p:cNvSpPr/>
                  <p:nvPr/>
                </p:nvSpPr>
                <p:spPr>
                  <a:xfrm rot="18899400">
                    <a:off x="7466400" y="-133272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>
                    <a:off x="7395120" y="-1161000"/>
                    <a:ext cx="486000" cy="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8" name=""/>
                <p:cNvSpPr/>
                <p:nvPr/>
              </p:nvSpPr>
              <p:spPr>
                <a:xfrm flipH="1" flipV="1">
                  <a:off x="7639200" y="-1410480"/>
                  <a:ext cx="3960" cy="494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9" name=""/>
              <p:cNvSpPr/>
              <p:nvPr/>
            </p:nvSpPr>
            <p:spPr>
              <a:xfrm rot="18899400">
                <a:off x="6589440" y="-84672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0" name=""/>
              <p:cNvGrpSpPr/>
              <p:nvPr/>
            </p:nvGrpSpPr>
            <p:grpSpPr>
              <a:xfrm>
                <a:off x="6625800" y="-247680"/>
                <a:ext cx="101520" cy="100800"/>
                <a:chOff x="6625800" y="-247680"/>
                <a:chExt cx="101520" cy="100800"/>
              </a:xfrm>
            </p:grpSpPr>
            <p:sp>
              <p:nvSpPr>
                <p:cNvPr id="3781" name=""/>
                <p:cNvSpPr/>
                <p:nvPr/>
              </p:nvSpPr>
              <p:spPr>
                <a:xfrm>
                  <a:off x="6625800" y="-245520"/>
                  <a:ext cx="99000" cy="986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 flipH="1">
                  <a:off x="6626520" y="-247680"/>
                  <a:ext cx="100800" cy="10080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3" name=""/>
            <p:cNvSpPr/>
            <p:nvPr/>
          </p:nvSpPr>
          <p:spPr>
            <a:xfrm flipV="1">
              <a:off x="-2629080" y="75420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-2282760" y="159228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V="1">
              <a:off x="-1938240" y="243360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V="1">
              <a:off x="-1562040" y="3281400"/>
              <a:ext cx="482904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H="1" flipV="1">
              <a:off x="-2349720" y="2476440"/>
              <a:ext cx="1719000" cy="17193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V="1">
              <a:off x="-1533600" y="4148280"/>
              <a:ext cx="4829400" cy="144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9" name=""/>
            <p:cNvGrpSpPr/>
            <p:nvPr/>
          </p:nvGrpSpPr>
          <p:grpSpPr>
            <a:xfrm>
              <a:off x="934920" y="3937680"/>
              <a:ext cx="2008080" cy="398880"/>
              <a:chOff x="934920" y="3937680"/>
              <a:chExt cx="2008080" cy="398880"/>
            </a:xfrm>
          </p:grpSpPr>
          <p:sp>
            <p:nvSpPr>
              <p:cNvPr id="3790" name=""/>
              <p:cNvSpPr/>
              <p:nvPr/>
            </p:nvSpPr>
            <p:spPr>
              <a:xfrm>
                <a:off x="1285200" y="393768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ffff"/>
                    </a:solidFill>
                    <a:latin typeface="Times New Roman"/>
                  </a:rPr>
                  <a:t>Gleis 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1" name=""/>
              <p:cNvGrpSpPr/>
              <p:nvPr/>
            </p:nvGrpSpPr>
            <p:grpSpPr>
              <a:xfrm>
                <a:off x="2593800" y="3974760"/>
                <a:ext cx="349200" cy="352440"/>
                <a:chOff x="2593800" y="3974760"/>
                <a:chExt cx="349200" cy="352440"/>
              </a:xfrm>
            </p:grpSpPr>
            <p:sp>
              <p:nvSpPr>
                <p:cNvPr id="3792" name=""/>
                <p:cNvSpPr/>
                <p:nvPr/>
              </p:nvSpPr>
              <p:spPr>
                <a:xfrm>
                  <a:off x="2593800" y="39783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2593800" y="39783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 flipV="1">
                  <a:off x="2595240" y="397476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5" name=""/>
              <p:cNvGrpSpPr/>
              <p:nvPr/>
            </p:nvGrpSpPr>
            <p:grpSpPr>
              <a:xfrm>
                <a:off x="934920" y="4084560"/>
                <a:ext cx="142560" cy="139680"/>
                <a:chOff x="934920" y="4084560"/>
                <a:chExt cx="142560" cy="139680"/>
              </a:xfrm>
            </p:grpSpPr>
            <p:sp>
              <p:nvSpPr>
                <p:cNvPr id="3796" name=""/>
                <p:cNvSpPr/>
                <p:nvPr/>
              </p:nvSpPr>
              <p:spPr>
                <a:xfrm>
                  <a:off x="1001520" y="4084560"/>
                  <a:ext cx="0" cy="139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 flipH="1">
                  <a:off x="934920" y="4154400"/>
                  <a:ext cx="1425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8" name=""/>
            <p:cNvGrpSpPr/>
            <p:nvPr/>
          </p:nvGrpSpPr>
          <p:grpSpPr>
            <a:xfrm>
              <a:off x="-549360" y="3974760"/>
              <a:ext cx="349200" cy="352440"/>
              <a:chOff x="-549360" y="3974760"/>
              <a:chExt cx="349200" cy="352440"/>
            </a:xfrm>
          </p:grpSpPr>
          <p:sp>
            <p:nvSpPr>
              <p:cNvPr id="3799" name=""/>
              <p:cNvSpPr/>
              <p:nvPr/>
            </p:nvSpPr>
            <p:spPr>
              <a:xfrm>
                <a:off x="-549360" y="39783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-549360" y="39783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 flipV="1">
                <a:off x="-547920" y="39747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2" name=""/>
            <p:cNvSpPr/>
            <p:nvPr/>
          </p:nvSpPr>
          <p:spPr>
            <a:xfrm rot="2715000">
              <a:off x="-936000" y="3906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1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3" name=""/>
            <p:cNvGrpSpPr/>
            <p:nvPr/>
          </p:nvGrpSpPr>
          <p:grpSpPr>
            <a:xfrm>
              <a:off x="-1072080" y="3745080"/>
              <a:ext cx="142920" cy="139680"/>
              <a:chOff x="-1072080" y="3745080"/>
              <a:chExt cx="142920" cy="139680"/>
            </a:xfrm>
          </p:grpSpPr>
          <p:sp>
            <p:nvSpPr>
              <p:cNvPr id="3804" name=""/>
              <p:cNvSpPr/>
              <p:nvPr/>
            </p:nvSpPr>
            <p:spPr>
              <a:xfrm>
                <a:off x="-1005120" y="37450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H="1">
                <a:off x="-1072080" y="38149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6" name=""/>
            <p:cNvSpPr/>
            <p:nvPr/>
          </p:nvSpPr>
          <p:spPr>
            <a:xfrm>
              <a:off x="-527040" y="3112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-1031760" y="22636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8" name=""/>
            <p:cNvGrpSpPr/>
            <p:nvPr/>
          </p:nvGrpSpPr>
          <p:grpSpPr>
            <a:xfrm>
              <a:off x="-908280" y="3213000"/>
              <a:ext cx="142920" cy="139680"/>
              <a:chOff x="-908280" y="3213000"/>
              <a:chExt cx="142920" cy="139680"/>
            </a:xfrm>
          </p:grpSpPr>
          <p:sp>
            <p:nvSpPr>
              <p:cNvPr id="3809" name=""/>
              <p:cNvSpPr/>
              <p:nvPr/>
            </p:nvSpPr>
            <p:spPr>
              <a:xfrm>
                <a:off x="-841320" y="32130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 flipH="1">
                <a:off x="-908280" y="328284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1" name=""/>
            <p:cNvGrpSpPr/>
            <p:nvPr/>
          </p:nvGrpSpPr>
          <p:grpSpPr>
            <a:xfrm>
              <a:off x="-1692720" y="2360520"/>
              <a:ext cx="142920" cy="139680"/>
              <a:chOff x="-1692720" y="2360520"/>
              <a:chExt cx="142920" cy="139680"/>
            </a:xfrm>
          </p:grpSpPr>
          <p:sp>
            <p:nvSpPr>
              <p:cNvPr id="3812" name=""/>
              <p:cNvSpPr/>
              <p:nvPr/>
            </p:nvSpPr>
            <p:spPr>
              <a:xfrm>
                <a:off x="-1625760" y="2360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 flipH="1">
                <a:off x="-1692720" y="24303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4" name=""/>
            <p:cNvSpPr/>
            <p:nvPr/>
          </p:nvSpPr>
          <p:spPr>
            <a:xfrm>
              <a:off x="2343240" y="14223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5" name=""/>
            <p:cNvGrpSpPr/>
            <p:nvPr/>
          </p:nvGrpSpPr>
          <p:grpSpPr>
            <a:xfrm>
              <a:off x="-2003760" y="2816280"/>
              <a:ext cx="142920" cy="139680"/>
              <a:chOff x="-2003760" y="2816280"/>
              <a:chExt cx="142920" cy="139680"/>
            </a:xfrm>
          </p:grpSpPr>
          <p:sp>
            <p:nvSpPr>
              <p:cNvPr id="3816" name=""/>
              <p:cNvSpPr/>
              <p:nvPr/>
            </p:nvSpPr>
            <p:spPr>
              <a:xfrm>
                <a:off x="-1936800" y="2816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-2003760" y="2886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 flipH="1">
              <a:off x="-1935360" y="289008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9" name=""/>
          <p:cNvGrpSpPr/>
          <p:nvPr/>
        </p:nvGrpSpPr>
        <p:grpSpPr>
          <a:xfrm>
            <a:off x="1854360" y="-4897800"/>
            <a:ext cx="4650480" cy="9595800"/>
            <a:chOff x="1854360" y="-4897800"/>
            <a:chExt cx="4650480" cy="9595800"/>
          </a:xfrm>
        </p:grpSpPr>
        <p:sp>
          <p:nvSpPr>
            <p:cNvPr id="3820" name=""/>
            <p:cNvSpPr/>
            <p:nvPr/>
          </p:nvSpPr>
          <p:spPr>
            <a:xfrm flipH="1">
              <a:off x="5428080" y="-1677240"/>
              <a:ext cx="1800" cy="513396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H="1">
              <a:off x="6311520" y="-3154320"/>
              <a:ext cx="720" cy="66103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5486400" y="-2243520"/>
              <a:ext cx="404640" cy="405000"/>
            </a:xfrm>
            <a:prstGeom prst="line">
              <a:avLst/>
            </a:prstGeom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5886360" y="-2616480"/>
              <a:ext cx="379440" cy="3776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230080" y="-2008800"/>
              <a:ext cx="4899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503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5727600" y="-2057760"/>
              <a:ext cx="349200" cy="352800"/>
              <a:chOff x="5727600" y="-2057760"/>
              <a:chExt cx="349200" cy="352800"/>
            </a:xfrm>
          </p:grpSpPr>
          <p:grpSp>
            <p:nvGrpSpPr>
              <p:cNvPr id="3826" name=""/>
              <p:cNvGrpSpPr/>
              <p:nvPr/>
            </p:nvGrpSpPr>
            <p:grpSpPr>
              <a:xfrm>
                <a:off x="5730480" y="-2049480"/>
                <a:ext cx="342720" cy="344520"/>
                <a:chOff x="5730480" y="-2049480"/>
                <a:chExt cx="342720" cy="344520"/>
              </a:xfrm>
            </p:grpSpPr>
            <p:sp>
              <p:nvSpPr>
                <p:cNvPr id="3827" name=""/>
                <p:cNvSpPr/>
                <p:nvPr/>
              </p:nvSpPr>
              <p:spPr>
                <a:xfrm>
                  <a:off x="5730480" y="-20494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5730480" y="-20494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9" name=""/>
              <p:cNvSpPr/>
              <p:nvPr/>
            </p:nvSpPr>
            <p:spPr>
              <a:xfrm flipV="1">
                <a:off x="5727600" y="-2057760"/>
                <a:ext cx="3492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0" name=""/>
            <p:cNvSpPr/>
            <p:nvPr/>
          </p:nvSpPr>
          <p:spPr>
            <a:xfrm flipV="1">
              <a:off x="6073920" y="-2530800"/>
              <a:ext cx="0" cy="469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1" name=""/>
            <p:cNvGrpSpPr/>
            <p:nvPr/>
          </p:nvGrpSpPr>
          <p:grpSpPr>
            <a:xfrm>
              <a:off x="6238080" y="-2379600"/>
              <a:ext cx="142920" cy="139680"/>
              <a:chOff x="6238080" y="-2379600"/>
              <a:chExt cx="142920" cy="139680"/>
            </a:xfrm>
          </p:grpSpPr>
          <p:sp>
            <p:nvSpPr>
              <p:cNvPr id="3832" name=""/>
              <p:cNvSpPr/>
              <p:nvPr/>
            </p:nvSpPr>
            <p:spPr>
              <a:xfrm>
                <a:off x="6305400" y="-23796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6238080" y="-23094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5887440" y="-2378160"/>
              <a:ext cx="142920" cy="139680"/>
              <a:chOff x="5887440" y="-2378160"/>
              <a:chExt cx="142920" cy="139680"/>
            </a:xfrm>
          </p:grpSpPr>
          <p:sp>
            <p:nvSpPr>
              <p:cNvPr id="3835" name=""/>
              <p:cNvSpPr/>
              <p:nvPr/>
            </p:nvSpPr>
            <p:spPr>
              <a:xfrm>
                <a:off x="5954760" y="-2378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5887440" y="-23079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5368320" y="-2371680"/>
              <a:ext cx="142920" cy="139680"/>
              <a:chOff x="5368320" y="-2371680"/>
              <a:chExt cx="142920" cy="139680"/>
            </a:xfrm>
          </p:grpSpPr>
          <p:sp>
            <p:nvSpPr>
              <p:cNvPr id="3838" name=""/>
              <p:cNvSpPr/>
              <p:nvPr/>
            </p:nvSpPr>
            <p:spPr>
              <a:xfrm>
                <a:off x="5435640" y="-23716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5368320" y="-2301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 flipH="1">
              <a:off x="4552920" y="-3125880"/>
              <a:ext cx="2520" cy="2957760"/>
            </a:xfrm>
            <a:prstGeom prst="line">
              <a:avLst/>
            </a:prstGeom>
            <a:ln w="343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991520" y="-4599360"/>
              <a:ext cx="1800" cy="80614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H="1" flipV="1">
              <a:off x="2865600" y="-4897800"/>
              <a:ext cx="1080" cy="8380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3" name=""/>
            <p:cNvGrpSpPr/>
            <p:nvPr/>
          </p:nvGrpSpPr>
          <p:grpSpPr>
            <a:xfrm>
              <a:off x="4378680" y="-785520"/>
              <a:ext cx="352440" cy="349200"/>
              <a:chOff x="4378680" y="-785520"/>
              <a:chExt cx="352440" cy="349200"/>
            </a:xfrm>
          </p:grpSpPr>
          <p:grpSp>
            <p:nvGrpSpPr>
              <p:cNvPr id="3844" name=""/>
              <p:cNvGrpSpPr/>
              <p:nvPr/>
            </p:nvGrpSpPr>
            <p:grpSpPr>
              <a:xfrm>
                <a:off x="4383000" y="-785520"/>
                <a:ext cx="344520" cy="343080"/>
                <a:chOff x="4383000" y="-785520"/>
                <a:chExt cx="344520" cy="343080"/>
              </a:xfrm>
            </p:grpSpPr>
            <p:sp>
              <p:nvSpPr>
                <p:cNvPr id="3845" name=""/>
                <p:cNvSpPr/>
                <p:nvPr/>
              </p:nvSpPr>
              <p:spPr>
                <a:xfrm rot="5400000">
                  <a:off x="4383720" y="-7862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H="1">
                  <a:off x="4383000" y="-785520"/>
                  <a:ext cx="344520" cy="34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7" name=""/>
              <p:cNvSpPr/>
              <p:nvPr/>
            </p:nvSpPr>
            <p:spPr>
              <a:xfrm>
                <a:off x="4378680" y="-783720"/>
                <a:ext cx="352440" cy="34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8" name=""/>
            <p:cNvSpPr/>
            <p:nvPr/>
          </p:nvSpPr>
          <p:spPr>
            <a:xfrm rot="5400000">
              <a:off x="4032000" y="-154728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9" name=""/>
            <p:cNvGrpSpPr/>
            <p:nvPr/>
          </p:nvGrpSpPr>
          <p:grpSpPr>
            <a:xfrm>
              <a:off x="4484520" y="-2046600"/>
              <a:ext cx="140040" cy="142920"/>
              <a:chOff x="4484520" y="-2046600"/>
              <a:chExt cx="140040" cy="142920"/>
            </a:xfrm>
          </p:grpSpPr>
          <p:sp>
            <p:nvSpPr>
              <p:cNvPr id="3850" name=""/>
              <p:cNvSpPr/>
              <p:nvPr/>
            </p:nvSpPr>
            <p:spPr>
              <a:xfrm flipH="1">
                <a:off x="4484520" y="-1976040"/>
                <a:ext cx="14004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V="1">
                <a:off x="4554000" y="-2046600"/>
                <a:ext cx="0" cy="1429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2" name=""/>
            <p:cNvSpPr/>
            <p:nvPr/>
          </p:nvSpPr>
          <p:spPr>
            <a:xfrm flipV="1">
              <a:off x="5351400" y="362520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ffffff"/>
            </a:solidFill>
            <a:ln w="343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H="1" flipV="1" rot="16200000">
              <a:off x="4976280" y="3810240"/>
              <a:ext cx="94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Götti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6197760" y="3742920"/>
              <a:ext cx="307080" cy="955080"/>
              <a:chOff x="6197760" y="3742920"/>
              <a:chExt cx="307080" cy="95508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6235560" y="3851280"/>
                <a:ext cx="162000" cy="671400"/>
              </a:xfrm>
              <a:prstGeom prst="upArrow">
                <a:avLst>
                  <a:gd name="adj1" fmla="val 50000"/>
                  <a:gd name="adj2" fmla="val 103611"/>
                </a:avLst>
              </a:prstGeom>
              <a:solidFill>
                <a:srgbClr val="ffffff"/>
              </a:solidFill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H="1" flipV="1" rot="16200000">
                <a:off x="5873400" y="40665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imes New Roman"/>
                  </a:rPr>
                  <a:t>Kreiens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>
              <a:off x="2787480" y="3870360"/>
              <a:ext cx="162000" cy="671400"/>
            </a:xfrm>
            <a:prstGeom prst="upArrow">
              <a:avLst>
                <a:gd name="adj1" fmla="val 50000"/>
                <a:gd name="adj2" fmla="val 103611"/>
              </a:avLst>
            </a:prstGeom>
            <a:solidFill>
              <a:srgbClr val="000000"/>
            </a:solidFill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H="1" flipV="1" rot="16200000">
              <a:off x="2399760" y="402264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imes New Roman"/>
                </a:rPr>
                <a:t>Kreien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1909800" y="3632040"/>
              <a:ext cx="162000" cy="671760"/>
            </a:xfrm>
            <a:prstGeom prst="upArrow">
              <a:avLst>
                <a:gd name="adj1" fmla="val 50000"/>
                <a:gd name="adj2" fmla="val 103667"/>
              </a:avLst>
            </a:prstGeom>
            <a:solidFill>
              <a:srgbClr val="ffffff"/>
            </a:solidFill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 flipH="1" flipV="1" rot="16200000">
              <a:off x="1503720" y="38311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Holzmin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1" name=""/>
          <p:cNvGrpSpPr/>
          <p:nvPr/>
        </p:nvGrpSpPr>
        <p:grpSpPr>
          <a:xfrm>
            <a:off x="1196640" y="-3689280"/>
            <a:ext cx="8128440" cy="8370000"/>
            <a:chOff x="1196640" y="-3689280"/>
            <a:chExt cx="8128440" cy="8370000"/>
          </a:xfrm>
        </p:grpSpPr>
        <p:sp>
          <p:nvSpPr>
            <p:cNvPr id="3862" name=""/>
            <p:cNvSpPr/>
            <p:nvPr/>
          </p:nvSpPr>
          <p:spPr>
            <a:xfrm flipH="1" flipV="1">
              <a:off x="1828800" y="-3689280"/>
              <a:ext cx="1440" cy="56260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705040" y="-2568600"/>
              <a:ext cx="3330720" cy="33256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4438800" y="-811440"/>
              <a:ext cx="0" cy="12938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4970880" y="-306360"/>
              <a:ext cx="240480" cy="244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4273560" y="188640"/>
              <a:ext cx="344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H="1">
              <a:off x="3728880" y="361800"/>
              <a:ext cx="758880" cy="7588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>
              <a:off x="2673360" y="1073160"/>
              <a:ext cx="1176480" cy="1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97120" y="125280"/>
              <a:ext cx="998640" cy="9968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H="1">
              <a:off x="5035320" y="739800"/>
              <a:ext cx="3771720" cy="37702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>
              <a:off x="2676600" y="2779560"/>
              <a:ext cx="407664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>
              <a:off x="2711520" y="1925640"/>
              <a:ext cx="2751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1280" y="1812960"/>
              <a:ext cx="1014480" cy="10159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339520" y="1876320"/>
              <a:ext cx="954360" cy="9525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196640" y="3598920"/>
              <a:ext cx="481644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H="1">
              <a:off x="2311560" y="4459320"/>
              <a:ext cx="28461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7" name=""/>
            <p:cNvGrpSpPr/>
            <p:nvPr/>
          </p:nvGrpSpPr>
          <p:grpSpPr>
            <a:xfrm>
              <a:off x="1763280" y="761760"/>
              <a:ext cx="142920" cy="139680"/>
              <a:chOff x="1763280" y="761760"/>
              <a:chExt cx="142920" cy="139680"/>
            </a:xfrm>
          </p:grpSpPr>
          <p:sp>
            <p:nvSpPr>
              <p:cNvPr id="3878" name=""/>
              <p:cNvSpPr/>
              <p:nvPr/>
            </p:nvSpPr>
            <p:spPr>
              <a:xfrm>
                <a:off x="1830600" y="761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flipH="1">
                <a:off x="1763280" y="831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0" name=""/>
            <p:cNvGrpSpPr/>
            <p:nvPr/>
          </p:nvGrpSpPr>
          <p:grpSpPr>
            <a:xfrm>
              <a:off x="2201400" y="527040"/>
              <a:ext cx="142920" cy="139680"/>
              <a:chOff x="2201400" y="527040"/>
              <a:chExt cx="142920" cy="139680"/>
            </a:xfrm>
          </p:grpSpPr>
          <p:sp>
            <p:nvSpPr>
              <p:cNvPr id="3881" name=""/>
              <p:cNvSpPr/>
              <p:nvPr/>
            </p:nvSpPr>
            <p:spPr>
              <a:xfrm>
                <a:off x="2268720" y="5270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flipH="1">
                <a:off x="2201400" y="596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2671920" y="990360"/>
              <a:ext cx="142560" cy="139680"/>
              <a:chOff x="2671920" y="990360"/>
              <a:chExt cx="142560" cy="139680"/>
            </a:xfrm>
          </p:grpSpPr>
          <p:sp>
            <p:nvSpPr>
              <p:cNvPr id="3884" name=""/>
              <p:cNvSpPr/>
              <p:nvPr/>
            </p:nvSpPr>
            <p:spPr>
              <a:xfrm>
                <a:off x="2738520" y="9903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 flipH="1">
                <a:off x="2671920" y="106020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1823760" y="1833480"/>
              <a:ext cx="142920" cy="139680"/>
              <a:chOff x="1823760" y="1833480"/>
              <a:chExt cx="142920" cy="139680"/>
            </a:xfrm>
          </p:grpSpPr>
          <p:sp>
            <p:nvSpPr>
              <p:cNvPr id="3887" name=""/>
              <p:cNvSpPr/>
              <p:nvPr/>
            </p:nvSpPr>
            <p:spPr>
              <a:xfrm>
                <a:off x="1891080" y="183348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1823760" y="190332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9" name=""/>
            <p:cNvSpPr/>
            <p:nvPr/>
          </p:nvSpPr>
          <p:spPr>
            <a:xfrm>
              <a:off x="1616040" y="19116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 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0" name=""/>
            <p:cNvGrpSpPr/>
            <p:nvPr/>
          </p:nvGrpSpPr>
          <p:grpSpPr>
            <a:xfrm>
              <a:off x="1327320" y="-171720"/>
              <a:ext cx="347040" cy="346320"/>
              <a:chOff x="1327320" y="-171720"/>
              <a:chExt cx="347040" cy="346320"/>
            </a:xfrm>
          </p:grpSpPr>
          <p:sp>
            <p:nvSpPr>
              <p:cNvPr id="3891" name=""/>
              <p:cNvSpPr/>
              <p:nvPr/>
            </p:nvSpPr>
            <p:spPr>
              <a:xfrm>
                <a:off x="1331640" y="-1699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327320" y="-17172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V="1">
                <a:off x="1333440" y="-158760"/>
                <a:ext cx="32832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4" name=""/>
            <p:cNvSpPr/>
            <p:nvPr/>
          </p:nvSpPr>
          <p:spPr>
            <a:xfrm>
              <a:off x="5408640" y="26082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405400" y="34272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H="1" flipV="1">
              <a:off x="5216400" y="4083840"/>
              <a:ext cx="246600" cy="245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7" name=""/>
            <p:cNvGrpSpPr/>
            <p:nvPr/>
          </p:nvGrpSpPr>
          <p:grpSpPr>
            <a:xfrm>
              <a:off x="6216480" y="2206440"/>
              <a:ext cx="347760" cy="345960"/>
              <a:chOff x="6216480" y="2206440"/>
              <a:chExt cx="347760" cy="345960"/>
            </a:xfrm>
          </p:grpSpPr>
          <p:sp>
            <p:nvSpPr>
              <p:cNvPr id="3898" name=""/>
              <p:cNvSpPr/>
              <p:nvPr/>
            </p:nvSpPr>
            <p:spPr>
              <a:xfrm>
                <a:off x="6221160" y="22078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216480" y="220644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V="1">
                <a:off x="6222960" y="221904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7021440" y="2643120"/>
              <a:ext cx="347760" cy="345960"/>
              <a:chOff x="7021440" y="2643120"/>
              <a:chExt cx="347760" cy="345960"/>
            </a:xfrm>
          </p:grpSpPr>
          <p:sp>
            <p:nvSpPr>
              <p:cNvPr id="3902" name=""/>
              <p:cNvSpPr/>
              <p:nvPr/>
            </p:nvSpPr>
            <p:spPr>
              <a:xfrm>
                <a:off x="7026120" y="264456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021440" y="264312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7027920" y="265572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5" name=""/>
            <p:cNvGrpSpPr/>
            <p:nvPr/>
          </p:nvGrpSpPr>
          <p:grpSpPr>
            <a:xfrm>
              <a:off x="6219720" y="3406680"/>
              <a:ext cx="347760" cy="345960"/>
              <a:chOff x="6219720" y="3406680"/>
              <a:chExt cx="347760" cy="345960"/>
            </a:xfrm>
          </p:grpSpPr>
          <p:sp>
            <p:nvSpPr>
              <p:cNvPr id="3906" name=""/>
              <p:cNvSpPr/>
              <p:nvPr/>
            </p:nvSpPr>
            <p:spPr>
              <a:xfrm>
                <a:off x="6224400" y="340812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219720" y="340668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 flipV="1">
                <a:off x="6226200" y="341928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9" name=""/>
            <p:cNvSpPr/>
            <p:nvPr/>
          </p:nvSpPr>
          <p:spPr>
            <a:xfrm>
              <a:off x="5667480" y="25660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5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411960" y="269784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608800" y="346140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2" name=""/>
            <p:cNvGrpSpPr/>
            <p:nvPr/>
          </p:nvGrpSpPr>
          <p:grpSpPr>
            <a:xfrm>
              <a:off x="5689080" y="2220840"/>
              <a:ext cx="142920" cy="139680"/>
              <a:chOff x="5689080" y="2220840"/>
              <a:chExt cx="142920" cy="139680"/>
            </a:xfrm>
          </p:grpSpPr>
          <p:sp>
            <p:nvSpPr>
              <p:cNvPr id="3913" name=""/>
              <p:cNvSpPr/>
              <p:nvPr/>
            </p:nvSpPr>
            <p:spPr>
              <a:xfrm>
                <a:off x="5756400" y="2220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 flipH="1">
                <a:off x="5689080" y="2290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5" name=""/>
            <p:cNvGrpSpPr/>
            <p:nvPr/>
          </p:nvGrpSpPr>
          <p:grpSpPr>
            <a:xfrm>
              <a:off x="5146200" y="2716200"/>
              <a:ext cx="142920" cy="139680"/>
              <a:chOff x="5146200" y="2716200"/>
              <a:chExt cx="142920" cy="139680"/>
            </a:xfrm>
          </p:grpSpPr>
          <p:sp>
            <p:nvSpPr>
              <p:cNvPr id="3916" name=""/>
              <p:cNvSpPr/>
              <p:nvPr/>
            </p:nvSpPr>
            <p:spPr>
              <a:xfrm>
                <a:off x="5213520" y="2716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 flipH="1">
                <a:off x="5146200" y="2786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8" name=""/>
            <p:cNvGrpSpPr/>
            <p:nvPr/>
          </p:nvGrpSpPr>
          <p:grpSpPr>
            <a:xfrm>
              <a:off x="5149440" y="3538440"/>
              <a:ext cx="142920" cy="139680"/>
              <a:chOff x="5149440" y="3538440"/>
              <a:chExt cx="142920" cy="139680"/>
            </a:xfrm>
          </p:grpSpPr>
          <p:sp>
            <p:nvSpPr>
              <p:cNvPr id="3919" name=""/>
              <p:cNvSpPr/>
              <p:nvPr/>
            </p:nvSpPr>
            <p:spPr>
              <a:xfrm>
                <a:off x="5216760" y="3538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 flipH="1">
                <a:off x="5149440" y="36082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1" name=""/>
            <p:cNvGrpSpPr/>
            <p:nvPr/>
          </p:nvGrpSpPr>
          <p:grpSpPr>
            <a:xfrm>
              <a:off x="5493960" y="3927240"/>
              <a:ext cx="142920" cy="139680"/>
              <a:chOff x="5493960" y="3927240"/>
              <a:chExt cx="142920" cy="139680"/>
            </a:xfrm>
          </p:grpSpPr>
          <p:sp>
            <p:nvSpPr>
              <p:cNvPr id="3922" name=""/>
              <p:cNvSpPr/>
              <p:nvPr/>
            </p:nvSpPr>
            <p:spPr>
              <a:xfrm>
                <a:off x="5561280" y="39272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 flipH="1">
                <a:off x="5493960" y="39970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4" name=""/>
            <p:cNvGrpSpPr/>
            <p:nvPr/>
          </p:nvGrpSpPr>
          <p:grpSpPr>
            <a:xfrm>
              <a:off x="8229240" y="1185840"/>
              <a:ext cx="142920" cy="139680"/>
              <a:chOff x="8229240" y="1185840"/>
              <a:chExt cx="142920" cy="139680"/>
            </a:xfrm>
          </p:grpSpPr>
          <p:sp>
            <p:nvSpPr>
              <p:cNvPr id="3925" name=""/>
              <p:cNvSpPr/>
              <p:nvPr/>
            </p:nvSpPr>
            <p:spPr>
              <a:xfrm>
                <a:off x="8296560" y="1185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 flipH="1">
                <a:off x="8229240" y="1255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7" name=""/>
            <p:cNvSpPr/>
            <p:nvPr/>
          </p:nvSpPr>
          <p:spPr>
            <a:xfrm flipH="1">
              <a:off x="6240600" y="-185400"/>
              <a:ext cx="30574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H="1">
              <a:off x="5915160" y="706320"/>
              <a:ext cx="34099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9" name=""/>
            <p:cNvGrpSpPr/>
            <p:nvPr/>
          </p:nvGrpSpPr>
          <p:grpSpPr>
            <a:xfrm>
              <a:off x="8528040" y="241200"/>
              <a:ext cx="347760" cy="345960"/>
              <a:chOff x="8528040" y="241200"/>
              <a:chExt cx="347760" cy="345960"/>
            </a:xfrm>
          </p:grpSpPr>
          <p:sp>
            <p:nvSpPr>
              <p:cNvPr id="3930" name=""/>
              <p:cNvSpPr/>
              <p:nvPr/>
            </p:nvSpPr>
            <p:spPr>
              <a:xfrm>
                <a:off x="8532720" y="24264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8528040" y="24120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8534520" y="253800"/>
                <a:ext cx="328680" cy="331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3" name=""/>
            <p:cNvSpPr/>
            <p:nvPr/>
          </p:nvSpPr>
          <p:spPr>
            <a:xfrm>
              <a:off x="8462880" y="602280"/>
              <a:ext cx="599760" cy="2764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 6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4" name=""/>
            <p:cNvGrpSpPr/>
            <p:nvPr/>
          </p:nvGrpSpPr>
          <p:grpSpPr>
            <a:xfrm>
              <a:off x="8037000" y="641160"/>
              <a:ext cx="142920" cy="139680"/>
              <a:chOff x="8037000" y="641160"/>
              <a:chExt cx="142920" cy="139680"/>
            </a:xfrm>
          </p:grpSpPr>
          <p:sp>
            <p:nvSpPr>
              <p:cNvPr id="3935" name=""/>
              <p:cNvSpPr/>
              <p:nvPr/>
            </p:nvSpPr>
            <p:spPr>
              <a:xfrm>
                <a:off x="8104320" y="6411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 flipH="1">
                <a:off x="8037000" y="7110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4376880" y="4381560"/>
              <a:ext cx="142560" cy="139680"/>
              <a:chOff x="4376880" y="4381560"/>
              <a:chExt cx="142560" cy="139680"/>
            </a:xfrm>
          </p:grpSpPr>
          <p:sp>
            <p:nvSpPr>
              <p:cNvPr id="3938" name=""/>
              <p:cNvSpPr/>
              <p:nvPr/>
            </p:nvSpPr>
            <p:spPr>
              <a:xfrm>
                <a:off x="4443480" y="43815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 flipH="1">
                <a:off x="4376880" y="445140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0" name=""/>
            <p:cNvGrpSpPr/>
            <p:nvPr/>
          </p:nvGrpSpPr>
          <p:grpSpPr>
            <a:xfrm>
              <a:off x="4382640" y="3538440"/>
              <a:ext cx="142920" cy="139680"/>
              <a:chOff x="4382640" y="3538440"/>
              <a:chExt cx="142920" cy="139680"/>
            </a:xfrm>
          </p:grpSpPr>
          <p:sp>
            <p:nvSpPr>
              <p:cNvPr id="3941" name=""/>
              <p:cNvSpPr/>
              <p:nvPr/>
            </p:nvSpPr>
            <p:spPr>
              <a:xfrm>
                <a:off x="4449960" y="35384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 flipH="1">
                <a:off x="4382640" y="36082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3" name=""/>
            <p:cNvGrpSpPr/>
            <p:nvPr/>
          </p:nvGrpSpPr>
          <p:grpSpPr>
            <a:xfrm>
              <a:off x="4729320" y="1860480"/>
              <a:ext cx="142560" cy="139680"/>
              <a:chOff x="4729320" y="1860480"/>
              <a:chExt cx="142560" cy="139680"/>
            </a:xfrm>
          </p:grpSpPr>
          <p:sp>
            <p:nvSpPr>
              <p:cNvPr id="3944" name=""/>
              <p:cNvSpPr/>
              <p:nvPr/>
            </p:nvSpPr>
            <p:spPr>
              <a:xfrm>
                <a:off x="4795920" y="186048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 flipH="1">
                <a:off x="4729320" y="193032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6" name=""/>
            <p:cNvGrpSpPr/>
            <p:nvPr/>
          </p:nvGrpSpPr>
          <p:grpSpPr>
            <a:xfrm>
              <a:off x="4973760" y="1752480"/>
              <a:ext cx="347040" cy="345960"/>
              <a:chOff x="4973760" y="1752480"/>
              <a:chExt cx="347040" cy="345960"/>
            </a:xfrm>
          </p:grpSpPr>
          <p:sp>
            <p:nvSpPr>
              <p:cNvPr id="3947" name=""/>
              <p:cNvSpPr/>
              <p:nvPr/>
            </p:nvSpPr>
            <p:spPr>
              <a:xfrm>
                <a:off x="4978080" y="17539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4973760" y="1752480"/>
                <a:ext cx="342720" cy="344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 flipV="1">
                <a:off x="4979880" y="1765080"/>
                <a:ext cx="328320" cy="331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0" name=""/>
            <p:cNvGrpSpPr/>
            <p:nvPr/>
          </p:nvGrpSpPr>
          <p:grpSpPr>
            <a:xfrm>
              <a:off x="4640400" y="3429000"/>
              <a:ext cx="347040" cy="345960"/>
              <a:chOff x="4640400" y="3429000"/>
              <a:chExt cx="347040" cy="345960"/>
            </a:xfrm>
          </p:grpSpPr>
          <p:sp>
            <p:nvSpPr>
              <p:cNvPr id="3951" name=""/>
              <p:cNvSpPr/>
              <p:nvPr/>
            </p:nvSpPr>
            <p:spPr>
              <a:xfrm>
                <a:off x="4644720" y="34304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640400" y="3429000"/>
                <a:ext cx="342720" cy="344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4646520" y="3441600"/>
                <a:ext cx="328320" cy="331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4" name=""/>
            <p:cNvGrpSpPr/>
            <p:nvPr/>
          </p:nvGrpSpPr>
          <p:grpSpPr>
            <a:xfrm>
              <a:off x="4640400" y="4287600"/>
              <a:ext cx="347040" cy="345960"/>
              <a:chOff x="4640400" y="4287600"/>
              <a:chExt cx="347040" cy="345960"/>
            </a:xfrm>
          </p:grpSpPr>
          <p:sp>
            <p:nvSpPr>
              <p:cNvPr id="3955" name=""/>
              <p:cNvSpPr/>
              <p:nvPr/>
            </p:nvSpPr>
            <p:spPr>
              <a:xfrm>
                <a:off x="4644720" y="42890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4640400" y="4287600"/>
                <a:ext cx="342720" cy="344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 flipV="1">
                <a:off x="4646520" y="4300200"/>
                <a:ext cx="328320" cy="331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8" name=""/>
            <p:cNvSpPr/>
            <p:nvPr/>
          </p:nvSpPr>
          <p:spPr>
            <a:xfrm>
              <a:off x="2182680" y="12538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178000" y="125244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1895400" y="1058760"/>
              <a:ext cx="828720" cy="82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804040" y="16185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53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1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5425920" y="1960920"/>
              <a:ext cx="240120" cy="240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805480" y="257400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92920" y="329472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52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1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96160" y="41601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51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1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804040" y="87372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7" name=""/>
          <p:cNvGrpSpPr/>
          <p:nvPr/>
        </p:nvGrpSpPr>
        <p:grpSpPr>
          <a:xfrm>
            <a:off x="-279720" y="-2338560"/>
            <a:ext cx="9072720" cy="3269520"/>
            <a:chOff x="-279720" y="-2338560"/>
            <a:chExt cx="9072720" cy="3269520"/>
          </a:xfrm>
        </p:grpSpPr>
        <p:sp>
          <p:nvSpPr>
            <p:cNvPr id="3968" name=""/>
            <p:cNvSpPr/>
            <p:nvPr/>
          </p:nvSpPr>
          <p:spPr>
            <a:xfrm flipH="1">
              <a:off x="-17640" y="-177480"/>
              <a:ext cx="58309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>
              <a:off x="5691240" y="-2338560"/>
              <a:ext cx="2208240" cy="22050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H="1">
              <a:off x="6024600" y="-2006640"/>
              <a:ext cx="2768400" cy="27716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663480" y="-177480"/>
              <a:ext cx="305748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H="1">
              <a:off x="-279720" y="714240"/>
              <a:ext cx="642780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6560" y="4104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601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4" name=""/>
            <p:cNvGrpSpPr/>
            <p:nvPr/>
          </p:nvGrpSpPr>
          <p:grpSpPr>
            <a:xfrm>
              <a:off x="3497400" y="537840"/>
              <a:ext cx="349200" cy="352440"/>
              <a:chOff x="3497400" y="537840"/>
              <a:chExt cx="349200" cy="352440"/>
            </a:xfrm>
          </p:grpSpPr>
          <p:grpSp>
            <p:nvGrpSpPr>
              <p:cNvPr id="3975" name=""/>
              <p:cNvGrpSpPr/>
              <p:nvPr/>
            </p:nvGrpSpPr>
            <p:grpSpPr>
              <a:xfrm>
                <a:off x="3497400" y="541080"/>
                <a:ext cx="342720" cy="344520"/>
                <a:chOff x="3497400" y="541080"/>
                <a:chExt cx="342720" cy="344520"/>
              </a:xfrm>
            </p:grpSpPr>
            <p:sp>
              <p:nvSpPr>
                <p:cNvPr id="3976" name=""/>
                <p:cNvSpPr/>
                <p:nvPr/>
              </p:nvSpPr>
              <p:spPr>
                <a:xfrm>
                  <a:off x="3497400" y="54108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3497400" y="54108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8" name=""/>
              <p:cNvSpPr/>
              <p:nvPr/>
            </p:nvSpPr>
            <p:spPr>
              <a:xfrm flipV="1">
                <a:off x="3498840" y="537840"/>
                <a:ext cx="347760" cy="352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4211280" y="644400"/>
              <a:ext cx="142920" cy="139680"/>
              <a:chOff x="4211280" y="644400"/>
              <a:chExt cx="142920" cy="139680"/>
            </a:xfrm>
          </p:grpSpPr>
          <p:sp>
            <p:nvSpPr>
              <p:cNvPr id="3980" name=""/>
              <p:cNvSpPr/>
              <p:nvPr/>
            </p:nvSpPr>
            <p:spPr>
              <a:xfrm>
                <a:off x="4278600" y="6444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H="1">
                <a:off x="4211280" y="7142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2" name=""/>
          <p:cNvGrpSpPr/>
          <p:nvPr/>
        </p:nvGrpSpPr>
        <p:grpSpPr>
          <a:xfrm>
            <a:off x="570960" y="-1047960"/>
            <a:ext cx="21365280" cy="7390080"/>
            <a:chOff x="570960" y="-1047960"/>
            <a:chExt cx="21365280" cy="7390080"/>
          </a:xfrm>
        </p:grpSpPr>
        <p:sp>
          <p:nvSpPr>
            <p:cNvPr id="3983" name=""/>
            <p:cNvSpPr/>
            <p:nvPr/>
          </p:nvSpPr>
          <p:spPr>
            <a:xfrm flipV="1">
              <a:off x="4559760" y="767160"/>
              <a:ext cx="6684480" cy="2045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10391400" y="765000"/>
              <a:ext cx="855000" cy="2595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H="1" flipV="1">
              <a:off x="3354840" y="3547440"/>
              <a:ext cx="9058680" cy="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0908000" y="1413000"/>
              <a:ext cx="193680" cy="250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 flipV="1">
              <a:off x="7856640" y="180720"/>
              <a:ext cx="1748160" cy="17521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H="1" flipV="1">
              <a:off x="8313840" y="641160"/>
              <a:ext cx="1292400" cy="1295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flipV="1">
              <a:off x="9490320" y="1882440"/>
              <a:ext cx="8586720" cy="36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flipV="1">
              <a:off x="11174760" y="174600"/>
              <a:ext cx="631800" cy="6314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9542880" y="-904680"/>
              <a:ext cx="10137600" cy="85860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V="1">
              <a:off x="9979200" y="224640"/>
              <a:ext cx="9242640" cy="10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4103000" y="16200"/>
              <a:ext cx="24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1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flipH="1">
              <a:off x="6657840" y="22536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flipH="1" flipV="1">
              <a:off x="8098200" y="-1047960"/>
              <a:ext cx="1309680" cy="13078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H="1">
              <a:off x="8970120" y="1656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1798640" y="514440"/>
              <a:ext cx="10137600" cy="10965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8167760" y="1612800"/>
              <a:ext cx="1936440" cy="350640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8173880" y="1019160"/>
              <a:ext cx="1936800" cy="1239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8173880" y="3286080"/>
              <a:ext cx="1936800" cy="1829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1234880" y="67788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1158920" y="7477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11670480" y="1195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8282160" y="54288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3138560" y="171432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8902080" y="1328040"/>
              <a:ext cx="56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W 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rot="10800000">
              <a:off x="11091600" y="1412640"/>
              <a:ext cx="266760" cy="25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rot="10800000">
              <a:off x="11104920" y="142344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V="1">
              <a:off x="11230200" y="1414080"/>
              <a:ext cx="0" cy="25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1368440" y="153828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V="1">
              <a:off x="12120840" y="1458720"/>
              <a:ext cx="0" cy="15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1296080" y="133020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12148920" y="1355760"/>
              <a:ext cx="343080" cy="344160"/>
              <a:chOff x="12148920" y="1355760"/>
              <a:chExt cx="343080" cy="344160"/>
            </a:xfrm>
          </p:grpSpPr>
          <p:sp>
            <p:nvSpPr>
              <p:cNvPr id="4014" name=""/>
              <p:cNvSpPr/>
              <p:nvPr/>
            </p:nvSpPr>
            <p:spPr>
              <a:xfrm rot="10800000">
                <a:off x="12148920" y="135576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flipH="1" flipV="1">
                <a:off x="12148920" y="1355760"/>
                <a:ext cx="343080" cy="3441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>
              <a:off x="12141360" y="1352520"/>
              <a:ext cx="347760" cy="3520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V="1">
              <a:off x="11901600" y="1337760"/>
              <a:ext cx="0" cy="1393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1826360" y="1409760"/>
              <a:ext cx="14292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9" name=""/>
            <p:cNvGrpSpPr/>
            <p:nvPr/>
          </p:nvGrpSpPr>
          <p:grpSpPr>
            <a:xfrm>
              <a:off x="11454120" y="1711440"/>
              <a:ext cx="349200" cy="352080"/>
              <a:chOff x="11454120" y="1711440"/>
              <a:chExt cx="349200" cy="352080"/>
            </a:xfrm>
          </p:grpSpPr>
          <p:sp>
            <p:nvSpPr>
              <p:cNvPr id="4020" name=""/>
              <p:cNvSpPr/>
              <p:nvPr/>
            </p:nvSpPr>
            <p:spPr>
              <a:xfrm>
                <a:off x="11454120" y="17139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1454120" y="171396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flipV="1">
                <a:off x="11455560" y="171144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3" name=""/>
            <p:cNvSpPr/>
            <p:nvPr/>
          </p:nvSpPr>
          <p:spPr>
            <a:xfrm>
              <a:off x="13784400" y="1714320"/>
              <a:ext cx="343080" cy="3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3784400" y="1714320"/>
              <a:ext cx="34308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13786200" y="1711440"/>
              <a:ext cx="347400" cy="35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3449600" y="1824120"/>
              <a:ext cx="0" cy="13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13382640" y="189396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0738080" y="171432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0900080" y="1824120"/>
              <a:ext cx="0" cy="13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H="1">
              <a:off x="10833120" y="189396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934280" y="17593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4134320" y="1676880"/>
              <a:ext cx="179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1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2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5959520" y="171288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929360" y="1714320"/>
              <a:ext cx="342720" cy="3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6929360" y="1714320"/>
              <a:ext cx="34272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 flipV="1">
              <a:off x="16930800" y="1711440"/>
              <a:ext cx="347760" cy="35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6457760" y="1824120"/>
              <a:ext cx="0" cy="13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16390800" y="189396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6484040" y="175932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9677520" y="5400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562040" y="18190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0485720" y="18889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3" name=""/>
            <p:cNvGrpSpPr/>
            <p:nvPr/>
          </p:nvGrpSpPr>
          <p:grpSpPr>
            <a:xfrm>
              <a:off x="9414000" y="1741320"/>
              <a:ext cx="142920" cy="139320"/>
              <a:chOff x="9414000" y="1741320"/>
              <a:chExt cx="142920" cy="139320"/>
            </a:xfrm>
          </p:grpSpPr>
          <p:sp>
            <p:nvSpPr>
              <p:cNvPr id="4044" name=""/>
              <p:cNvSpPr/>
              <p:nvPr/>
            </p:nvSpPr>
            <p:spPr>
              <a:xfrm>
                <a:off x="9487080" y="174132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9414000" y="18108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6" name=""/>
            <p:cNvSpPr/>
            <p:nvPr/>
          </p:nvSpPr>
          <p:spPr>
            <a:xfrm>
              <a:off x="10568160" y="13399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0492200" y="140976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rot="10800000">
              <a:off x="11898720" y="-243720"/>
              <a:ext cx="266400" cy="25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rot="10800000">
              <a:off x="11911320" y="-232920"/>
              <a:ext cx="241200" cy="22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12036600" y="-242280"/>
              <a:ext cx="0" cy="25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2174840" y="-11880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V="1">
              <a:off x="12927240" y="-197640"/>
              <a:ext cx="0" cy="156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2102480" y="-3265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Hs 1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V="1">
              <a:off x="12708360" y="-318240"/>
              <a:ext cx="0" cy="13932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2633120" y="-246960"/>
              <a:ext cx="14292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9507600" y="-26280"/>
              <a:ext cx="143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9520560" y="-304560"/>
              <a:ext cx="108000" cy="290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9490320" y="-444240"/>
              <a:ext cx="171360" cy="16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9795240" y="-149040"/>
              <a:ext cx="473040" cy="10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0212120" y="-231480"/>
              <a:ext cx="48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E 1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0944360" y="-109080"/>
              <a:ext cx="0" cy="16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 flipV="1">
              <a:off x="12303000" y="1849320"/>
              <a:ext cx="1693800" cy="16934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3" name=""/>
            <p:cNvGrpSpPr/>
            <p:nvPr/>
          </p:nvGrpSpPr>
          <p:grpSpPr>
            <a:xfrm>
              <a:off x="12484080" y="2697120"/>
              <a:ext cx="347400" cy="352080"/>
              <a:chOff x="12484080" y="2697120"/>
              <a:chExt cx="347400" cy="352080"/>
            </a:xfrm>
          </p:grpSpPr>
          <p:grpSp>
            <p:nvGrpSpPr>
              <p:cNvPr id="4064" name=""/>
              <p:cNvGrpSpPr/>
              <p:nvPr/>
            </p:nvGrpSpPr>
            <p:grpSpPr>
              <a:xfrm>
                <a:off x="12487320" y="2700000"/>
                <a:ext cx="342720" cy="344160"/>
                <a:chOff x="12487320" y="2700000"/>
                <a:chExt cx="342720" cy="344160"/>
              </a:xfrm>
            </p:grpSpPr>
            <p:sp>
              <p:nvSpPr>
                <p:cNvPr id="4065" name=""/>
                <p:cNvSpPr/>
                <p:nvPr/>
              </p:nvSpPr>
              <p:spPr>
                <a:xfrm flipH="1">
                  <a:off x="12487320" y="270000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 flipH="1">
                  <a:off x="12487320" y="270000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7" name=""/>
              <p:cNvSpPr/>
              <p:nvPr/>
            </p:nvSpPr>
            <p:spPr>
              <a:xfrm flipH="1" flipV="1">
                <a:off x="12484080" y="2697120"/>
                <a:ext cx="347400" cy="352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 flipH="1">
              <a:off x="12060360" y="18943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3005000" y="182556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2928680" y="18954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H="1" rot="16200000">
              <a:off x="10793160" y="1342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33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2301920" y="5544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H="1">
              <a:off x="7792920" y="2084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H="1">
              <a:off x="6343560" y="1054080"/>
              <a:ext cx="233028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7767720" y="88416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904520" y="98280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34680" y="1052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H="1">
              <a:off x="8003520" y="79740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8206200" y="6127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0" name=""/>
            <p:cNvGrpSpPr/>
            <p:nvPr/>
          </p:nvGrpSpPr>
          <p:grpSpPr>
            <a:xfrm>
              <a:off x="7331400" y="882720"/>
              <a:ext cx="349200" cy="352080"/>
              <a:chOff x="7331400" y="882720"/>
              <a:chExt cx="349200" cy="352080"/>
            </a:xfrm>
          </p:grpSpPr>
          <p:sp>
            <p:nvSpPr>
              <p:cNvPr id="4081" name=""/>
              <p:cNvSpPr/>
              <p:nvPr/>
            </p:nvSpPr>
            <p:spPr>
              <a:xfrm>
                <a:off x="7331400" y="885600"/>
                <a:ext cx="343080" cy="34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331400" y="885600"/>
                <a:ext cx="343080" cy="343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 flipV="1">
                <a:off x="7333200" y="882720"/>
                <a:ext cx="34740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278040" y="85608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130 Sü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4013280" y="1054080"/>
              <a:ext cx="233064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100920" y="88416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454720" y="885960"/>
              <a:ext cx="343080" cy="34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454720" y="885960"/>
              <a:ext cx="343080" cy="343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V="1">
              <a:off x="5456520" y="882720"/>
              <a:ext cx="347760" cy="35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0" name=""/>
            <p:cNvGrpSpPr/>
            <p:nvPr/>
          </p:nvGrpSpPr>
          <p:grpSpPr>
            <a:xfrm>
              <a:off x="4089240" y="992160"/>
              <a:ext cx="142920" cy="139320"/>
              <a:chOff x="4089240" y="992160"/>
              <a:chExt cx="142920" cy="139320"/>
            </a:xfrm>
          </p:grpSpPr>
          <p:sp>
            <p:nvSpPr>
              <p:cNvPr id="4091" name=""/>
              <p:cNvSpPr/>
              <p:nvPr/>
            </p:nvSpPr>
            <p:spPr>
              <a:xfrm>
                <a:off x="4156200" y="992160"/>
                <a:ext cx="0" cy="139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H="1">
                <a:off x="4089240" y="106164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3" name=""/>
            <p:cNvSpPr/>
            <p:nvPr/>
          </p:nvSpPr>
          <p:spPr>
            <a:xfrm>
              <a:off x="4203360" y="85140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130 N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8710200" y="1363680"/>
              <a:ext cx="104400" cy="32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 rot="20563200">
              <a:off x="5878440" y="201636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1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6" name=""/>
            <p:cNvGrpSpPr/>
            <p:nvPr/>
          </p:nvGrpSpPr>
          <p:grpSpPr>
            <a:xfrm>
              <a:off x="5808240" y="2354760"/>
              <a:ext cx="115200" cy="112320"/>
              <a:chOff x="5808240" y="2354760"/>
              <a:chExt cx="115200" cy="112320"/>
            </a:xfrm>
          </p:grpSpPr>
          <p:sp>
            <p:nvSpPr>
              <p:cNvPr id="4097" name=""/>
              <p:cNvSpPr/>
              <p:nvPr/>
            </p:nvSpPr>
            <p:spPr>
              <a:xfrm flipH="1">
                <a:off x="5820120" y="235476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H="1" flipV="1">
                <a:off x="5808240" y="23716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9" name=""/>
            <p:cNvSpPr/>
            <p:nvPr/>
          </p:nvSpPr>
          <p:spPr>
            <a:xfrm flipH="1">
              <a:off x="7458120" y="4344120"/>
              <a:ext cx="82440" cy="112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0" name=""/>
            <p:cNvGrpSpPr/>
            <p:nvPr/>
          </p:nvGrpSpPr>
          <p:grpSpPr>
            <a:xfrm>
              <a:off x="7898040" y="1691280"/>
              <a:ext cx="1042920" cy="536400"/>
              <a:chOff x="7898040" y="1691280"/>
              <a:chExt cx="1042920" cy="536400"/>
            </a:xfrm>
          </p:grpSpPr>
          <p:grpSp>
            <p:nvGrpSpPr>
              <p:cNvPr id="4101" name=""/>
              <p:cNvGrpSpPr/>
              <p:nvPr/>
            </p:nvGrpSpPr>
            <p:grpSpPr>
              <a:xfrm>
                <a:off x="7898040" y="1691280"/>
                <a:ext cx="1042920" cy="536400"/>
                <a:chOff x="7898040" y="1691280"/>
                <a:chExt cx="1042920" cy="536400"/>
              </a:xfrm>
            </p:grpSpPr>
            <p:sp>
              <p:nvSpPr>
                <p:cNvPr id="4102" name=""/>
                <p:cNvSpPr/>
                <p:nvPr/>
              </p:nvSpPr>
              <p:spPr>
                <a:xfrm rot="20571600">
                  <a:off x="8642520" y="1724760"/>
                  <a:ext cx="266400" cy="2566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 rot="20571600">
                  <a:off x="8655480" y="1738800"/>
                  <a:ext cx="240840" cy="22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8733960" y="1733400"/>
                  <a:ext cx="74520" cy="241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 flipH="1">
                  <a:off x="7927200" y="1899000"/>
                  <a:ext cx="71100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7898040" y="2044080"/>
                  <a:ext cx="46440" cy="1497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 rot="20571600">
                  <a:off x="8213400" y="19051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3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8" name=""/>
              <p:cNvSpPr/>
              <p:nvPr/>
            </p:nvSpPr>
            <p:spPr>
              <a:xfrm>
                <a:off x="8183160" y="2087640"/>
                <a:ext cx="41040" cy="1332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flipH="1">
                <a:off x="8139960" y="2130840"/>
                <a:ext cx="136080" cy="4212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0" name=""/>
            <p:cNvSpPr/>
            <p:nvPr/>
          </p:nvSpPr>
          <p:spPr>
            <a:xfrm flipH="1" flipV="1">
              <a:off x="2903040" y="3430800"/>
              <a:ext cx="3462480" cy="965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rot="2178000">
              <a:off x="1735560" y="1965240"/>
              <a:ext cx="3247920" cy="31906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rot="2178000">
              <a:off x="3260520" y="3474720"/>
              <a:ext cx="152640" cy="1519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H="1" flipV="1">
              <a:off x="2921400" y="1105200"/>
              <a:ext cx="145800" cy="932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H="1" flipV="1">
              <a:off x="2277000" y="1297800"/>
              <a:ext cx="385200" cy="8553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 flipV="1">
              <a:off x="1753920" y="1644120"/>
              <a:ext cx="593280" cy="726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H="1" flipV="1">
              <a:off x="1099800" y="1918800"/>
              <a:ext cx="955440" cy="7020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H="1" flipV="1">
              <a:off x="771840" y="2554560"/>
              <a:ext cx="1105560" cy="4212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 flipH="1" flipV="1">
              <a:off x="576360" y="3261960"/>
              <a:ext cx="1176480" cy="1209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H="1">
              <a:off x="570960" y="3776400"/>
              <a:ext cx="1177920" cy="182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>
              <a:off x="790920" y="4178520"/>
              <a:ext cx="1078920" cy="483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1185840" y="4537440"/>
              <a:ext cx="917640" cy="7466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385520" y="4813200"/>
              <a:ext cx="746640" cy="917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040640" y="5037120"/>
              <a:ext cx="483840" cy="1079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615480" y="5148000"/>
              <a:ext cx="180000" cy="11685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H="1">
              <a:off x="3092400" y="5165640"/>
              <a:ext cx="120960" cy="11764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2359800" y="5043960"/>
              <a:ext cx="421200" cy="11052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H="1">
              <a:off x="1712880" y="4830840"/>
              <a:ext cx="699120" cy="9536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2178000">
              <a:off x="1727280" y="1976400"/>
              <a:ext cx="3248280" cy="31906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2178000">
              <a:off x="3252600" y="3484080"/>
              <a:ext cx="15264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flipV="1">
              <a:off x="4817520" y="2865960"/>
              <a:ext cx="1956960" cy="299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rot="21084600">
              <a:off x="5272560" y="280872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2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 flipH="1" flipV="1">
              <a:off x="5146200" y="3076920"/>
              <a:ext cx="115200" cy="84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H="1">
              <a:off x="5160960" y="3062880"/>
              <a:ext cx="82440" cy="112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rot="2178000">
              <a:off x="1737000" y="1967040"/>
              <a:ext cx="3247920" cy="319032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rot="2178000">
              <a:off x="3262320" y="34765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rot="2178000">
              <a:off x="4209480" y="4582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rot="2178000">
              <a:off x="3871080" y="477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rot="2178000">
              <a:off x="3507840" y="4895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rot="2178000">
              <a:off x="3090240" y="4895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rot="2178000">
              <a:off x="2682000" y="479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rot="2178000">
              <a:off x="2323440" y="4593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rot="2178000">
              <a:off x="2029680" y="431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2178000">
              <a:off x="1815480" y="395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rot="2178000">
              <a:off x="1728000" y="3577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rot="2178000">
              <a:off x="1686960" y="3230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 rot="2178000">
              <a:off x="1767960" y="283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 rot="2178000">
              <a:off x="1936080" y="2517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rot="2178000">
              <a:off x="2193480" y="2243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rot="2178000">
              <a:off x="2515680" y="2039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rot="2178000">
              <a:off x="2898000" y="1920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1" name=""/>
            <p:cNvGrpSpPr/>
            <p:nvPr/>
          </p:nvGrpSpPr>
          <p:grpSpPr>
            <a:xfrm>
              <a:off x="4722480" y="5274000"/>
              <a:ext cx="479880" cy="480240"/>
              <a:chOff x="4722480" y="5274000"/>
              <a:chExt cx="479880" cy="480240"/>
            </a:xfrm>
          </p:grpSpPr>
          <p:sp>
            <p:nvSpPr>
              <p:cNvPr id="4152" name=""/>
              <p:cNvSpPr/>
              <p:nvPr/>
            </p:nvSpPr>
            <p:spPr>
              <a:xfrm rot="2178000">
                <a:off x="4790880" y="53420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4926240" y="52740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4" name=""/>
            <p:cNvSpPr/>
            <p:nvPr/>
          </p:nvSpPr>
          <p:spPr>
            <a:xfrm flipV="1">
              <a:off x="4722480" y="5476680"/>
              <a:ext cx="48852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5" name=""/>
            <p:cNvGrpSpPr/>
            <p:nvPr/>
          </p:nvGrpSpPr>
          <p:grpSpPr>
            <a:xfrm>
              <a:off x="2739600" y="1159200"/>
              <a:ext cx="479880" cy="480240"/>
              <a:chOff x="2739600" y="1159200"/>
              <a:chExt cx="479880" cy="480240"/>
            </a:xfrm>
          </p:grpSpPr>
          <p:sp>
            <p:nvSpPr>
              <p:cNvPr id="4156" name=""/>
              <p:cNvSpPr/>
              <p:nvPr/>
            </p:nvSpPr>
            <p:spPr>
              <a:xfrm rot="2178000">
                <a:off x="2808000" y="12272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943360" y="11592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8" name=""/>
            <p:cNvSpPr/>
            <p:nvPr/>
          </p:nvSpPr>
          <p:spPr>
            <a:xfrm flipV="1">
              <a:off x="2736360" y="136116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9" name=""/>
            <p:cNvGrpSpPr/>
            <p:nvPr/>
          </p:nvGrpSpPr>
          <p:grpSpPr>
            <a:xfrm>
              <a:off x="2138040" y="1316160"/>
              <a:ext cx="479880" cy="480240"/>
              <a:chOff x="2138040" y="1316160"/>
              <a:chExt cx="479880" cy="480240"/>
            </a:xfrm>
          </p:grpSpPr>
          <p:sp>
            <p:nvSpPr>
              <p:cNvPr id="4160" name=""/>
              <p:cNvSpPr/>
              <p:nvPr/>
            </p:nvSpPr>
            <p:spPr>
              <a:xfrm rot="2178000">
                <a:off x="2206440" y="13842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341800" y="131616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2" name=""/>
            <p:cNvSpPr/>
            <p:nvPr/>
          </p:nvSpPr>
          <p:spPr>
            <a:xfrm flipV="1">
              <a:off x="2133000" y="151668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3" name=""/>
            <p:cNvGrpSpPr/>
            <p:nvPr/>
          </p:nvGrpSpPr>
          <p:grpSpPr>
            <a:xfrm>
              <a:off x="1661760" y="1595520"/>
              <a:ext cx="479880" cy="480240"/>
              <a:chOff x="1661760" y="1595520"/>
              <a:chExt cx="479880" cy="480240"/>
            </a:xfrm>
          </p:grpSpPr>
          <p:sp>
            <p:nvSpPr>
              <p:cNvPr id="4164" name=""/>
              <p:cNvSpPr/>
              <p:nvPr/>
            </p:nvSpPr>
            <p:spPr>
              <a:xfrm rot="2178000">
                <a:off x="1730160" y="16635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865520" y="15955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6" name=""/>
            <p:cNvSpPr/>
            <p:nvPr/>
          </p:nvSpPr>
          <p:spPr>
            <a:xfrm flipV="1">
              <a:off x="1658520" y="179748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7" name=""/>
            <p:cNvGrpSpPr/>
            <p:nvPr/>
          </p:nvGrpSpPr>
          <p:grpSpPr>
            <a:xfrm>
              <a:off x="1093680" y="1852920"/>
              <a:ext cx="479880" cy="480240"/>
              <a:chOff x="1093680" y="1852920"/>
              <a:chExt cx="479880" cy="480240"/>
            </a:xfrm>
          </p:grpSpPr>
          <p:sp>
            <p:nvSpPr>
              <p:cNvPr id="4168" name=""/>
              <p:cNvSpPr/>
              <p:nvPr/>
            </p:nvSpPr>
            <p:spPr>
              <a:xfrm rot="2178000">
                <a:off x="1162080" y="19209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297440" y="18529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0" name=""/>
            <p:cNvSpPr/>
            <p:nvPr/>
          </p:nvSpPr>
          <p:spPr>
            <a:xfrm flipV="1">
              <a:off x="1090080" y="205488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1" name=""/>
            <p:cNvGrpSpPr/>
            <p:nvPr/>
          </p:nvGrpSpPr>
          <p:grpSpPr>
            <a:xfrm>
              <a:off x="804600" y="2408400"/>
              <a:ext cx="479880" cy="480240"/>
              <a:chOff x="804600" y="2408400"/>
              <a:chExt cx="479880" cy="480240"/>
            </a:xfrm>
          </p:grpSpPr>
          <p:sp>
            <p:nvSpPr>
              <p:cNvPr id="4172" name=""/>
              <p:cNvSpPr/>
              <p:nvPr/>
            </p:nvSpPr>
            <p:spPr>
              <a:xfrm rot="2178000">
                <a:off x="873000" y="24764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1008360" y="24084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4" name=""/>
            <p:cNvSpPr/>
            <p:nvPr/>
          </p:nvSpPr>
          <p:spPr>
            <a:xfrm flipV="1">
              <a:off x="801360" y="2609640"/>
              <a:ext cx="48852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5" name=""/>
            <p:cNvGrpSpPr/>
            <p:nvPr/>
          </p:nvGrpSpPr>
          <p:grpSpPr>
            <a:xfrm>
              <a:off x="664920" y="3048120"/>
              <a:ext cx="479880" cy="480240"/>
              <a:chOff x="664920" y="3048120"/>
              <a:chExt cx="479880" cy="480240"/>
            </a:xfrm>
          </p:grpSpPr>
          <p:sp>
            <p:nvSpPr>
              <p:cNvPr id="4176" name=""/>
              <p:cNvSpPr/>
              <p:nvPr/>
            </p:nvSpPr>
            <p:spPr>
              <a:xfrm rot="2178000">
                <a:off x="733320" y="31161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868680" y="30481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8" name=""/>
            <p:cNvSpPr/>
            <p:nvPr/>
          </p:nvSpPr>
          <p:spPr>
            <a:xfrm flipV="1">
              <a:off x="663120" y="324864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9" name=""/>
            <p:cNvGrpSpPr/>
            <p:nvPr/>
          </p:nvGrpSpPr>
          <p:grpSpPr>
            <a:xfrm>
              <a:off x="631440" y="3660840"/>
              <a:ext cx="479880" cy="480240"/>
              <a:chOff x="631440" y="3660840"/>
              <a:chExt cx="479880" cy="480240"/>
            </a:xfrm>
          </p:grpSpPr>
          <p:sp>
            <p:nvSpPr>
              <p:cNvPr id="4180" name=""/>
              <p:cNvSpPr/>
              <p:nvPr/>
            </p:nvSpPr>
            <p:spPr>
              <a:xfrm rot="2178000">
                <a:off x="699840" y="37288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835200" y="36608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2" name=""/>
            <p:cNvSpPr/>
            <p:nvPr/>
          </p:nvSpPr>
          <p:spPr>
            <a:xfrm flipV="1">
              <a:off x="628560" y="3862800"/>
              <a:ext cx="488520" cy="7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4184280" y="5637240"/>
              <a:ext cx="479880" cy="480240"/>
              <a:chOff x="4184280" y="5637240"/>
              <a:chExt cx="479880" cy="480240"/>
            </a:xfrm>
          </p:grpSpPr>
          <p:sp>
            <p:nvSpPr>
              <p:cNvPr id="4184" name=""/>
              <p:cNvSpPr/>
              <p:nvPr/>
            </p:nvSpPr>
            <p:spPr>
              <a:xfrm rot="2178000">
                <a:off x="4252680" y="57052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388040" y="56372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6" name=""/>
            <p:cNvSpPr/>
            <p:nvPr/>
          </p:nvSpPr>
          <p:spPr>
            <a:xfrm flipV="1">
              <a:off x="4181040" y="583452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7" name=""/>
            <p:cNvGrpSpPr/>
            <p:nvPr/>
          </p:nvGrpSpPr>
          <p:grpSpPr>
            <a:xfrm>
              <a:off x="3522240" y="5815080"/>
              <a:ext cx="479880" cy="480240"/>
              <a:chOff x="3522240" y="5815080"/>
              <a:chExt cx="479880" cy="480240"/>
            </a:xfrm>
          </p:grpSpPr>
          <p:sp>
            <p:nvSpPr>
              <p:cNvPr id="4188" name=""/>
              <p:cNvSpPr/>
              <p:nvPr/>
            </p:nvSpPr>
            <p:spPr>
              <a:xfrm rot="2178000">
                <a:off x="3590640" y="58831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26000" y="581508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0" name=""/>
            <p:cNvSpPr/>
            <p:nvPr/>
          </p:nvSpPr>
          <p:spPr>
            <a:xfrm flipV="1">
              <a:off x="3512880" y="6017040"/>
              <a:ext cx="488520" cy="7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1" name=""/>
            <p:cNvGrpSpPr/>
            <p:nvPr/>
          </p:nvGrpSpPr>
          <p:grpSpPr>
            <a:xfrm>
              <a:off x="2882520" y="5837400"/>
              <a:ext cx="479880" cy="480240"/>
              <a:chOff x="2882520" y="5837400"/>
              <a:chExt cx="479880" cy="480240"/>
            </a:xfrm>
          </p:grpSpPr>
          <p:sp>
            <p:nvSpPr>
              <p:cNvPr id="4192" name=""/>
              <p:cNvSpPr/>
              <p:nvPr/>
            </p:nvSpPr>
            <p:spPr>
              <a:xfrm rot="2178000">
                <a:off x="2950920" y="59054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086280" y="58374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4" name=""/>
            <p:cNvSpPr/>
            <p:nvPr/>
          </p:nvSpPr>
          <p:spPr>
            <a:xfrm flipV="1">
              <a:off x="2879280" y="603936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5" name=""/>
            <p:cNvGrpSpPr/>
            <p:nvPr/>
          </p:nvGrpSpPr>
          <p:grpSpPr>
            <a:xfrm>
              <a:off x="2220480" y="5662800"/>
              <a:ext cx="479880" cy="480240"/>
              <a:chOff x="2220480" y="5662800"/>
              <a:chExt cx="479880" cy="480240"/>
            </a:xfrm>
          </p:grpSpPr>
          <p:sp>
            <p:nvSpPr>
              <p:cNvPr id="4196" name=""/>
              <p:cNvSpPr/>
              <p:nvPr/>
            </p:nvSpPr>
            <p:spPr>
              <a:xfrm rot="2178000">
                <a:off x="2288880" y="57308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2424240" y="56628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8" name=""/>
            <p:cNvSpPr/>
            <p:nvPr/>
          </p:nvSpPr>
          <p:spPr>
            <a:xfrm flipV="1">
              <a:off x="2217240" y="586476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9" name=""/>
            <p:cNvGrpSpPr/>
            <p:nvPr/>
          </p:nvGrpSpPr>
          <p:grpSpPr>
            <a:xfrm>
              <a:off x="1631520" y="5332680"/>
              <a:ext cx="479880" cy="480240"/>
              <a:chOff x="1631520" y="5332680"/>
              <a:chExt cx="479880" cy="480240"/>
            </a:xfrm>
          </p:grpSpPr>
          <p:sp>
            <p:nvSpPr>
              <p:cNvPr id="4200" name=""/>
              <p:cNvSpPr/>
              <p:nvPr/>
            </p:nvSpPr>
            <p:spPr>
              <a:xfrm rot="2178000">
                <a:off x="1699920" y="54007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1835280" y="533268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2" name=""/>
            <p:cNvSpPr/>
            <p:nvPr/>
          </p:nvSpPr>
          <p:spPr>
            <a:xfrm flipV="1">
              <a:off x="1628280" y="553464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3" name=""/>
            <p:cNvGrpSpPr/>
            <p:nvPr/>
          </p:nvGrpSpPr>
          <p:grpSpPr>
            <a:xfrm>
              <a:off x="1143000" y="4870800"/>
              <a:ext cx="479520" cy="479880"/>
              <a:chOff x="1143000" y="4870800"/>
              <a:chExt cx="479520" cy="479880"/>
            </a:xfrm>
          </p:grpSpPr>
          <p:sp>
            <p:nvSpPr>
              <p:cNvPr id="4204" name=""/>
              <p:cNvSpPr/>
              <p:nvPr/>
            </p:nvSpPr>
            <p:spPr>
              <a:xfrm rot="2178000">
                <a:off x="1211400" y="4938840"/>
                <a:ext cx="342720" cy="34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1346400" y="4870800"/>
                <a:ext cx="72720" cy="479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6" name=""/>
            <p:cNvSpPr/>
            <p:nvPr/>
          </p:nvSpPr>
          <p:spPr>
            <a:xfrm flipV="1">
              <a:off x="1140840" y="507096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7" name=""/>
            <p:cNvGrpSpPr/>
            <p:nvPr/>
          </p:nvGrpSpPr>
          <p:grpSpPr>
            <a:xfrm>
              <a:off x="819000" y="4297680"/>
              <a:ext cx="479880" cy="480240"/>
              <a:chOff x="819000" y="4297680"/>
              <a:chExt cx="479880" cy="480240"/>
            </a:xfrm>
          </p:grpSpPr>
          <p:sp>
            <p:nvSpPr>
              <p:cNvPr id="4208" name=""/>
              <p:cNvSpPr/>
              <p:nvPr/>
            </p:nvSpPr>
            <p:spPr>
              <a:xfrm rot="2178000">
                <a:off x="887400" y="43657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1022760" y="429768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0" name=""/>
            <p:cNvSpPr/>
            <p:nvPr/>
          </p:nvSpPr>
          <p:spPr>
            <a:xfrm flipV="1">
              <a:off x="815400" y="4499640"/>
              <a:ext cx="488880" cy="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1" name=""/>
            <p:cNvGrpSpPr/>
            <p:nvPr/>
          </p:nvGrpSpPr>
          <p:grpSpPr>
            <a:xfrm>
              <a:off x="2977200" y="1790280"/>
              <a:ext cx="123840" cy="121320"/>
              <a:chOff x="2977200" y="1790280"/>
              <a:chExt cx="123840" cy="121320"/>
            </a:xfrm>
          </p:grpSpPr>
          <p:sp>
            <p:nvSpPr>
              <p:cNvPr id="4212" name=""/>
              <p:cNvSpPr/>
              <p:nvPr/>
            </p:nvSpPr>
            <p:spPr>
              <a:xfrm flipH="1">
                <a:off x="2990160" y="179964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H="1" flipV="1">
                <a:off x="2977200" y="18158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H="1">
                <a:off x="2999160" y="1790280"/>
                <a:ext cx="8208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H="1" flipV="1">
                <a:off x="2985840" y="18064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6" name=""/>
            <p:cNvGrpSpPr/>
            <p:nvPr/>
          </p:nvGrpSpPr>
          <p:grpSpPr>
            <a:xfrm>
              <a:off x="2520000" y="1933200"/>
              <a:ext cx="123840" cy="121320"/>
              <a:chOff x="2520000" y="1933200"/>
              <a:chExt cx="123840" cy="121320"/>
            </a:xfrm>
          </p:grpSpPr>
          <p:sp>
            <p:nvSpPr>
              <p:cNvPr id="4217" name=""/>
              <p:cNvSpPr/>
              <p:nvPr/>
            </p:nvSpPr>
            <p:spPr>
              <a:xfrm flipH="1">
                <a:off x="2532960" y="194256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H="1" flipV="1">
                <a:off x="2520000" y="19587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H="1">
                <a:off x="2541960" y="1933200"/>
                <a:ext cx="8208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H="1" flipV="1">
                <a:off x="2528640" y="19494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1" name=""/>
            <p:cNvGrpSpPr/>
            <p:nvPr/>
          </p:nvGrpSpPr>
          <p:grpSpPr>
            <a:xfrm>
              <a:off x="2164680" y="2173320"/>
              <a:ext cx="123840" cy="120960"/>
              <a:chOff x="2164680" y="2173320"/>
              <a:chExt cx="123840" cy="120960"/>
            </a:xfrm>
          </p:grpSpPr>
          <p:sp>
            <p:nvSpPr>
              <p:cNvPr id="4222" name=""/>
              <p:cNvSpPr/>
              <p:nvPr/>
            </p:nvSpPr>
            <p:spPr>
              <a:xfrm flipH="1">
                <a:off x="2177640" y="218232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H="1" flipV="1">
                <a:off x="2164680" y="21988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H="1">
                <a:off x="2186280" y="217332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H="1" flipV="1">
                <a:off x="2173320" y="21895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6" name=""/>
            <p:cNvGrpSpPr/>
            <p:nvPr/>
          </p:nvGrpSpPr>
          <p:grpSpPr>
            <a:xfrm>
              <a:off x="1843920" y="2460600"/>
              <a:ext cx="123840" cy="120960"/>
              <a:chOff x="1843920" y="2460600"/>
              <a:chExt cx="123840" cy="120960"/>
            </a:xfrm>
          </p:grpSpPr>
          <p:sp>
            <p:nvSpPr>
              <p:cNvPr id="4227" name=""/>
              <p:cNvSpPr/>
              <p:nvPr/>
            </p:nvSpPr>
            <p:spPr>
              <a:xfrm flipH="1">
                <a:off x="1856880" y="246960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H="1" flipV="1">
                <a:off x="1843920" y="24861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H="1">
                <a:off x="1865520" y="246060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H="1" flipV="1">
                <a:off x="1852560" y="24768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1" name=""/>
            <p:cNvGrpSpPr/>
            <p:nvPr/>
          </p:nvGrpSpPr>
          <p:grpSpPr>
            <a:xfrm>
              <a:off x="1658160" y="2863800"/>
              <a:ext cx="123840" cy="120960"/>
              <a:chOff x="1658160" y="2863800"/>
              <a:chExt cx="123840" cy="120960"/>
            </a:xfrm>
          </p:grpSpPr>
          <p:sp>
            <p:nvSpPr>
              <p:cNvPr id="4232" name=""/>
              <p:cNvSpPr/>
              <p:nvPr/>
            </p:nvSpPr>
            <p:spPr>
              <a:xfrm flipH="1">
                <a:off x="1671120" y="287280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H="1" flipV="1">
                <a:off x="1658160" y="28893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H="1">
                <a:off x="1679760" y="286380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H="1" flipV="1">
                <a:off x="1666800" y="28800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6" name=""/>
            <p:cNvGrpSpPr/>
            <p:nvPr/>
          </p:nvGrpSpPr>
          <p:grpSpPr>
            <a:xfrm>
              <a:off x="1516680" y="3300120"/>
              <a:ext cx="124200" cy="121320"/>
              <a:chOff x="1516680" y="3300120"/>
              <a:chExt cx="124200" cy="121320"/>
            </a:xfrm>
          </p:grpSpPr>
          <p:sp>
            <p:nvSpPr>
              <p:cNvPr id="4237" name=""/>
              <p:cNvSpPr/>
              <p:nvPr/>
            </p:nvSpPr>
            <p:spPr>
              <a:xfrm flipH="1">
                <a:off x="1529640" y="33091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H="1" flipV="1">
                <a:off x="1516680" y="33260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H="1">
                <a:off x="1538640" y="33001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H="1" flipV="1">
                <a:off x="1525680" y="33163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"/>
            <p:cNvGrpSpPr/>
            <p:nvPr/>
          </p:nvGrpSpPr>
          <p:grpSpPr>
            <a:xfrm>
              <a:off x="1513800" y="3751200"/>
              <a:ext cx="123840" cy="120960"/>
              <a:chOff x="1513800" y="3751200"/>
              <a:chExt cx="123840" cy="120960"/>
            </a:xfrm>
          </p:grpSpPr>
          <p:sp>
            <p:nvSpPr>
              <p:cNvPr id="4242" name=""/>
              <p:cNvSpPr/>
              <p:nvPr/>
            </p:nvSpPr>
            <p:spPr>
              <a:xfrm flipH="1">
                <a:off x="1526760" y="376020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 flipV="1">
                <a:off x="1513800" y="37767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1535400" y="375120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 flipV="1">
                <a:off x="1522440" y="37674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6" name=""/>
            <p:cNvGrpSpPr/>
            <p:nvPr/>
          </p:nvGrpSpPr>
          <p:grpSpPr>
            <a:xfrm>
              <a:off x="1626480" y="4208400"/>
              <a:ext cx="123840" cy="120960"/>
              <a:chOff x="1626480" y="4208400"/>
              <a:chExt cx="123840" cy="120960"/>
            </a:xfrm>
          </p:grpSpPr>
          <p:sp>
            <p:nvSpPr>
              <p:cNvPr id="4247" name=""/>
              <p:cNvSpPr/>
              <p:nvPr/>
            </p:nvSpPr>
            <p:spPr>
              <a:xfrm flipH="1">
                <a:off x="1639440" y="421740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 flipV="1">
                <a:off x="1626480" y="42339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1648080" y="420840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 flipV="1">
                <a:off x="1635120" y="42246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1" name=""/>
            <p:cNvGrpSpPr/>
            <p:nvPr/>
          </p:nvGrpSpPr>
          <p:grpSpPr>
            <a:xfrm>
              <a:off x="1893240" y="4587840"/>
              <a:ext cx="123840" cy="120960"/>
              <a:chOff x="1893240" y="4587840"/>
              <a:chExt cx="123840" cy="120960"/>
            </a:xfrm>
          </p:grpSpPr>
          <p:sp>
            <p:nvSpPr>
              <p:cNvPr id="4252" name=""/>
              <p:cNvSpPr/>
              <p:nvPr/>
            </p:nvSpPr>
            <p:spPr>
              <a:xfrm flipH="1">
                <a:off x="1906200" y="459684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 flipV="1">
                <a:off x="1893240" y="46134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1914840" y="458784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 flipV="1">
                <a:off x="1901880" y="46040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2248560" y="4903200"/>
              <a:ext cx="123840" cy="121680"/>
              <a:chOff x="2248560" y="4903200"/>
              <a:chExt cx="123840" cy="121680"/>
            </a:xfrm>
          </p:grpSpPr>
          <p:sp>
            <p:nvSpPr>
              <p:cNvPr id="4257" name=""/>
              <p:cNvSpPr/>
              <p:nvPr/>
            </p:nvSpPr>
            <p:spPr>
              <a:xfrm flipH="1">
                <a:off x="2261160" y="491256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 flipV="1">
                <a:off x="2248560" y="49291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2270160" y="490320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 flipV="1">
                <a:off x="2257200" y="49194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1" name=""/>
            <p:cNvGrpSpPr/>
            <p:nvPr/>
          </p:nvGrpSpPr>
          <p:grpSpPr>
            <a:xfrm>
              <a:off x="3134160" y="5260680"/>
              <a:ext cx="124200" cy="121320"/>
              <a:chOff x="3134160" y="5260680"/>
              <a:chExt cx="124200" cy="121320"/>
            </a:xfrm>
          </p:grpSpPr>
          <p:sp>
            <p:nvSpPr>
              <p:cNvPr id="4262" name=""/>
              <p:cNvSpPr/>
              <p:nvPr/>
            </p:nvSpPr>
            <p:spPr>
              <a:xfrm flipH="1">
                <a:off x="3147120" y="52696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 flipV="1">
                <a:off x="3134160" y="52866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3156120" y="52606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 flipV="1">
                <a:off x="3143160" y="52768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6" name=""/>
            <p:cNvGrpSpPr/>
            <p:nvPr/>
          </p:nvGrpSpPr>
          <p:grpSpPr>
            <a:xfrm>
              <a:off x="3575520" y="5236920"/>
              <a:ext cx="124200" cy="121320"/>
              <a:chOff x="3575520" y="5236920"/>
              <a:chExt cx="124200" cy="121320"/>
            </a:xfrm>
          </p:grpSpPr>
          <p:sp>
            <p:nvSpPr>
              <p:cNvPr id="4267" name=""/>
              <p:cNvSpPr/>
              <p:nvPr/>
            </p:nvSpPr>
            <p:spPr>
              <a:xfrm flipH="1">
                <a:off x="3588480" y="52459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 flipV="1">
                <a:off x="3575520" y="52628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3597480" y="52369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 flipV="1">
                <a:off x="3584520" y="52531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1" name=""/>
            <p:cNvGrpSpPr/>
            <p:nvPr/>
          </p:nvGrpSpPr>
          <p:grpSpPr>
            <a:xfrm>
              <a:off x="4041000" y="5099040"/>
              <a:ext cx="123840" cy="120960"/>
              <a:chOff x="4041000" y="5099040"/>
              <a:chExt cx="123840" cy="120960"/>
            </a:xfrm>
          </p:grpSpPr>
          <p:sp>
            <p:nvSpPr>
              <p:cNvPr id="4272" name=""/>
              <p:cNvSpPr/>
              <p:nvPr/>
            </p:nvSpPr>
            <p:spPr>
              <a:xfrm flipH="1">
                <a:off x="4053960" y="5108040"/>
                <a:ext cx="8208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 flipV="1">
                <a:off x="4041000" y="51246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>
                <a:off x="4062600" y="5099040"/>
                <a:ext cx="82440" cy="11196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 flipV="1">
                <a:off x="4049640" y="51152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6" name=""/>
            <p:cNvGrpSpPr/>
            <p:nvPr/>
          </p:nvGrpSpPr>
          <p:grpSpPr>
            <a:xfrm>
              <a:off x="4412160" y="4860720"/>
              <a:ext cx="124200" cy="121320"/>
              <a:chOff x="4412160" y="4860720"/>
              <a:chExt cx="124200" cy="121320"/>
            </a:xfrm>
          </p:grpSpPr>
          <p:sp>
            <p:nvSpPr>
              <p:cNvPr id="4277" name=""/>
              <p:cNvSpPr/>
              <p:nvPr/>
            </p:nvSpPr>
            <p:spPr>
              <a:xfrm flipH="1">
                <a:off x="4425120" y="48697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H="1" flipV="1">
                <a:off x="4412160" y="48866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H="1">
                <a:off x="4434120" y="48607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 flipH="1" flipV="1">
                <a:off x="4421160" y="48769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1" name=""/>
            <p:cNvGrpSpPr/>
            <p:nvPr/>
          </p:nvGrpSpPr>
          <p:grpSpPr>
            <a:xfrm>
              <a:off x="2653200" y="5140080"/>
              <a:ext cx="124200" cy="121320"/>
              <a:chOff x="2653200" y="5140080"/>
              <a:chExt cx="124200" cy="121320"/>
            </a:xfrm>
          </p:grpSpPr>
          <p:sp>
            <p:nvSpPr>
              <p:cNvPr id="4282" name=""/>
              <p:cNvSpPr/>
              <p:nvPr/>
            </p:nvSpPr>
            <p:spPr>
              <a:xfrm flipH="1">
                <a:off x="2666160" y="51490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H="1" flipV="1">
                <a:off x="2653200" y="51660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H="1">
                <a:off x="2675160" y="51400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 flipV="1">
                <a:off x="2662200" y="51562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6" name=""/>
            <p:cNvSpPr/>
            <p:nvPr/>
          </p:nvSpPr>
          <p:spPr>
            <a:xfrm flipV="1">
              <a:off x="11938320" y="3545640"/>
              <a:ext cx="613872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12843000" y="4390920"/>
              <a:ext cx="1292400" cy="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13248000" y="3498480"/>
              <a:ext cx="1811160" cy="18140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3770360" y="471816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3694040" y="47880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12937680" y="332316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2" name=""/>
            <p:cNvGrpSpPr/>
            <p:nvPr/>
          </p:nvGrpSpPr>
          <p:grpSpPr>
            <a:xfrm>
              <a:off x="13062240" y="2624040"/>
              <a:ext cx="142920" cy="139320"/>
              <a:chOff x="13062240" y="2624040"/>
              <a:chExt cx="142920" cy="139320"/>
            </a:xfrm>
          </p:grpSpPr>
          <p:sp>
            <p:nvSpPr>
              <p:cNvPr id="4293" name=""/>
              <p:cNvSpPr/>
              <p:nvPr/>
            </p:nvSpPr>
            <p:spPr>
              <a:xfrm>
                <a:off x="13130280" y="262404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13062240" y="26917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5" name=""/>
            <p:cNvSpPr/>
            <p:nvPr/>
          </p:nvSpPr>
          <p:spPr>
            <a:xfrm>
              <a:off x="12767040" y="348768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2690720" y="3557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3485960" y="432756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3410000" y="439740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277040" y="333756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2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0" name=""/>
            <p:cNvGrpSpPr/>
            <p:nvPr/>
          </p:nvGrpSpPr>
          <p:grpSpPr>
            <a:xfrm>
              <a:off x="17491320" y="3375000"/>
              <a:ext cx="349200" cy="352080"/>
              <a:chOff x="17491320" y="3375000"/>
              <a:chExt cx="349200" cy="352080"/>
            </a:xfrm>
          </p:grpSpPr>
          <p:sp>
            <p:nvSpPr>
              <p:cNvPr id="4301" name=""/>
              <p:cNvSpPr/>
              <p:nvPr/>
            </p:nvSpPr>
            <p:spPr>
              <a:xfrm>
                <a:off x="17491320" y="33778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17491320" y="337788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17492760" y="337500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4" name=""/>
            <p:cNvGrpSpPr/>
            <p:nvPr/>
          </p:nvGrpSpPr>
          <p:grpSpPr>
            <a:xfrm>
              <a:off x="16124040" y="3487680"/>
              <a:ext cx="142920" cy="139320"/>
              <a:chOff x="16124040" y="3487680"/>
              <a:chExt cx="142920" cy="139320"/>
            </a:xfrm>
          </p:grpSpPr>
          <p:sp>
            <p:nvSpPr>
              <p:cNvPr id="4305" name=""/>
              <p:cNvSpPr/>
              <p:nvPr/>
            </p:nvSpPr>
            <p:spPr>
              <a:xfrm>
                <a:off x="16191000" y="3487680"/>
                <a:ext cx="0" cy="139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16124040" y="355716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7" name=""/>
            <p:cNvSpPr/>
            <p:nvPr/>
          </p:nvSpPr>
          <p:spPr>
            <a:xfrm>
              <a:off x="15602040" y="337500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14889960" y="35024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15026040" y="3733920"/>
              <a:ext cx="342720" cy="343800"/>
              <a:chOff x="15026040" y="3733920"/>
              <a:chExt cx="342720" cy="343800"/>
            </a:xfrm>
          </p:grpSpPr>
          <p:sp>
            <p:nvSpPr>
              <p:cNvPr id="4310" name=""/>
              <p:cNvSpPr/>
              <p:nvPr/>
            </p:nvSpPr>
            <p:spPr>
              <a:xfrm flipH="1">
                <a:off x="15026040" y="3733920"/>
                <a:ext cx="342720" cy="34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15026040" y="3733920"/>
                <a:ext cx="342720" cy="343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2" name=""/>
            <p:cNvSpPr/>
            <p:nvPr/>
          </p:nvSpPr>
          <p:spPr>
            <a:xfrm flipH="1" flipV="1">
              <a:off x="15022800" y="3730680"/>
              <a:ext cx="34776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13967640" y="42901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4" name=""/>
            <p:cNvGrpSpPr/>
            <p:nvPr/>
          </p:nvGrpSpPr>
          <p:grpSpPr>
            <a:xfrm>
              <a:off x="14103720" y="4521240"/>
              <a:ext cx="342720" cy="344160"/>
              <a:chOff x="14103720" y="4521240"/>
              <a:chExt cx="342720" cy="344160"/>
            </a:xfrm>
          </p:grpSpPr>
          <p:sp>
            <p:nvSpPr>
              <p:cNvPr id="4315" name=""/>
              <p:cNvSpPr/>
              <p:nvPr/>
            </p:nvSpPr>
            <p:spPr>
              <a:xfrm flipH="1">
                <a:off x="14103720" y="45212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flipH="1">
                <a:off x="14103720" y="452124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7" name=""/>
            <p:cNvSpPr/>
            <p:nvPr/>
          </p:nvSpPr>
          <p:spPr>
            <a:xfrm flipH="1" flipV="1">
              <a:off x="14100480" y="4518000"/>
              <a:ext cx="34776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3473360" y="4842720"/>
              <a:ext cx="243000" cy="243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3211280" y="421956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4445000" y="348300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4368680" y="35528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4600520" y="3881520"/>
              <a:ext cx="0" cy="13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4524200" y="39513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4" name=""/>
            <p:cNvGrpSpPr/>
            <p:nvPr/>
          </p:nvGrpSpPr>
          <p:grpSpPr>
            <a:xfrm>
              <a:off x="10169280" y="3481200"/>
              <a:ext cx="142920" cy="139320"/>
              <a:chOff x="10169280" y="3481200"/>
              <a:chExt cx="142920" cy="139320"/>
            </a:xfrm>
          </p:grpSpPr>
          <p:sp>
            <p:nvSpPr>
              <p:cNvPr id="4325" name=""/>
              <p:cNvSpPr/>
              <p:nvPr/>
            </p:nvSpPr>
            <p:spPr>
              <a:xfrm>
                <a:off x="10236240" y="3481200"/>
                <a:ext cx="0" cy="139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H="1">
                <a:off x="10169280" y="35506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7" name=""/>
            <p:cNvSpPr/>
            <p:nvPr/>
          </p:nvSpPr>
          <p:spPr>
            <a:xfrm>
              <a:off x="10377000" y="3353400"/>
              <a:ext cx="170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3 Sü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0001520" y="337824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360" y="3343680"/>
              <a:ext cx="18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3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0" name=""/>
            <p:cNvGrpSpPr/>
            <p:nvPr/>
          </p:nvGrpSpPr>
          <p:grpSpPr>
            <a:xfrm>
              <a:off x="8568000" y="3370320"/>
              <a:ext cx="347760" cy="352080"/>
              <a:chOff x="8568000" y="3370320"/>
              <a:chExt cx="347760" cy="352080"/>
            </a:xfrm>
          </p:grpSpPr>
          <p:grpSp>
            <p:nvGrpSpPr>
              <p:cNvPr id="4331" name=""/>
              <p:cNvGrpSpPr/>
              <p:nvPr/>
            </p:nvGrpSpPr>
            <p:grpSpPr>
              <a:xfrm>
                <a:off x="8568000" y="3376080"/>
                <a:ext cx="342720" cy="344160"/>
                <a:chOff x="8568000" y="3376080"/>
                <a:chExt cx="342720" cy="344160"/>
              </a:xfrm>
            </p:grpSpPr>
            <p:sp>
              <p:nvSpPr>
                <p:cNvPr id="4332" name=""/>
                <p:cNvSpPr/>
                <p:nvPr/>
              </p:nvSpPr>
              <p:spPr>
                <a:xfrm>
                  <a:off x="8568000" y="33760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8568000" y="33760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4" name=""/>
              <p:cNvSpPr/>
              <p:nvPr/>
            </p:nvSpPr>
            <p:spPr>
              <a:xfrm flipV="1">
                <a:off x="8568000" y="337032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5" name=""/>
            <p:cNvSpPr/>
            <p:nvPr/>
          </p:nvSpPr>
          <p:spPr>
            <a:xfrm flipH="1" flipV="1">
              <a:off x="6322680" y="4389480"/>
              <a:ext cx="6519240" cy="10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6" name=""/>
            <p:cNvGrpSpPr/>
            <p:nvPr/>
          </p:nvGrpSpPr>
          <p:grpSpPr>
            <a:xfrm>
              <a:off x="7101000" y="1806480"/>
              <a:ext cx="349200" cy="352080"/>
              <a:chOff x="7101000" y="1806480"/>
              <a:chExt cx="349200" cy="352080"/>
            </a:xfrm>
          </p:grpSpPr>
          <p:sp>
            <p:nvSpPr>
              <p:cNvPr id="4337" name=""/>
              <p:cNvSpPr/>
              <p:nvPr/>
            </p:nvSpPr>
            <p:spPr>
              <a:xfrm>
                <a:off x="7101000" y="18090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01000" y="18090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102440" y="180648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8772840" y="1098360"/>
              <a:ext cx="142920" cy="139680"/>
              <a:chOff x="8772840" y="1098360"/>
              <a:chExt cx="142920" cy="139680"/>
            </a:xfrm>
          </p:grpSpPr>
          <p:sp>
            <p:nvSpPr>
              <p:cNvPr id="4341" name=""/>
              <p:cNvSpPr/>
              <p:nvPr/>
            </p:nvSpPr>
            <p:spPr>
              <a:xfrm>
                <a:off x="8845920" y="10983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8772840" y="11682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"/>
            <p:cNvGrpSpPr/>
            <p:nvPr/>
          </p:nvGrpSpPr>
          <p:grpSpPr>
            <a:xfrm>
              <a:off x="8442720" y="1546200"/>
              <a:ext cx="142560" cy="139320"/>
              <a:chOff x="8442720" y="1546200"/>
              <a:chExt cx="142560" cy="139320"/>
            </a:xfrm>
          </p:grpSpPr>
          <p:sp>
            <p:nvSpPr>
              <p:cNvPr id="4344" name=""/>
              <p:cNvSpPr/>
              <p:nvPr/>
            </p:nvSpPr>
            <p:spPr>
              <a:xfrm>
                <a:off x="8515440" y="154620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8442720" y="161568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6" name=""/>
            <p:cNvGrpSpPr/>
            <p:nvPr/>
          </p:nvGrpSpPr>
          <p:grpSpPr>
            <a:xfrm>
              <a:off x="9606240" y="1177920"/>
              <a:ext cx="142920" cy="139320"/>
              <a:chOff x="9606240" y="1177920"/>
              <a:chExt cx="142920" cy="139320"/>
            </a:xfrm>
          </p:grpSpPr>
          <p:sp>
            <p:nvSpPr>
              <p:cNvPr id="4347" name=""/>
              <p:cNvSpPr/>
              <p:nvPr/>
            </p:nvSpPr>
            <p:spPr>
              <a:xfrm>
                <a:off x="9679320" y="1177920"/>
                <a:ext cx="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9606240" y="12474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9" name=""/>
            <p:cNvSpPr/>
            <p:nvPr/>
          </p:nvSpPr>
          <p:spPr>
            <a:xfrm>
              <a:off x="12487680" y="2124000"/>
              <a:ext cx="1440" cy="117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2473280" y="3309840"/>
              <a:ext cx="822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1" name=""/>
            <p:cNvGrpSpPr/>
            <p:nvPr/>
          </p:nvGrpSpPr>
          <p:grpSpPr>
            <a:xfrm>
              <a:off x="10171080" y="4319640"/>
              <a:ext cx="142920" cy="139320"/>
              <a:chOff x="10171080" y="4319640"/>
              <a:chExt cx="142920" cy="139320"/>
            </a:xfrm>
          </p:grpSpPr>
          <p:sp>
            <p:nvSpPr>
              <p:cNvPr id="4352" name=""/>
              <p:cNvSpPr/>
              <p:nvPr/>
            </p:nvSpPr>
            <p:spPr>
              <a:xfrm>
                <a:off x="10238040" y="4319640"/>
                <a:ext cx="0" cy="139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H="1">
                <a:off x="10171080" y="438912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4" name=""/>
            <p:cNvSpPr/>
            <p:nvPr/>
          </p:nvSpPr>
          <p:spPr>
            <a:xfrm>
              <a:off x="10378800" y="4191480"/>
              <a:ext cx="170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4 Sü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0002960" y="421632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646320" y="4182120"/>
              <a:ext cx="18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4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7" name=""/>
            <p:cNvGrpSpPr/>
            <p:nvPr/>
          </p:nvGrpSpPr>
          <p:grpSpPr>
            <a:xfrm>
              <a:off x="8569440" y="4214880"/>
              <a:ext cx="342720" cy="344160"/>
              <a:chOff x="8569440" y="4214880"/>
              <a:chExt cx="342720" cy="344160"/>
            </a:xfrm>
          </p:grpSpPr>
          <p:sp>
            <p:nvSpPr>
              <p:cNvPr id="4358" name=""/>
              <p:cNvSpPr/>
              <p:nvPr/>
            </p:nvSpPr>
            <p:spPr>
              <a:xfrm>
                <a:off x="8569440" y="42148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8569440" y="421488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0" name=""/>
            <p:cNvSpPr/>
            <p:nvPr/>
          </p:nvSpPr>
          <p:spPr>
            <a:xfrm flipV="1">
              <a:off x="8569440" y="4208400"/>
              <a:ext cx="347760" cy="35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1" name=""/>
            <p:cNvGrpSpPr/>
            <p:nvPr/>
          </p:nvGrpSpPr>
          <p:grpSpPr>
            <a:xfrm>
              <a:off x="12033360" y="3370320"/>
              <a:ext cx="347760" cy="352080"/>
              <a:chOff x="12033360" y="3370320"/>
              <a:chExt cx="347760" cy="352080"/>
            </a:xfrm>
          </p:grpSpPr>
          <p:grpSp>
            <p:nvGrpSpPr>
              <p:cNvPr id="4362" name=""/>
              <p:cNvGrpSpPr/>
              <p:nvPr/>
            </p:nvGrpSpPr>
            <p:grpSpPr>
              <a:xfrm>
                <a:off x="12033360" y="3376080"/>
                <a:ext cx="342720" cy="344160"/>
                <a:chOff x="12033360" y="3376080"/>
                <a:chExt cx="342720" cy="344160"/>
              </a:xfrm>
            </p:grpSpPr>
            <p:sp>
              <p:nvSpPr>
                <p:cNvPr id="4363" name=""/>
                <p:cNvSpPr/>
                <p:nvPr/>
              </p:nvSpPr>
              <p:spPr>
                <a:xfrm>
                  <a:off x="12033360" y="33760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>
                  <a:off x="12033360" y="33760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5" name=""/>
              <p:cNvSpPr/>
              <p:nvPr/>
            </p:nvSpPr>
            <p:spPr>
              <a:xfrm flipV="1">
                <a:off x="12033360" y="337032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6" name=""/>
            <p:cNvGrpSpPr/>
            <p:nvPr/>
          </p:nvGrpSpPr>
          <p:grpSpPr>
            <a:xfrm>
              <a:off x="12036600" y="4208400"/>
              <a:ext cx="347760" cy="352080"/>
              <a:chOff x="12036600" y="4208400"/>
              <a:chExt cx="347760" cy="352080"/>
            </a:xfrm>
          </p:grpSpPr>
          <p:grpSp>
            <p:nvGrpSpPr>
              <p:cNvPr id="4367" name=""/>
              <p:cNvGrpSpPr/>
              <p:nvPr/>
            </p:nvGrpSpPr>
            <p:grpSpPr>
              <a:xfrm>
                <a:off x="12036600" y="4214160"/>
                <a:ext cx="342720" cy="344160"/>
                <a:chOff x="12036600" y="4214160"/>
                <a:chExt cx="342720" cy="34416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12036600" y="42141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12036600" y="42141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0" name=""/>
              <p:cNvSpPr/>
              <p:nvPr/>
            </p:nvSpPr>
            <p:spPr>
              <a:xfrm flipV="1">
                <a:off x="12036600" y="420840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1" name=""/>
            <p:cNvGrpSpPr/>
            <p:nvPr/>
          </p:nvGrpSpPr>
          <p:grpSpPr>
            <a:xfrm>
              <a:off x="6368760" y="3490920"/>
              <a:ext cx="142920" cy="139320"/>
              <a:chOff x="6368760" y="3490920"/>
              <a:chExt cx="142920" cy="139320"/>
            </a:xfrm>
          </p:grpSpPr>
          <p:sp>
            <p:nvSpPr>
              <p:cNvPr id="4372" name=""/>
              <p:cNvSpPr/>
              <p:nvPr/>
            </p:nvSpPr>
            <p:spPr>
              <a:xfrm>
                <a:off x="6435720" y="3490920"/>
                <a:ext cx="0" cy="139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H="1">
                <a:off x="6368760" y="356040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4" name=""/>
            <p:cNvGrpSpPr/>
            <p:nvPr/>
          </p:nvGrpSpPr>
          <p:grpSpPr>
            <a:xfrm>
              <a:off x="6368760" y="4319640"/>
              <a:ext cx="142920" cy="139320"/>
              <a:chOff x="6368760" y="4319640"/>
              <a:chExt cx="142920" cy="139320"/>
            </a:xfrm>
          </p:grpSpPr>
          <p:sp>
            <p:nvSpPr>
              <p:cNvPr id="4375" name=""/>
              <p:cNvSpPr/>
              <p:nvPr/>
            </p:nvSpPr>
            <p:spPr>
              <a:xfrm>
                <a:off x="6435720" y="4319640"/>
                <a:ext cx="0" cy="139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H="1">
                <a:off x="6368760" y="438912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7" name=""/>
            <p:cNvSpPr/>
            <p:nvPr/>
          </p:nvSpPr>
          <p:spPr>
            <a:xfrm flipH="1">
              <a:off x="9420120" y="5261040"/>
              <a:ext cx="3949560" cy="28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8" name=""/>
            <p:cNvGrpSpPr/>
            <p:nvPr/>
          </p:nvGrpSpPr>
          <p:grpSpPr>
            <a:xfrm>
              <a:off x="12030480" y="5084640"/>
              <a:ext cx="347400" cy="352080"/>
              <a:chOff x="12030480" y="5084640"/>
              <a:chExt cx="347400" cy="352080"/>
            </a:xfrm>
          </p:grpSpPr>
          <p:grpSp>
            <p:nvGrpSpPr>
              <p:cNvPr id="4379" name=""/>
              <p:cNvGrpSpPr/>
              <p:nvPr/>
            </p:nvGrpSpPr>
            <p:grpSpPr>
              <a:xfrm>
                <a:off x="12033360" y="5087520"/>
                <a:ext cx="342720" cy="344160"/>
                <a:chOff x="12033360" y="5087520"/>
                <a:chExt cx="342720" cy="34416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12033360" y="50875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12033360" y="50875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2" name=""/>
              <p:cNvSpPr/>
              <p:nvPr/>
            </p:nvSpPr>
            <p:spPr>
              <a:xfrm flipV="1">
                <a:off x="12030480" y="5084640"/>
                <a:ext cx="34740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3" name=""/>
            <p:cNvSpPr/>
            <p:nvPr/>
          </p:nvSpPr>
          <p:spPr>
            <a:xfrm>
              <a:off x="10602000" y="50616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5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4" name=""/>
            <p:cNvGrpSpPr/>
            <p:nvPr/>
          </p:nvGrpSpPr>
          <p:grpSpPr>
            <a:xfrm>
              <a:off x="10328040" y="5202360"/>
              <a:ext cx="142920" cy="139320"/>
              <a:chOff x="10328040" y="5202360"/>
              <a:chExt cx="142920" cy="139320"/>
            </a:xfrm>
          </p:grpSpPr>
          <p:sp>
            <p:nvSpPr>
              <p:cNvPr id="4385" name=""/>
              <p:cNvSpPr/>
              <p:nvPr/>
            </p:nvSpPr>
            <p:spPr>
              <a:xfrm>
                <a:off x="10395000" y="5202360"/>
                <a:ext cx="0" cy="139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H="1">
                <a:off x="10328040" y="52718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7" name=""/>
            <p:cNvGrpSpPr/>
            <p:nvPr/>
          </p:nvGrpSpPr>
          <p:grpSpPr>
            <a:xfrm>
              <a:off x="6471000" y="2708280"/>
              <a:ext cx="349200" cy="352080"/>
              <a:chOff x="6471000" y="2708280"/>
              <a:chExt cx="349200" cy="352080"/>
            </a:xfrm>
          </p:grpSpPr>
          <p:sp>
            <p:nvSpPr>
              <p:cNvPr id="4388" name=""/>
              <p:cNvSpPr/>
              <p:nvPr/>
            </p:nvSpPr>
            <p:spPr>
              <a:xfrm>
                <a:off x="6471000" y="27108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471000" y="271080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V="1">
                <a:off x="6472440" y="2708280"/>
                <a:ext cx="347760" cy="35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1" name=""/>
            <p:cNvGrpSpPr/>
            <p:nvPr/>
          </p:nvGrpSpPr>
          <p:grpSpPr>
            <a:xfrm>
              <a:off x="6156720" y="992160"/>
              <a:ext cx="142560" cy="139320"/>
              <a:chOff x="6156720" y="992160"/>
              <a:chExt cx="142560" cy="139320"/>
            </a:xfrm>
          </p:grpSpPr>
          <p:sp>
            <p:nvSpPr>
              <p:cNvPr id="4392" name=""/>
              <p:cNvSpPr/>
              <p:nvPr/>
            </p:nvSpPr>
            <p:spPr>
              <a:xfrm>
                <a:off x="6223320" y="992160"/>
                <a:ext cx="0" cy="139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H="1">
                <a:off x="6156720" y="106164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-182520" y="1338840"/>
            <a:ext cx="13503240" cy="6662160"/>
            <a:chOff x="-182520" y="1338840"/>
            <a:chExt cx="13503240" cy="6662160"/>
          </a:xfrm>
        </p:grpSpPr>
        <p:sp>
          <p:nvSpPr>
            <p:cNvPr id="356" name=""/>
            <p:cNvSpPr/>
            <p:nvPr/>
          </p:nvSpPr>
          <p:spPr>
            <a:xfrm>
              <a:off x="-182520" y="6005520"/>
              <a:ext cx="1003320" cy="8589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-1440" y="3230640"/>
              <a:ext cx="959472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33200" y="1550880"/>
              <a:ext cx="932832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-47520" y="2397600"/>
              <a:ext cx="9242280" cy="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-150840" y="5732640"/>
              <a:ext cx="9499680" cy="1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-130320" y="4062240"/>
              <a:ext cx="959328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-87480" y="4892400"/>
              <a:ext cx="9390240" cy="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956280" y="5752800"/>
              <a:ext cx="362160" cy="3618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86280" y="55627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35840" y="566496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519960" y="5667480"/>
              <a:ext cx="142560" cy="139680"/>
              <a:chOff x="6519960" y="5667480"/>
              <a:chExt cx="142560" cy="139680"/>
            </a:xfrm>
          </p:grpSpPr>
          <p:sp>
            <p:nvSpPr>
              <p:cNvPr id="367" name=""/>
              <p:cNvSpPr/>
              <p:nvPr/>
            </p:nvSpPr>
            <p:spPr>
              <a:xfrm>
                <a:off x="6586560" y="5667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519960" y="57373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077240" y="1736280"/>
              <a:ext cx="1399680" cy="352440"/>
              <a:chOff x="7077240" y="1736280"/>
              <a:chExt cx="1399680" cy="352440"/>
            </a:xfrm>
          </p:grpSpPr>
          <p:sp>
            <p:nvSpPr>
              <p:cNvPr id="370" name=""/>
              <p:cNvSpPr/>
              <p:nvPr/>
            </p:nvSpPr>
            <p:spPr>
              <a:xfrm>
                <a:off x="8210520" y="1743120"/>
                <a:ext cx="266400" cy="25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23120" y="1757520"/>
                <a:ext cx="24084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39040" y="1744560"/>
                <a:ext cx="0" cy="254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454520" y="1874880"/>
                <a:ext cx="744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48400" y="1795320"/>
                <a:ext cx="0" cy="15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15520" y="183528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1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7077240" y="1739880"/>
                <a:ext cx="342720" cy="344160"/>
                <a:chOff x="7077240" y="1739880"/>
                <a:chExt cx="342720" cy="344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077240" y="17398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77240" y="17398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 flipV="1">
                <a:off x="7078680" y="1736280"/>
                <a:ext cx="34704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73760" y="1935000"/>
                <a:ext cx="0" cy="14004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603920" y="200484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2465640" y="13388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642080" y="4244760"/>
              <a:ext cx="1404720" cy="352440"/>
              <a:chOff x="7642080" y="4244760"/>
              <a:chExt cx="1404720" cy="3524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018280" y="4254480"/>
                <a:ext cx="1028520" cy="338400"/>
                <a:chOff x="8018280" y="4254480"/>
                <a:chExt cx="1028520" cy="3384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8780040" y="4254480"/>
                  <a:ext cx="266760" cy="257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793000" y="4268880"/>
                  <a:ext cx="24120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908560" y="4255920"/>
                  <a:ext cx="0" cy="254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8024400" y="4386240"/>
                  <a:ext cx="744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018280" y="4307040"/>
                  <a:ext cx="0" cy="15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288640" y="434664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642080" y="4244760"/>
                <a:ext cx="347760" cy="352440"/>
                <a:chOff x="7642080" y="4244760"/>
                <a:chExt cx="347760" cy="3524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7647120" y="4251240"/>
                  <a:ext cx="342720" cy="344160"/>
                  <a:chOff x="7647120" y="4251240"/>
                  <a:chExt cx="342720" cy="3441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7647120" y="425124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647120" y="425124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 flipV="1">
                  <a:off x="7642080" y="4244760"/>
                  <a:ext cx="34776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8250120" y="444672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8176680" y="451656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645320" y="3416040"/>
              <a:ext cx="1401840" cy="352440"/>
              <a:chOff x="7645320" y="3416040"/>
              <a:chExt cx="1401840" cy="35244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8018640" y="3425760"/>
                <a:ext cx="1028520" cy="338400"/>
                <a:chOff x="8018640" y="3425760"/>
                <a:chExt cx="1028520" cy="338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8780400" y="3425760"/>
                  <a:ext cx="266760" cy="2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793360" y="3440160"/>
                  <a:ext cx="24120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908920" y="3427560"/>
                  <a:ext cx="0" cy="253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8024760" y="3557520"/>
                  <a:ext cx="744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018640" y="3478320"/>
                  <a:ext cx="0" cy="15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289000" y="35179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647120" y="3422520"/>
                <a:ext cx="342720" cy="344160"/>
                <a:chOff x="7647120" y="3422520"/>
                <a:chExt cx="342720" cy="344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647120" y="34225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647120" y="34225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 flipV="1">
                <a:off x="7645320" y="341604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250120" y="361800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8177400" y="368784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075440" y="2585520"/>
              <a:ext cx="1400040" cy="352440"/>
              <a:chOff x="7075440" y="2585520"/>
              <a:chExt cx="1400040" cy="352440"/>
            </a:xfrm>
          </p:grpSpPr>
          <p:sp>
            <p:nvSpPr>
              <p:cNvPr id="413" name=""/>
              <p:cNvSpPr/>
              <p:nvPr/>
            </p:nvSpPr>
            <p:spPr>
              <a:xfrm>
                <a:off x="8208720" y="2592360"/>
                <a:ext cx="266760" cy="25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21680" y="260676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337240" y="2593800"/>
                <a:ext cx="0" cy="254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453080" y="272412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46960" y="2644920"/>
                <a:ext cx="0" cy="15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14080" y="26845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1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7075440" y="2589120"/>
                <a:ext cx="342720" cy="344160"/>
                <a:chOff x="7075440" y="2589120"/>
                <a:chExt cx="342720" cy="3441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075440" y="25891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075440" y="25891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 flipV="1">
                <a:off x="7076880" y="258552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78440" y="278460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605720" y="2854440"/>
                <a:ext cx="14256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086440" y="1375920"/>
              <a:ext cx="349200" cy="352440"/>
              <a:chOff x="5086440" y="1375920"/>
              <a:chExt cx="349200" cy="352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5086440" y="1379520"/>
                <a:ext cx="342720" cy="344520"/>
                <a:chOff x="5086440" y="1379520"/>
                <a:chExt cx="342720" cy="3445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5086440" y="13795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086440" y="13795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V="1">
                <a:off x="5087880" y="137592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4571640" y="1481040"/>
              <a:ext cx="142920" cy="139680"/>
              <a:chOff x="4571640" y="1481040"/>
              <a:chExt cx="142920" cy="139680"/>
            </a:xfrm>
          </p:grpSpPr>
          <p:sp>
            <p:nvSpPr>
              <p:cNvPr id="431" name=""/>
              <p:cNvSpPr/>
              <p:nvPr/>
            </p:nvSpPr>
            <p:spPr>
              <a:xfrm>
                <a:off x="4638600" y="14810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4571640" y="15508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551040" y="5555880"/>
              <a:ext cx="1167120" cy="352440"/>
              <a:chOff x="3551040" y="5555880"/>
              <a:chExt cx="1167120" cy="35244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4368960" y="5555880"/>
                <a:ext cx="349200" cy="352440"/>
                <a:chOff x="4368960" y="5555880"/>
                <a:chExt cx="349200" cy="35244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4368960" y="5559480"/>
                  <a:ext cx="343080" cy="344520"/>
                  <a:chOff x="4368960" y="5559480"/>
                  <a:chExt cx="343080" cy="3445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368960" y="5559480"/>
                    <a:ext cx="343080" cy="34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368960" y="5559480"/>
                    <a:ext cx="343080" cy="344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" name=""/>
                <p:cNvSpPr/>
                <p:nvPr/>
              </p:nvSpPr>
              <p:spPr>
                <a:xfrm flipV="1">
                  <a:off x="4370760" y="555588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3712320" y="5610960"/>
                <a:ext cx="61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102 Sü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3551040" y="5662440"/>
                <a:ext cx="142920" cy="140040"/>
                <a:chOff x="3551040" y="5662440"/>
                <a:chExt cx="142920" cy="140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621240" y="5662440"/>
                  <a:ext cx="0" cy="1400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>
                  <a:off x="3551040" y="5732640"/>
                  <a:ext cx="142920" cy="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"/>
            <p:cNvSpPr/>
            <p:nvPr/>
          </p:nvSpPr>
          <p:spPr>
            <a:xfrm>
              <a:off x="7162920" y="6563160"/>
              <a:ext cx="615780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841560" y="656424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035160" y="6515280"/>
              <a:ext cx="924120" cy="9237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26360" y="6513480"/>
              <a:ext cx="1352520" cy="13543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222960" y="6573600"/>
              <a:ext cx="711360" cy="2826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659560" y="6113160"/>
              <a:ext cx="1296720" cy="12999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930720" y="6486480"/>
              <a:ext cx="142920" cy="139680"/>
              <a:chOff x="6930720" y="6486480"/>
              <a:chExt cx="142920" cy="139680"/>
            </a:xfrm>
          </p:grpSpPr>
          <p:sp>
            <p:nvSpPr>
              <p:cNvPr id="450" name=""/>
              <p:cNvSpPr/>
              <p:nvPr/>
            </p:nvSpPr>
            <p:spPr>
              <a:xfrm>
                <a:off x="6997680" y="6486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30720" y="65563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5138640" y="6496200"/>
              <a:ext cx="142560" cy="139680"/>
              <a:chOff x="5138640" y="6496200"/>
              <a:chExt cx="142560" cy="139680"/>
            </a:xfrm>
          </p:grpSpPr>
          <p:sp>
            <p:nvSpPr>
              <p:cNvPr id="453" name=""/>
              <p:cNvSpPr/>
              <p:nvPr/>
            </p:nvSpPr>
            <p:spPr>
              <a:xfrm>
                <a:off x="5205240" y="6496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5138640" y="65660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760720" y="7178760"/>
              <a:ext cx="142920" cy="139680"/>
              <a:chOff x="5760720" y="7178760"/>
              <a:chExt cx="142920" cy="139680"/>
            </a:xfrm>
          </p:grpSpPr>
          <p:sp>
            <p:nvSpPr>
              <p:cNvPr id="456" name=""/>
              <p:cNvSpPr/>
              <p:nvPr/>
            </p:nvSpPr>
            <p:spPr>
              <a:xfrm>
                <a:off x="5828040" y="717876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760720" y="724860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43920" y="6902280"/>
              <a:ext cx="142560" cy="140040"/>
              <a:chOff x="7243920" y="6902280"/>
              <a:chExt cx="142560" cy="140040"/>
            </a:xfrm>
          </p:grpSpPr>
          <p:sp>
            <p:nvSpPr>
              <p:cNvPr id="459" name=""/>
              <p:cNvSpPr/>
              <p:nvPr/>
            </p:nvSpPr>
            <p:spPr>
              <a:xfrm>
                <a:off x="7310160" y="6902280"/>
                <a:ext cx="0" cy="1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243920" y="697248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575480" y="6781320"/>
              <a:ext cx="347760" cy="352440"/>
              <a:chOff x="7575480" y="6781320"/>
              <a:chExt cx="347760" cy="3524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7577280" y="6784920"/>
                <a:ext cx="342720" cy="344520"/>
                <a:chOff x="7577280" y="6784920"/>
                <a:chExt cx="342720" cy="344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577280" y="678492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577280" y="678492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7575480" y="67813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7710480" y="65556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07880" y="6239880"/>
              <a:ext cx="63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38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5529240" y="6708240"/>
              <a:ext cx="347760" cy="352440"/>
              <a:chOff x="5529240" y="6708240"/>
              <a:chExt cx="347760" cy="35244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530680" y="6711840"/>
                <a:ext cx="343080" cy="344520"/>
                <a:chOff x="5530680" y="6711840"/>
                <a:chExt cx="343080" cy="344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530680" y="671184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30680" y="671184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flipV="1">
                <a:off x="5529240" y="67082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945120" y="714456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44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887880" y="6043680"/>
              <a:ext cx="142920" cy="139680"/>
              <a:chOff x="6887880" y="6043680"/>
              <a:chExt cx="142920" cy="139680"/>
            </a:xfrm>
          </p:grpSpPr>
          <p:sp>
            <p:nvSpPr>
              <p:cNvPr id="475" name=""/>
              <p:cNvSpPr/>
              <p:nvPr/>
            </p:nvSpPr>
            <p:spPr>
              <a:xfrm>
                <a:off x="6954840" y="60436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887880" y="61135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222680" y="6488280"/>
              <a:ext cx="142920" cy="139680"/>
              <a:chOff x="7222680" y="6488280"/>
              <a:chExt cx="142920" cy="139680"/>
            </a:xfrm>
          </p:grpSpPr>
          <p:sp>
            <p:nvSpPr>
              <p:cNvPr id="478" name=""/>
              <p:cNvSpPr/>
              <p:nvPr/>
            </p:nvSpPr>
            <p:spPr>
              <a:xfrm>
                <a:off x="7289640" y="64882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222680" y="655812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5886720" y="6544440"/>
              <a:ext cx="6426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38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86280" y="472140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358040" y="5889240"/>
              <a:ext cx="347760" cy="352440"/>
              <a:chOff x="7358040" y="5889240"/>
              <a:chExt cx="347760" cy="35244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359480" y="5892480"/>
                <a:ext cx="343080" cy="344520"/>
                <a:chOff x="7359480" y="5892480"/>
                <a:chExt cx="343080" cy="344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359480" y="589248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59480" y="589248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flipV="1">
                <a:off x="7358040" y="588924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41120" y="55627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912600" y="5754600"/>
              <a:ext cx="361800" cy="3621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93880" y="556812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763640" y="5667480"/>
              <a:ext cx="142560" cy="139680"/>
              <a:chOff x="1763640" y="5667480"/>
              <a:chExt cx="142560" cy="139680"/>
            </a:xfrm>
          </p:grpSpPr>
          <p:sp>
            <p:nvSpPr>
              <p:cNvPr id="491" name=""/>
              <p:cNvSpPr/>
              <p:nvPr/>
            </p:nvSpPr>
            <p:spPr>
              <a:xfrm>
                <a:off x="1830240" y="566748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763640" y="573732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flipV="1">
              <a:off x="1274760" y="6116760"/>
              <a:ext cx="1882800" cy="188424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976320" y="5208120"/>
              <a:ext cx="347760" cy="352440"/>
              <a:chOff x="976320" y="5208120"/>
              <a:chExt cx="347760" cy="35244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979560" y="5211720"/>
                <a:ext cx="343080" cy="344520"/>
                <a:chOff x="979560" y="5211720"/>
                <a:chExt cx="343080" cy="34452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979200" y="52117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979560" y="52117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 flipH="1" flipV="1">
                <a:off x="976320" y="52081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1438200" y="6275520"/>
              <a:ext cx="142920" cy="139680"/>
              <a:chOff x="1438200" y="6275520"/>
              <a:chExt cx="142920" cy="139680"/>
            </a:xfrm>
          </p:grpSpPr>
          <p:sp>
            <p:nvSpPr>
              <p:cNvPr id="500" name=""/>
              <p:cNvSpPr/>
              <p:nvPr/>
            </p:nvSpPr>
            <p:spPr>
              <a:xfrm>
                <a:off x="1514160" y="62755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38200" y="63453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038640" y="4721400"/>
              <a:ext cx="1403640" cy="352080"/>
              <a:chOff x="6038640" y="4721400"/>
              <a:chExt cx="1403640" cy="35208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6038640" y="4824360"/>
                <a:ext cx="142920" cy="139320"/>
                <a:chOff x="6038640" y="4824360"/>
                <a:chExt cx="142920" cy="1393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108840" y="4824360"/>
                  <a:ext cx="0" cy="139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6038640" y="4893840"/>
                  <a:ext cx="1429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093080" y="4721400"/>
                <a:ext cx="349200" cy="352080"/>
                <a:chOff x="7093080" y="4721400"/>
                <a:chExt cx="349200" cy="352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093080" y="4724280"/>
                  <a:ext cx="342720" cy="3438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093080" y="4724280"/>
                  <a:ext cx="342720" cy="34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7094520" y="4721400"/>
                  <a:ext cx="347760" cy="352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6353640" y="4775400"/>
                <a:ext cx="61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103 Sü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4" name=""/>
          <p:cNvGrpSpPr/>
          <p:nvPr/>
        </p:nvGrpSpPr>
        <p:grpSpPr>
          <a:xfrm>
            <a:off x="-8566920" y="-1047960"/>
            <a:ext cx="21365280" cy="7390080"/>
            <a:chOff x="-8566920" y="-1047960"/>
            <a:chExt cx="21365280" cy="7390080"/>
          </a:xfrm>
        </p:grpSpPr>
        <p:sp>
          <p:nvSpPr>
            <p:cNvPr id="4395" name=""/>
            <p:cNvSpPr/>
            <p:nvPr/>
          </p:nvSpPr>
          <p:spPr>
            <a:xfrm flipV="1">
              <a:off x="-4578480" y="766800"/>
              <a:ext cx="6685200" cy="2046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 flipV="1">
              <a:off x="1253520" y="765360"/>
              <a:ext cx="855000" cy="2595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flipH="1" flipV="1">
              <a:off x="-5783040" y="3548160"/>
              <a:ext cx="9058680" cy="3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770120" y="1413000"/>
              <a:ext cx="193680" cy="2505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 flipV="1">
              <a:off x="-1281600" y="181080"/>
              <a:ext cx="1747800" cy="17524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 flipV="1">
              <a:off x="-824040" y="641520"/>
              <a:ext cx="1292400" cy="129528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V="1">
              <a:off x="352440" y="1882080"/>
              <a:ext cx="8586720" cy="3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2036880" y="174240"/>
              <a:ext cx="631800" cy="6318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841320" y="225720"/>
              <a:ext cx="9242640" cy="72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965120" y="16560"/>
              <a:ext cx="24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01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-2480040" y="225360"/>
              <a:ext cx="3321000" cy="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H="1" flipV="1">
              <a:off x="-1039680" y="-1047960"/>
              <a:ext cx="1309680" cy="130788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H="1">
              <a:off x="-167760" y="169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660760" y="514440"/>
              <a:ext cx="10137600" cy="10969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9029880" y="1612800"/>
              <a:ext cx="1936440" cy="35067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9036000" y="1019160"/>
              <a:ext cx="1936800" cy="1239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9036000" y="3286080"/>
              <a:ext cx="1936800" cy="1830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2097000" y="6778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2021040" y="7477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H="1">
              <a:off x="2532600" y="1198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-855720" y="5428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000680" y="171468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-235800" y="1328040"/>
              <a:ext cx="56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Kr W 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rot="10800000">
              <a:off x="1953720" y="1413000"/>
              <a:ext cx="266760" cy="25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rot="10800000">
              <a:off x="1967040" y="142380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2092320" y="1414440"/>
              <a:ext cx="0" cy="25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2230560" y="1538280"/>
              <a:ext cx="744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2982960" y="1459080"/>
              <a:ext cx="0" cy="15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2158200" y="133020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Hs 1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4" name=""/>
            <p:cNvGrpSpPr/>
            <p:nvPr/>
          </p:nvGrpSpPr>
          <p:grpSpPr>
            <a:xfrm>
              <a:off x="3011040" y="1355760"/>
              <a:ext cx="343080" cy="344160"/>
              <a:chOff x="3011040" y="1355760"/>
              <a:chExt cx="343080" cy="344160"/>
            </a:xfrm>
          </p:grpSpPr>
          <p:sp>
            <p:nvSpPr>
              <p:cNvPr id="4425" name=""/>
              <p:cNvSpPr/>
              <p:nvPr/>
            </p:nvSpPr>
            <p:spPr>
              <a:xfrm rot="10800000">
                <a:off x="3011040" y="135576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H="1" flipV="1">
                <a:off x="3011040" y="1355760"/>
                <a:ext cx="343080" cy="3441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H="1">
              <a:off x="3003480" y="1351800"/>
              <a:ext cx="347760" cy="3524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V="1">
              <a:off x="2763720" y="1338120"/>
              <a:ext cx="0" cy="13968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688480" y="1409760"/>
              <a:ext cx="142920" cy="0"/>
            </a:xfrm>
            <a:prstGeom prst="line">
              <a:avLst/>
            </a:prstGeom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0" name=""/>
            <p:cNvGrpSpPr/>
            <p:nvPr/>
          </p:nvGrpSpPr>
          <p:grpSpPr>
            <a:xfrm>
              <a:off x="2316240" y="1711080"/>
              <a:ext cx="349200" cy="352440"/>
              <a:chOff x="2316240" y="1711080"/>
              <a:chExt cx="349200" cy="352440"/>
            </a:xfrm>
          </p:grpSpPr>
          <p:sp>
            <p:nvSpPr>
              <p:cNvPr id="4431" name=""/>
              <p:cNvSpPr/>
              <p:nvPr/>
            </p:nvSpPr>
            <p:spPr>
              <a:xfrm>
                <a:off x="2316240" y="17143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2316240" y="1714320"/>
                <a:ext cx="342720" cy="34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V="1">
                <a:off x="2317680" y="171108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4646520" y="1714680"/>
              <a:ext cx="343080" cy="3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646520" y="1714680"/>
              <a:ext cx="34308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4648320" y="1711080"/>
              <a:ext cx="34740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311720" y="1824120"/>
              <a:ext cx="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>
              <a:off x="4245120" y="1893960"/>
              <a:ext cx="142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600200" y="1714680"/>
              <a:ext cx="0" cy="344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62200" y="1824120"/>
              <a:ext cx="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 flipH="1">
              <a:off x="1695600" y="1893960"/>
              <a:ext cx="142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796400" y="17596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4996440" y="1677240"/>
              <a:ext cx="179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1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(NL 22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821640" y="17128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7791480" y="1714680"/>
              <a:ext cx="342720" cy="34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791480" y="1714680"/>
              <a:ext cx="342720" cy="344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7792920" y="171108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319880" y="1824120"/>
              <a:ext cx="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7252920" y="1893960"/>
              <a:ext cx="142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346160" y="17596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41 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39640" y="540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424160" y="18194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347840" y="18892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4" name=""/>
            <p:cNvGrpSpPr/>
            <p:nvPr/>
          </p:nvGrpSpPr>
          <p:grpSpPr>
            <a:xfrm>
              <a:off x="276120" y="1741320"/>
              <a:ext cx="142920" cy="139680"/>
              <a:chOff x="276120" y="1741320"/>
              <a:chExt cx="142920" cy="139680"/>
            </a:xfrm>
          </p:grpSpPr>
          <p:sp>
            <p:nvSpPr>
              <p:cNvPr id="4455" name=""/>
              <p:cNvSpPr/>
              <p:nvPr/>
            </p:nvSpPr>
            <p:spPr>
              <a:xfrm>
                <a:off x="349200" y="17413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276120" y="18111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7" name=""/>
            <p:cNvSpPr/>
            <p:nvPr/>
          </p:nvSpPr>
          <p:spPr>
            <a:xfrm>
              <a:off x="1430280" y="13399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353960" y="14097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 flipV="1">
              <a:off x="3165120" y="1849320"/>
              <a:ext cx="1693800" cy="1694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0" name=""/>
            <p:cNvGrpSpPr/>
            <p:nvPr/>
          </p:nvGrpSpPr>
          <p:grpSpPr>
            <a:xfrm>
              <a:off x="3346200" y="2696760"/>
              <a:ext cx="347400" cy="352440"/>
              <a:chOff x="3346200" y="2696760"/>
              <a:chExt cx="347400" cy="352440"/>
            </a:xfrm>
          </p:grpSpPr>
          <p:grpSp>
            <p:nvGrpSpPr>
              <p:cNvPr id="4461" name=""/>
              <p:cNvGrpSpPr/>
              <p:nvPr/>
            </p:nvGrpSpPr>
            <p:grpSpPr>
              <a:xfrm>
                <a:off x="3349440" y="2700360"/>
                <a:ext cx="342720" cy="344520"/>
                <a:chOff x="3349440" y="2700360"/>
                <a:chExt cx="342720" cy="344520"/>
              </a:xfrm>
            </p:grpSpPr>
            <p:sp>
              <p:nvSpPr>
                <p:cNvPr id="4462" name=""/>
                <p:cNvSpPr/>
                <p:nvPr/>
              </p:nvSpPr>
              <p:spPr>
                <a:xfrm flipH="1">
                  <a:off x="3349440" y="27003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H="1">
                  <a:off x="3349440" y="27003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4" name=""/>
              <p:cNvSpPr/>
              <p:nvPr/>
            </p:nvSpPr>
            <p:spPr>
              <a:xfrm flipH="1" flipV="1">
                <a:off x="3346200" y="269676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5" name=""/>
            <p:cNvSpPr/>
            <p:nvPr/>
          </p:nvSpPr>
          <p:spPr>
            <a:xfrm flipH="1">
              <a:off x="2922480" y="189468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67120" y="18255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790800" y="18954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H="1" rot="16200000">
              <a:off x="1655280" y="1342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33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164040" y="554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H="1">
              <a:off x="-1344960" y="20880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H="1">
              <a:off x="-2793960" y="1053720"/>
              <a:ext cx="2330280" cy="3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-1370160" y="8841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-1233360" y="982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-1303200" y="105264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flipH="1">
              <a:off x="-1134360" y="79776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-932040" y="6127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-1806480" y="882360"/>
              <a:ext cx="349200" cy="352440"/>
              <a:chOff x="-1806480" y="882360"/>
              <a:chExt cx="349200" cy="352440"/>
            </a:xfrm>
          </p:grpSpPr>
          <p:sp>
            <p:nvSpPr>
              <p:cNvPr id="4478" name=""/>
              <p:cNvSpPr/>
              <p:nvPr/>
            </p:nvSpPr>
            <p:spPr>
              <a:xfrm>
                <a:off x="-1806480" y="88596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-1806480" y="885960"/>
                <a:ext cx="34308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-1804680" y="882360"/>
                <a:ext cx="34740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1" name=""/>
            <p:cNvSpPr/>
            <p:nvPr/>
          </p:nvSpPr>
          <p:spPr>
            <a:xfrm>
              <a:off x="-2859840" y="856440"/>
              <a:ext cx="105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130 Sü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flipH="1">
              <a:off x="-5124240" y="1053720"/>
              <a:ext cx="2330640" cy="3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-3036960" y="8841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-3683160" y="88596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-3683160" y="885960"/>
              <a:ext cx="343080" cy="344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flipV="1">
              <a:off x="-3681360" y="88236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7" name=""/>
            <p:cNvGrpSpPr/>
            <p:nvPr/>
          </p:nvGrpSpPr>
          <p:grpSpPr>
            <a:xfrm>
              <a:off x="-5048640" y="992160"/>
              <a:ext cx="142920" cy="139680"/>
              <a:chOff x="-5048640" y="992160"/>
              <a:chExt cx="142920" cy="139680"/>
            </a:xfrm>
          </p:grpSpPr>
          <p:sp>
            <p:nvSpPr>
              <p:cNvPr id="4488" name=""/>
              <p:cNvSpPr/>
              <p:nvPr/>
            </p:nvSpPr>
            <p:spPr>
              <a:xfrm>
                <a:off x="-4981680" y="99216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H="1">
                <a:off x="-5048640" y="106200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0" name=""/>
            <p:cNvSpPr/>
            <p:nvPr/>
          </p:nvSpPr>
          <p:spPr>
            <a:xfrm>
              <a:off x="-4934520" y="85140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130 N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-427680" y="1363680"/>
              <a:ext cx="104400" cy="32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rot="20563200">
              <a:off x="-3259080" y="201636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1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3" name=""/>
            <p:cNvGrpSpPr/>
            <p:nvPr/>
          </p:nvGrpSpPr>
          <p:grpSpPr>
            <a:xfrm>
              <a:off x="-3329640" y="2355120"/>
              <a:ext cx="115200" cy="112320"/>
              <a:chOff x="-3329640" y="2355120"/>
              <a:chExt cx="115200" cy="112320"/>
            </a:xfrm>
          </p:grpSpPr>
          <p:sp>
            <p:nvSpPr>
              <p:cNvPr id="4494" name=""/>
              <p:cNvSpPr/>
              <p:nvPr/>
            </p:nvSpPr>
            <p:spPr>
              <a:xfrm flipH="1">
                <a:off x="-3317760" y="2355120"/>
                <a:ext cx="8280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-3329640" y="23720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6" name=""/>
            <p:cNvSpPr/>
            <p:nvPr/>
          </p:nvSpPr>
          <p:spPr>
            <a:xfrm flipH="1">
              <a:off x="-1679760" y="4344480"/>
              <a:ext cx="82800" cy="112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7" name=""/>
            <p:cNvGrpSpPr/>
            <p:nvPr/>
          </p:nvGrpSpPr>
          <p:grpSpPr>
            <a:xfrm>
              <a:off x="-1239480" y="1691280"/>
              <a:ext cx="1043280" cy="536400"/>
              <a:chOff x="-1239480" y="1691280"/>
              <a:chExt cx="1043280" cy="536400"/>
            </a:xfrm>
          </p:grpSpPr>
          <p:grpSp>
            <p:nvGrpSpPr>
              <p:cNvPr id="4498" name=""/>
              <p:cNvGrpSpPr/>
              <p:nvPr/>
            </p:nvGrpSpPr>
            <p:grpSpPr>
              <a:xfrm>
                <a:off x="-1239480" y="1691280"/>
                <a:ext cx="1043280" cy="536400"/>
                <a:chOff x="-1239480" y="1691280"/>
                <a:chExt cx="1043280" cy="536400"/>
              </a:xfrm>
            </p:grpSpPr>
            <p:sp>
              <p:nvSpPr>
                <p:cNvPr id="4499" name=""/>
                <p:cNvSpPr/>
                <p:nvPr/>
              </p:nvSpPr>
              <p:spPr>
                <a:xfrm rot="20571600">
                  <a:off x="-494640" y="1724760"/>
                  <a:ext cx="266400" cy="257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/>
                <p:nvPr/>
              </p:nvSpPr>
              <p:spPr>
                <a:xfrm rot="20571600">
                  <a:off x="-481680" y="1738800"/>
                  <a:ext cx="240840" cy="229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>
                  <a:off x="-403560" y="1733400"/>
                  <a:ext cx="74880" cy="241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 flipH="1">
                  <a:off x="-1210320" y="1899000"/>
                  <a:ext cx="711000" cy="219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>
                  <a:off x="-1239480" y="2044440"/>
                  <a:ext cx="46080" cy="149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 rot="20571600">
                  <a:off x="-923760" y="19051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3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5" name=""/>
              <p:cNvSpPr/>
              <p:nvPr/>
            </p:nvSpPr>
            <p:spPr>
              <a:xfrm>
                <a:off x="-954360" y="2088000"/>
                <a:ext cx="41040" cy="13320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H="1">
                <a:off x="-997560" y="2131200"/>
                <a:ext cx="136080" cy="4212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7" name=""/>
            <p:cNvSpPr/>
            <p:nvPr/>
          </p:nvSpPr>
          <p:spPr>
            <a:xfrm flipH="1" flipV="1">
              <a:off x="-6234840" y="3431160"/>
              <a:ext cx="3462480" cy="965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 rot="2178000">
              <a:off x="-7402680" y="1964880"/>
              <a:ext cx="3248280" cy="31910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 rot="2178000">
              <a:off x="-5877000" y="3474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H="1" flipV="1">
              <a:off x="-6215760" y="1105200"/>
              <a:ext cx="145800" cy="932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H="1" flipV="1">
              <a:off x="-6860520" y="1297800"/>
              <a:ext cx="385200" cy="855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 flipV="1">
              <a:off x="-7383600" y="1644840"/>
              <a:ext cx="593280" cy="726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H="1" flipV="1">
              <a:off x="-8038080" y="1918800"/>
              <a:ext cx="955440" cy="702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 flipV="1">
              <a:off x="-8365680" y="2554560"/>
              <a:ext cx="1105560" cy="4215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H="1" flipV="1">
              <a:off x="-8561880" y="3261960"/>
              <a:ext cx="1176840" cy="1209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H="1">
              <a:off x="-8566920" y="3776760"/>
              <a:ext cx="1177920" cy="1821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H="1">
              <a:off x="-8346960" y="4178520"/>
              <a:ext cx="1079280" cy="483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H="1">
              <a:off x="-7952040" y="4537440"/>
              <a:ext cx="917640" cy="7470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-4752000" y="4812840"/>
              <a:ext cx="746640" cy="9176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-5097240" y="5036760"/>
              <a:ext cx="483480" cy="10796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-5522400" y="5148000"/>
              <a:ext cx="180000" cy="11689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-6045120" y="5165280"/>
              <a:ext cx="120960" cy="11768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-6778080" y="5043960"/>
              <a:ext cx="421200" cy="110556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-7425720" y="4830840"/>
              <a:ext cx="699480" cy="9540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rot="2178000">
              <a:off x="-7410600" y="1976040"/>
              <a:ext cx="3248280" cy="319104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rot="2178000">
              <a:off x="-5884560" y="3484440"/>
              <a:ext cx="152280" cy="15264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-4320000" y="2866680"/>
              <a:ext cx="1956960" cy="299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rot="21084600">
              <a:off x="-3864960" y="2809080"/>
              <a:ext cx="121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2</a:t>
              </a: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H="1" flipV="1">
              <a:off x="-3991680" y="3076920"/>
              <a:ext cx="115200" cy="84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-3976920" y="3063240"/>
              <a:ext cx="82800" cy="112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2178000">
              <a:off x="-7400520" y="1967040"/>
              <a:ext cx="3247920" cy="319068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rot="2178000">
              <a:off x="-5874840" y="3476520"/>
              <a:ext cx="152280" cy="15264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rot="2178000">
              <a:off x="-4928040" y="4582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2178000">
              <a:off x="-5266440" y="477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rot="2178000">
              <a:off x="-5630040" y="4895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rot="2178000">
              <a:off x="-6047280" y="4895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 rot="2178000">
              <a:off x="-6455520" y="4798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rot="2178000">
              <a:off x="-6814080" y="4593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rot="2178000">
              <a:off x="-7107840" y="431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rot="2178000">
              <a:off x="-7322040" y="395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rot="2178000">
              <a:off x="-7409520" y="3578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 rot="2178000">
              <a:off x="-7450560" y="3230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rot="2178000">
              <a:off x="-7369560" y="283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rot="2178000">
              <a:off x="-7201440" y="2517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rot="2178000">
              <a:off x="-6944400" y="224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rot="2178000">
              <a:off x="-6621840" y="2039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rot="2178000">
              <a:off x="-6239520" y="1920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8" name=""/>
            <p:cNvGrpSpPr/>
            <p:nvPr/>
          </p:nvGrpSpPr>
          <p:grpSpPr>
            <a:xfrm>
              <a:off x="-4415400" y="5273640"/>
              <a:ext cx="479880" cy="480240"/>
              <a:chOff x="-4415400" y="5273640"/>
              <a:chExt cx="479880" cy="480240"/>
            </a:xfrm>
          </p:grpSpPr>
          <p:sp>
            <p:nvSpPr>
              <p:cNvPr id="4549" name=""/>
              <p:cNvSpPr/>
              <p:nvPr/>
            </p:nvSpPr>
            <p:spPr>
              <a:xfrm rot="2178000">
                <a:off x="-4346640" y="53416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-4211640" y="52736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1" name=""/>
            <p:cNvSpPr/>
            <p:nvPr/>
          </p:nvSpPr>
          <p:spPr>
            <a:xfrm flipV="1">
              <a:off x="-4415400" y="5477400"/>
              <a:ext cx="488880" cy="7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2" name=""/>
            <p:cNvGrpSpPr/>
            <p:nvPr/>
          </p:nvGrpSpPr>
          <p:grpSpPr>
            <a:xfrm>
              <a:off x="-6398280" y="1158840"/>
              <a:ext cx="479880" cy="480240"/>
              <a:chOff x="-6398280" y="1158840"/>
              <a:chExt cx="479880" cy="480240"/>
            </a:xfrm>
          </p:grpSpPr>
          <p:sp>
            <p:nvSpPr>
              <p:cNvPr id="4553" name=""/>
              <p:cNvSpPr/>
              <p:nvPr/>
            </p:nvSpPr>
            <p:spPr>
              <a:xfrm rot="2178000">
                <a:off x="-6329520" y="12268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-6194520" y="11588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5" name=""/>
            <p:cNvSpPr/>
            <p:nvPr/>
          </p:nvSpPr>
          <p:spPr>
            <a:xfrm flipV="1">
              <a:off x="-6401520" y="136080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6" name=""/>
            <p:cNvGrpSpPr/>
            <p:nvPr/>
          </p:nvGrpSpPr>
          <p:grpSpPr>
            <a:xfrm>
              <a:off x="-6999840" y="1315800"/>
              <a:ext cx="479880" cy="480240"/>
              <a:chOff x="-6999840" y="1315800"/>
              <a:chExt cx="479880" cy="480240"/>
            </a:xfrm>
          </p:grpSpPr>
          <p:sp>
            <p:nvSpPr>
              <p:cNvPr id="4557" name=""/>
              <p:cNvSpPr/>
              <p:nvPr/>
            </p:nvSpPr>
            <p:spPr>
              <a:xfrm rot="2178000">
                <a:off x="-6931080" y="13838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-6796080" y="13158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9" name=""/>
            <p:cNvSpPr/>
            <p:nvPr/>
          </p:nvSpPr>
          <p:spPr>
            <a:xfrm flipV="1">
              <a:off x="-7004880" y="151632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0" name=""/>
            <p:cNvGrpSpPr/>
            <p:nvPr/>
          </p:nvGrpSpPr>
          <p:grpSpPr>
            <a:xfrm>
              <a:off x="-7476120" y="1595160"/>
              <a:ext cx="479880" cy="480240"/>
              <a:chOff x="-7476120" y="1595160"/>
              <a:chExt cx="479880" cy="480240"/>
            </a:xfrm>
          </p:grpSpPr>
          <p:sp>
            <p:nvSpPr>
              <p:cNvPr id="4561" name=""/>
              <p:cNvSpPr/>
              <p:nvPr/>
            </p:nvSpPr>
            <p:spPr>
              <a:xfrm rot="2178000">
                <a:off x="-7407360" y="166320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-7272360" y="159516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3" name=""/>
            <p:cNvSpPr/>
            <p:nvPr/>
          </p:nvSpPr>
          <p:spPr>
            <a:xfrm flipV="1">
              <a:off x="-7479360" y="179748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4" name=""/>
            <p:cNvGrpSpPr/>
            <p:nvPr/>
          </p:nvGrpSpPr>
          <p:grpSpPr>
            <a:xfrm>
              <a:off x="-8044200" y="1852920"/>
              <a:ext cx="479880" cy="480240"/>
              <a:chOff x="-8044200" y="1852920"/>
              <a:chExt cx="479880" cy="480240"/>
            </a:xfrm>
          </p:grpSpPr>
          <p:sp>
            <p:nvSpPr>
              <p:cNvPr id="4565" name=""/>
              <p:cNvSpPr/>
              <p:nvPr/>
            </p:nvSpPr>
            <p:spPr>
              <a:xfrm rot="2178000">
                <a:off x="-7975440" y="19209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-7840440" y="18529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 flipV="1">
              <a:off x="-8047800" y="205452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8" name=""/>
            <p:cNvGrpSpPr/>
            <p:nvPr/>
          </p:nvGrpSpPr>
          <p:grpSpPr>
            <a:xfrm>
              <a:off x="-8333280" y="2408400"/>
              <a:ext cx="479880" cy="480240"/>
              <a:chOff x="-8333280" y="2408400"/>
              <a:chExt cx="479880" cy="480240"/>
            </a:xfrm>
          </p:grpSpPr>
          <p:sp>
            <p:nvSpPr>
              <p:cNvPr id="4569" name=""/>
              <p:cNvSpPr/>
              <p:nvPr/>
            </p:nvSpPr>
            <p:spPr>
              <a:xfrm rot="2178000">
                <a:off x="-8264520" y="24764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-8129520" y="240840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1" name=""/>
            <p:cNvSpPr/>
            <p:nvPr/>
          </p:nvSpPr>
          <p:spPr>
            <a:xfrm flipV="1">
              <a:off x="-8336520" y="2610360"/>
              <a:ext cx="488880" cy="7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2" name=""/>
            <p:cNvGrpSpPr/>
            <p:nvPr/>
          </p:nvGrpSpPr>
          <p:grpSpPr>
            <a:xfrm>
              <a:off x="-8472960" y="3048120"/>
              <a:ext cx="479880" cy="480240"/>
              <a:chOff x="-8472960" y="3048120"/>
              <a:chExt cx="479880" cy="480240"/>
            </a:xfrm>
          </p:grpSpPr>
          <p:sp>
            <p:nvSpPr>
              <p:cNvPr id="4573" name=""/>
              <p:cNvSpPr/>
              <p:nvPr/>
            </p:nvSpPr>
            <p:spPr>
              <a:xfrm rot="2178000">
                <a:off x="-8404200" y="31161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-8269200" y="30481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5" name=""/>
            <p:cNvSpPr/>
            <p:nvPr/>
          </p:nvSpPr>
          <p:spPr>
            <a:xfrm flipV="1">
              <a:off x="-8474760" y="324828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6" name=""/>
            <p:cNvGrpSpPr/>
            <p:nvPr/>
          </p:nvGrpSpPr>
          <p:grpSpPr>
            <a:xfrm>
              <a:off x="-8506440" y="3660480"/>
              <a:ext cx="479880" cy="480240"/>
              <a:chOff x="-8506440" y="3660480"/>
              <a:chExt cx="479880" cy="480240"/>
            </a:xfrm>
          </p:grpSpPr>
          <p:sp>
            <p:nvSpPr>
              <p:cNvPr id="4577" name=""/>
              <p:cNvSpPr/>
              <p:nvPr/>
            </p:nvSpPr>
            <p:spPr>
              <a:xfrm rot="2178000">
                <a:off x="-8437680" y="37285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-8302680" y="366048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9" name=""/>
            <p:cNvSpPr/>
            <p:nvPr/>
          </p:nvSpPr>
          <p:spPr>
            <a:xfrm flipV="1">
              <a:off x="-8509680" y="386280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0" name=""/>
            <p:cNvGrpSpPr/>
            <p:nvPr/>
          </p:nvGrpSpPr>
          <p:grpSpPr>
            <a:xfrm>
              <a:off x="-4953600" y="5637240"/>
              <a:ext cx="479880" cy="480240"/>
              <a:chOff x="-4953600" y="5637240"/>
              <a:chExt cx="479880" cy="480240"/>
            </a:xfrm>
          </p:grpSpPr>
          <p:sp>
            <p:nvSpPr>
              <p:cNvPr id="4581" name=""/>
              <p:cNvSpPr/>
              <p:nvPr/>
            </p:nvSpPr>
            <p:spPr>
              <a:xfrm rot="2178000">
                <a:off x="-4884840" y="57052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-4749840" y="56372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3" name=""/>
            <p:cNvSpPr/>
            <p:nvPr/>
          </p:nvSpPr>
          <p:spPr>
            <a:xfrm flipV="1">
              <a:off x="-4956840" y="583416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4" name=""/>
            <p:cNvGrpSpPr/>
            <p:nvPr/>
          </p:nvGrpSpPr>
          <p:grpSpPr>
            <a:xfrm>
              <a:off x="-5615640" y="5814720"/>
              <a:ext cx="479880" cy="480240"/>
              <a:chOff x="-5615640" y="5814720"/>
              <a:chExt cx="479880" cy="480240"/>
            </a:xfrm>
          </p:grpSpPr>
          <p:sp>
            <p:nvSpPr>
              <p:cNvPr id="4585" name=""/>
              <p:cNvSpPr/>
              <p:nvPr/>
            </p:nvSpPr>
            <p:spPr>
              <a:xfrm rot="2178000">
                <a:off x="-5546880" y="58827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-5411880" y="58147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7" name=""/>
            <p:cNvSpPr/>
            <p:nvPr/>
          </p:nvSpPr>
          <p:spPr>
            <a:xfrm flipV="1">
              <a:off x="-5625360" y="601704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8" name=""/>
            <p:cNvGrpSpPr/>
            <p:nvPr/>
          </p:nvGrpSpPr>
          <p:grpSpPr>
            <a:xfrm>
              <a:off x="-6255360" y="5837040"/>
              <a:ext cx="479880" cy="480240"/>
              <a:chOff x="-6255360" y="5837040"/>
              <a:chExt cx="479880" cy="480240"/>
            </a:xfrm>
          </p:grpSpPr>
          <p:sp>
            <p:nvSpPr>
              <p:cNvPr id="4589" name=""/>
              <p:cNvSpPr/>
              <p:nvPr/>
            </p:nvSpPr>
            <p:spPr>
              <a:xfrm rot="2178000">
                <a:off x="-6186600" y="59050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-6051600" y="58370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1" name=""/>
            <p:cNvSpPr/>
            <p:nvPr/>
          </p:nvSpPr>
          <p:spPr>
            <a:xfrm flipV="1">
              <a:off x="-6258600" y="603900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2" name=""/>
            <p:cNvGrpSpPr/>
            <p:nvPr/>
          </p:nvGrpSpPr>
          <p:grpSpPr>
            <a:xfrm>
              <a:off x="-6917400" y="5662440"/>
              <a:ext cx="479880" cy="480240"/>
              <a:chOff x="-6917400" y="5662440"/>
              <a:chExt cx="479880" cy="480240"/>
            </a:xfrm>
          </p:grpSpPr>
          <p:sp>
            <p:nvSpPr>
              <p:cNvPr id="4593" name=""/>
              <p:cNvSpPr/>
              <p:nvPr/>
            </p:nvSpPr>
            <p:spPr>
              <a:xfrm rot="2178000">
                <a:off x="-6848640" y="57304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-6713640" y="56624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5" name=""/>
            <p:cNvSpPr/>
            <p:nvPr/>
          </p:nvSpPr>
          <p:spPr>
            <a:xfrm flipV="1">
              <a:off x="-6920640" y="586440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6" name=""/>
            <p:cNvGrpSpPr/>
            <p:nvPr/>
          </p:nvGrpSpPr>
          <p:grpSpPr>
            <a:xfrm>
              <a:off x="-7506360" y="5332320"/>
              <a:ext cx="479880" cy="480240"/>
              <a:chOff x="-7506360" y="5332320"/>
              <a:chExt cx="479880" cy="480240"/>
            </a:xfrm>
          </p:grpSpPr>
          <p:sp>
            <p:nvSpPr>
              <p:cNvPr id="4597" name=""/>
              <p:cNvSpPr/>
              <p:nvPr/>
            </p:nvSpPr>
            <p:spPr>
              <a:xfrm rot="2178000">
                <a:off x="-7437600" y="54003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-7302600" y="533232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9" name=""/>
            <p:cNvSpPr/>
            <p:nvPr/>
          </p:nvSpPr>
          <p:spPr>
            <a:xfrm flipV="1">
              <a:off x="-7509600" y="553428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0" name=""/>
            <p:cNvGrpSpPr/>
            <p:nvPr/>
          </p:nvGrpSpPr>
          <p:grpSpPr>
            <a:xfrm>
              <a:off x="-7995240" y="4870440"/>
              <a:ext cx="479880" cy="480240"/>
              <a:chOff x="-7995240" y="4870440"/>
              <a:chExt cx="479880" cy="480240"/>
            </a:xfrm>
          </p:grpSpPr>
          <p:sp>
            <p:nvSpPr>
              <p:cNvPr id="4601" name=""/>
              <p:cNvSpPr/>
              <p:nvPr/>
            </p:nvSpPr>
            <p:spPr>
              <a:xfrm rot="2178000">
                <a:off x="-7926480" y="49384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-7791480" y="487044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3" name=""/>
            <p:cNvSpPr/>
            <p:nvPr/>
          </p:nvSpPr>
          <p:spPr>
            <a:xfrm flipV="1">
              <a:off x="-7997040" y="507060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4" name=""/>
            <p:cNvGrpSpPr/>
            <p:nvPr/>
          </p:nvGrpSpPr>
          <p:grpSpPr>
            <a:xfrm>
              <a:off x="-8318880" y="4297680"/>
              <a:ext cx="479880" cy="480240"/>
              <a:chOff x="-8318880" y="4297680"/>
              <a:chExt cx="479880" cy="480240"/>
            </a:xfrm>
          </p:grpSpPr>
          <p:sp>
            <p:nvSpPr>
              <p:cNvPr id="4605" name=""/>
              <p:cNvSpPr/>
              <p:nvPr/>
            </p:nvSpPr>
            <p:spPr>
              <a:xfrm rot="2178000">
                <a:off x="-8250120" y="436572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-8115120" y="4297680"/>
                <a:ext cx="72720" cy="480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7" name=""/>
            <p:cNvSpPr/>
            <p:nvPr/>
          </p:nvSpPr>
          <p:spPr>
            <a:xfrm flipV="1">
              <a:off x="-8322480" y="4499280"/>
              <a:ext cx="488880" cy="7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8" name=""/>
            <p:cNvGrpSpPr/>
            <p:nvPr/>
          </p:nvGrpSpPr>
          <p:grpSpPr>
            <a:xfrm>
              <a:off x="-6160680" y="1790640"/>
              <a:ext cx="124200" cy="121320"/>
              <a:chOff x="-6160680" y="1790640"/>
              <a:chExt cx="124200" cy="121320"/>
            </a:xfrm>
          </p:grpSpPr>
          <p:sp>
            <p:nvSpPr>
              <p:cNvPr id="4609" name=""/>
              <p:cNvSpPr/>
              <p:nvPr/>
            </p:nvSpPr>
            <p:spPr>
              <a:xfrm flipH="1">
                <a:off x="-6147720" y="17996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H="1" flipV="1">
                <a:off x="-6160680" y="18162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H="1">
                <a:off x="-6138720" y="17906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H="1" flipV="1">
                <a:off x="-6151680" y="18068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3" name=""/>
            <p:cNvGrpSpPr/>
            <p:nvPr/>
          </p:nvGrpSpPr>
          <p:grpSpPr>
            <a:xfrm>
              <a:off x="-6617880" y="1933560"/>
              <a:ext cx="124200" cy="121320"/>
              <a:chOff x="-6617880" y="1933560"/>
              <a:chExt cx="124200" cy="121320"/>
            </a:xfrm>
          </p:grpSpPr>
          <p:sp>
            <p:nvSpPr>
              <p:cNvPr id="4614" name=""/>
              <p:cNvSpPr/>
              <p:nvPr/>
            </p:nvSpPr>
            <p:spPr>
              <a:xfrm flipH="1">
                <a:off x="-6604920" y="194256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H="1" flipV="1">
                <a:off x="-6617880" y="19591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>
                <a:off x="-6595920" y="193356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-6608880" y="19497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8" name=""/>
            <p:cNvGrpSpPr/>
            <p:nvPr/>
          </p:nvGrpSpPr>
          <p:grpSpPr>
            <a:xfrm>
              <a:off x="-6973200" y="2172960"/>
              <a:ext cx="123840" cy="121680"/>
              <a:chOff x="-6973200" y="2172960"/>
              <a:chExt cx="123840" cy="121680"/>
            </a:xfrm>
          </p:grpSpPr>
          <p:sp>
            <p:nvSpPr>
              <p:cNvPr id="4619" name=""/>
              <p:cNvSpPr/>
              <p:nvPr/>
            </p:nvSpPr>
            <p:spPr>
              <a:xfrm flipH="1">
                <a:off x="-6960600" y="218232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H="1" flipV="1">
                <a:off x="-6973200" y="21988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H="1">
                <a:off x="-6951600" y="217296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H="1" flipV="1">
                <a:off x="-6964560" y="21891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3" name=""/>
            <p:cNvGrpSpPr/>
            <p:nvPr/>
          </p:nvGrpSpPr>
          <p:grpSpPr>
            <a:xfrm>
              <a:off x="-7293960" y="2460240"/>
              <a:ext cx="123840" cy="121680"/>
              <a:chOff x="-7293960" y="2460240"/>
              <a:chExt cx="123840" cy="121680"/>
            </a:xfrm>
          </p:grpSpPr>
          <p:sp>
            <p:nvSpPr>
              <p:cNvPr id="4624" name=""/>
              <p:cNvSpPr/>
              <p:nvPr/>
            </p:nvSpPr>
            <p:spPr>
              <a:xfrm flipH="1">
                <a:off x="-7281360" y="246960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H="1" flipV="1">
                <a:off x="-7293960" y="24861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>
                <a:off x="-7272360" y="24602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-7285320" y="24764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8" name=""/>
            <p:cNvGrpSpPr/>
            <p:nvPr/>
          </p:nvGrpSpPr>
          <p:grpSpPr>
            <a:xfrm>
              <a:off x="-7479720" y="2863440"/>
              <a:ext cx="123840" cy="121680"/>
              <a:chOff x="-7479720" y="2863440"/>
              <a:chExt cx="123840" cy="121680"/>
            </a:xfrm>
          </p:grpSpPr>
          <p:sp>
            <p:nvSpPr>
              <p:cNvPr id="4629" name=""/>
              <p:cNvSpPr/>
              <p:nvPr/>
            </p:nvSpPr>
            <p:spPr>
              <a:xfrm flipH="1">
                <a:off x="-7467120" y="287280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 flipH="1" flipV="1">
                <a:off x="-7479720" y="28893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H="1">
                <a:off x="-7458120" y="28634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H="1" flipV="1">
                <a:off x="-7471080" y="28796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3" name=""/>
            <p:cNvGrpSpPr/>
            <p:nvPr/>
          </p:nvGrpSpPr>
          <p:grpSpPr>
            <a:xfrm>
              <a:off x="-7621200" y="3300480"/>
              <a:ext cx="124200" cy="121320"/>
              <a:chOff x="-7621200" y="3300480"/>
              <a:chExt cx="124200" cy="121320"/>
            </a:xfrm>
          </p:grpSpPr>
          <p:sp>
            <p:nvSpPr>
              <p:cNvPr id="4634" name=""/>
              <p:cNvSpPr/>
              <p:nvPr/>
            </p:nvSpPr>
            <p:spPr>
              <a:xfrm flipH="1">
                <a:off x="-7608240" y="33094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-7621200" y="33260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>
                <a:off x="-7599240" y="33004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-7612200" y="33166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8" name=""/>
            <p:cNvGrpSpPr/>
            <p:nvPr/>
          </p:nvGrpSpPr>
          <p:grpSpPr>
            <a:xfrm>
              <a:off x="-7624080" y="3750840"/>
              <a:ext cx="123840" cy="121680"/>
              <a:chOff x="-7624080" y="3750840"/>
              <a:chExt cx="123840" cy="121680"/>
            </a:xfrm>
          </p:grpSpPr>
          <p:sp>
            <p:nvSpPr>
              <p:cNvPr id="4639" name=""/>
              <p:cNvSpPr/>
              <p:nvPr/>
            </p:nvSpPr>
            <p:spPr>
              <a:xfrm flipH="1">
                <a:off x="-7611480" y="376020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H="1" flipV="1">
                <a:off x="-7624080" y="37767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H="1">
                <a:off x="-7602480" y="37508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H="1" flipV="1">
                <a:off x="-7615440" y="37670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-7511400" y="4208040"/>
              <a:ext cx="123840" cy="121680"/>
              <a:chOff x="-7511400" y="4208040"/>
              <a:chExt cx="123840" cy="121680"/>
            </a:xfrm>
          </p:grpSpPr>
          <p:sp>
            <p:nvSpPr>
              <p:cNvPr id="4644" name=""/>
              <p:cNvSpPr/>
              <p:nvPr/>
            </p:nvSpPr>
            <p:spPr>
              <a:xfrm flipH="1">
                <a:off x="-7498800" y="421740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-7511400" y="423396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>
                <a:off x="-7489800" y="42080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-7502760" y="42242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-7244640" y="4587480"/>
              <a:ext cx="123840" cy="121680"/>
              <a:chOff x="-7244640" y="4587480"/>
              <a:chExt cx="123840" cy="121680"/>
            </a:xfrm>
          </p:grpSpPr>
          <p:sp>
            <p:nvSpPr>
              <p:cNvPr id="4649" name=""/>
              <p:cNvSpPr/>
              <p:nvPr/>
            </p:nvSpPr>
            <p:spPr>
              <a:xfrm flipH="1">
                <a:off x="-7232040" y="45968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H="1" flipV="1">
                <a:off x="-7244640" y="46134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H="1">
                <a:off x="-7223040" y="45874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H="1" flipV="1">
                <a:off x="-7236000" y="46036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3" name=""/>
            <p:cNvGrpSpPr/>
            <p:nvPr/>
          </p:nvGrpSpPr>
          <p:grpSpPr>
            <a:xfrm>
              <a:off x="-6889320" y="4903560"/>
              <a:ext cx="124200" cy="122040"/>
              <a:chOff x="-6889320" y="4903560"/>
              <a:chExt cx="124200" cy="122040"/>
            </a:xfrm>
          </p:grpSpPr>
          <p:sp>
            <p:nvSpPr>
              <p:cNvPr id="4654" name=""/>
              <p:cNvSpPr/>
              <p:nvPr/>
            </p:nvSpPr>
            <p:spPr>
              <a:xfrm flipH="1">
                <a:off x="-6876720" y="4912920"/>
                <a:ext cx="82800" cy="112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-6889320" y="49294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>
                <a:off x="-6867360" y="4903560"/>
                <a:ext cx="82440" cy="112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-6880320" y="49201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8" name=""/>
            <p:cNvGrpSpPr/>
            <p:nvPr/>
          </p:nvGrpSpPr>
          <p:grpSpPr>
            <a:xfrm>
              <a:off x="-6003360" y="5260680"/>
              <a:ext cx="123840" cy="121680"/>
              <a:chOff x="-6003360" y="5260680"/>
              <a:chExt cx="123840" cy="121680"/>
            </a:xfrm>
          </p:grpSpPr>
          <p:sp>
            <p:nvSpPr>
              <p:cNvPr id="4659" name=""/>
              <p:cNvSpPr/>
              <p:nvPr/>
            </p:nvSpPr>
            <p:spPr>
              <a:xfrm flipH="1">
                <a:off x="-5990760" y="52700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H="1" flipV="1">
                <a:off x="-6003360" y="52866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H="1">
                <a:off x="-5981760" y="52606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H="1" flipV="1">
                <a:off x="-5994720" y="52768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3" name=""/>
            <p:cNvGrpSpPr/>
            <p:nvPr/>
          </p:nvGrpSpPr>
          <p:grpSpPr>
            <a:xfrm>
              <a:off x="-5562000" y="5236920"/>
              <a:ext cx="123840" cy="121680"/>
              <a:chOff x="-5562000" y="5236920"/>
              <a:chExt cx="123840" cy="121680"/>
            </a:xfrm>
          </p:grpSpPr>
          <p:sp>
            <p:nvSpPr>
              <p:cNvPr id="4664" name=""/>
              <p:cNvSpPr/>
              <p:nvPr/>
            </p:nvSpPr>
            <p:spPr>
              <a:xfrm flipH="1">
                <a:off x="-5549400" y="52462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-5562000" y="52628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>
                <a:off x="-5540400" y="5236920"/>
                <a:ext cx="8280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-5553360" y="52531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8" name=""/>
            <p:cNvGrpSpPr/>
            <p:nvPr/>
          </p:nvGrpSpPr>
          <p:grpSpPr>
            <a:xfrm>
              <a:off x="-5096880" y="5098680"/>
              <a:ext cx="123840" cy="121680"/>
              <a:chOff x="-5096880" y="5098680"/>
              <a:chExt cx="123840" cy="121680"/>
            </a:xfrm>
          </p:grpSpPr>
          <p:sp>
            <p:nvSpPr>
              <p:cNvPr id="4669" name=""/>
              <p:cNvSpPr/>
              <p:nvPr/>
            </p:nvSpPr>
            <p:spPr>
              <a:xfrm flipH="1">
                <a:off x="-5084280" y="51080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H="1" flipV="1">
                <a:off x="-5096880" y="51246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H="1">
                <a:off x="-5075280" y="50986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H="1" flipV="1">
                <a:off x="-5088240" y="51148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3" name=""/>
            <p:cNvGrpSpPr/>
            <p:nvPr/>
          </p:nvGrpSpPr>
          <p:grpSpPr>
            <a:xfrm>
              <a:off x="-4725360" y="4860720"/>
              <a:ext cx="123840" cy="121680"/>
              <a:chOff x="-4725360" y="4860720"/>
              <a:chExt cx="123840" cy="121680"/>
            </a:xfrm>
          </p:grpSpPr>
          <p:sp>
            <p:nvSpPr>
              <p:cNvPr id="4674" name=""/>
              <p:cNvSpPr/>
              <p:nvPr/>
            </p:nvSpPr>
            <p:spPr>
              <a:xfrm flipH="1">
                <a:off x="-4712760" y="487008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-4725360" y="488664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>
                <a:off x="-4703760" y="4860720"/>
                <a:ext cx="8280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-4716720" y="487692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8" name=""/>
            <p:cNvGrpSpPr/>
            <p:nvPr/>
          </p:nvGrpSpPr>
          <p:grpSpPr>
            <a:xfrm>
              <a:off x="-6484320" y="5140080"/>
              <a:ext cx="123840" cy="121680"/>
              <a:chOff x="-6484320" y="5140080"/>
              <a:chExt cx="123840" cy="121680"/>
            </a:xfrm>
          </p:grpSpPr>
          <p:sp>
            <p:nvSpPr>
              <p:cNvPr id="4679" name=""/>
              <p:cNvSpPr/>
              <p:nvPr/>
            </p:nvSpPr>
            <p:spPr>
              <a:xfrm flipH="1">
                <a:off x="-6471720" y="5149440"/>
                <a:ext cx="8244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H="1" flipV="1">
                <a:off x="-6484320" y="516600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H="1">
                <a:off x="-6462720" y="5140080"/>
                <a:ext cx="82800" cy="11232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H="1" flipV="1">
                <a:off x="-6475680" y="5156280"/>
                <a:ext cx="115200" cy="84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3" name=""/>
            <p:cNvSpPr/>
            <p:nvPr/>
          </p:nvSpPr>
          <p:spPr>
            <a:xfrm flipV="1">
              <a:off x="2800440" y="3545280"/>
              <a:ext cx="6138720" cy="25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 flipH="1">
              <a:off x="3705120" y="4390920"/>
              <a:ext cx="1292400" cy="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 flipV="1">
              <a:off x="4110120" y="3498840"/>
              <a:ext cx="1811160" cy="181440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632480" y="47181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556160" y="47880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>
              <a:off x="3799800" y="3323520"/>
              <a:ext cx="61956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9" name=""/>
            <p:cNvGrpSpPr/>
            <p:nvPr/>
          </p:nvGrpSpPr>
          <p:grpSpPr>
            <a:xfrm>
              <a:off x="3924360" y="2624040"/>
              <a:ext cx="142920" cy="139680"/>
              <a:chOff x="3924360" y="2624040"/>
              <a:chExt cx="142920" cy="139680"/>
            </a:xfrm>
          </p:grpSpPr>
          <p:sp>
            <p:nvSpPr>
              <p:cNvPr id="4690" name=""/>
              <p:cNvSpPr/>
              <p:nvPr/>
            </p:nvSpPr>
            <p:spPr>
              <a:xfrm>
                <a:off x="3992400" y="262404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3924360" y="269208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2" name=""/>
            <p:cNvSpPr/>
            <p:nvPr/>
          </p:nvSpPr>
          <p:spPr>
            <a:xfrm>
              <a:off x="3629160" y="348768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552840" y="3557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48080" y="43275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272120" y="439740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139160" y="333756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42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7" name=""/>
            <p:cNvGrpSpPr/>
            <p:nvPr/>
          </p:nvGrpSpPr>
          <p:grpSpPr>
            <a:xfrm>
              <a:off x="8353440" y="3374640"/>
              <a:ext cx="349200" cy="352440"/>
              <a:chOff x="8353440" y="3374640"/>
              <a:chExt cx="349200" cy="352440"/>
            </a:xfrm>
          </p:grpSpPr>
          <p:sp>
            <p:nvSpPr>
              <p:cNvPr id="4698" name=""/>
              <p:cNvSpPr/>
              <p:nvPr/>
            </p:nvSpPr>
            <p:spPr>
              <a:xfrm>
                <a:off x="8353440" y="33782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8353440" y="3378240"/>
                <a:ext cx="342720" cy="34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8354880" y="337464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"/>
            <p:cNvGrpSpPr/>
            <p:nvPr/>
          </p:nvGrpSpPr>
          <p:grpSpPr>
            <a:xfrm>
              <a:off x="6986160" y="3487680"/>
              <a:ext cx="142920" cy="139680"/>
              <a:chOff x="6986160" y="3487680"/>
              <a:chExt cx="142920" cy="139680"/>
            </a:xfrm>
          </p:grpSpPr>
          <p:sp>
            <p:nvSpPr>
              <p:cNvPr id="4702" name=""/>
              <p:cNvSpPr/>
              <p:nvPr/>
            </p:nvSpPr>
            <p:spPr>
              <a:xfrm>
                <a:off x="7053120" y="348768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H="1">
                <a:off x="6986160" y="355752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4" name=""/>
            <p:cNvSpPr/>
            <p:nvPr/>
          </p:nvSpPr>
          <p:spPr>
            <a:xfrm>
              <a:off x="6464160" y="337500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>
              <a:off x="5752080" y="350280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6" name=""/>
            <p:cNvGrpSpPr/>
            <p:nvPr/>
          </p:nvGrpSpPr>
          <p:grpSpPr>
            <a:xfrm>
              <a:off x="5888160" y="3733920"/>
              <a:ext cx="342720" cy="344520"/>
              <a:chOff x="5888160" y="3733920"/>
              <a:chExt cx="342720" cy="344520"/>
            </a:xfrm>
          </p:grpSpPr>
          <p:sp>
            <p:nvSpPr>
              <p:cNvPr id="4707" name=""/>
              <p:cNvSpPr/>
              <p:nvPr/>
            </p:nvSpPr>
            <p:spPr>
              <a:xfrm flipH="1">
                <a:off x="5888160" y="37339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>
                <a:off x="5888160" y="373392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9" name=""/>
            <p:cNvSpPr/>
            <p:nvPr/>
          </p:nvSpPr>
          <p:spPr>
            <a:xfrm flipH="1" flipV="1">
              <a:off x="5884920" y="373032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>
              <a:off x="4829760" y="42901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1" name=""/>
            <p:cNvGrpSpPr/>
            <p:nvPr/>
          </p:nvGrpSpPr>
          <p:grpSpPr>
            <a:xfrm>
              <a:off x="4965840" y="4521240"/>
              <a:ext cx="342720" cy="344520"/>
              <a:chOff x="4965840" y="4521240"/>
              <a:chExt cx="342720" cy="344520"/>
            </a:xfrm>
          </p:grpSpPr>
          <p:sp>
            <p:nvSpPr>
              <p:cNvPr id="4712" name=""/>
              <p:cNvSpPr/>
              <p:nvPr/>
            </p:nvSpPr>
            <p:spPr>
              <a:xfrm flipH="1">
                <a:off x="4965840" y="45212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H="1">
                <a:off x="4965840" y="452124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4" name=""/>
            <p:cNvSpPr/>
            <p:nvPr/>
          </p:nvSpPr>
          <p:spPr>
            <a:xfrm flipH="1" flipV="1">
              <a:off x="4962600" y="4517640"/>
              <a:ext cx="34776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335480" y="4842720"/>
              <a:ext cx="243000" cy="244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073400" y="421956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5307120" y="34830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5230800" y="35528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5462640" y="38815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5386320" y="39513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1" name=""/>
            <p:cNvGrpSpPr/>
            <p:nvPr/>
          </p:nvGrpSpPr>
          <p:grpSpPr>
            <a:xfrm>
              <a:off x="1031400" y="3481560"/>
              <a:ext cx="142920" cy="139680"/>
              <a:chOff x="1031400" y="3481560"/>
              <a:chExt cx="142920" cy="139680"/>
            </a:xfrm>
          </p:grpSpPr>
          <p:sp>
            <p:nvSpPr>
              <p:cNvPr id="4722" name=""/>
              <p:cNvSpPr/>
              <p:nvPr/>
            </p:nvSpPr>
            <p:spPr>
              <a:xfrm>
                <a:off x="1098360" y="34815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H="1">
                <a:off x="1031400" y="355140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4" name=""/>
            <p:cNvSpPr/>
            <p:nvPr/>
          </p:nvSpPr>
          <p:spPr>
            <a:xfrm>
              <a:off x="1239120" y="3353400"/>
              <a:ext cx="170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3 Sü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63640" y="33782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-2486880" y="3344040"/>
              <a:ext cx="18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3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7" name=""/>
            <p:cNvGrpSpPr/>
            <p:nvPr/>
          </p:nvGrpSpPr>
          <p:grpSpPr>
            <a:xfrm>
              <a:off x="-569880" y="3369960"/>
              <a:ext cx="347760" cy="352440"/>
              <a:chOff x="-569880" y="3369960"/>
              <a:chExt cx="347760" cy="352440"/>
            </a:xfrm>
          </p:grpSpPr>
          <p:grpSp>
            <p:nvGrpSpPr>
              <p:cNvPr id="4728" name=""/>
              <p:cNvGrpSpPr/>
              <p:nvPr/>
            </p:nvGrpSpPr>
            <p:grpSpPr>
              <a:xfrm>
                <a:off x="-569880" y="3376440"/>
                <a:ext cx="342720" cy="344160"/>
                <a:chOff x="-569880" y="3376440"/>
                <a:chExt cx="342720" cy="344160"/>
              </a:xfrm>
            </p:grpSpPr>
            <p:sp>
              <p:nvSpPr>
                <p:cNvPr id="4729" name=""/>
                <p:cNvSpPr/>
                <p:nvPr/>
              </p:nvSpPr>
              <p:spPr>
                <a:xfrm>
                  <a:off x="-569880" y="337644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-569880" y="337644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1" name=""/>
              <p:cNvSpPr/>
              <p:nvPr/>
            </p:nvSpPr>
            <p:spPr>
              <a:xfrm flipV="1">
                <a:off x="-569880" y="33699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H="1" flipV="1">
              <a:off x="-2815200" y="4389840"/>
              <a:ext cx="6519600" cy="72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3" name=""/>
            <p:cNvGrpSpPr/>
            <p:nvPr/>
          </p:nvGrpSpPr>
          <p:grpSpPr>
            <a:xfrm>
              <a:off x="-2036880" y="1806120"/>
              <a:ext cx="349200" cy="352440"/>
              <a:chOff x="-2036880" y="1806120"/>
              <a:chExt cx="349200" cy="352440"/>
            </a:xfrm>
          </p:grpSpPr>
          <p:sp>
            <p:nvSpPr>
              <p:cNvPr id="4734" name=""/>
              <p:cNvSpPr/>
              <p:nvPr/>
            </p:nvSpPr>
            <p:spPr>
              <a:xfrm>
                <a:off x="-2036880" y="180936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-2036880" y="1809360"/>
                <a:ext cx="342720" cy="34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flipV="1">
                <a:off x="-2035440" y="180612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7" name=""/>
            <p:cNvGrpSpPr/>
            <p:nvPr/>
          </p:nvGrpSpPr>
          <p:grpSpPr>
            <a:xfrm>
              <a:off x="-365040" y="1098720"/>
              <a:ext cx="142920" cy="139680"/>
              <a:chOff x="-365040" y="1098720"/>
              <a:chExt cx="142920" cy="139680"/>
            </a:xfrm>
          </p:grpSpPr>
          <p:sp>
            <p:nvSpPr>
              <p:cNvPr id="4738" name=""/>
              <p:cNvSpPr/>
              <p:nvPr/>
            </p:nvSpPr>
            <p:spPr>
              <a:xfrm>
                <a:off x="-291960" y="10987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-365040" y="11685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0" name=""/>
            <p:cNvGrpSpPr/>
            <p:nvPr/>
          </p:nvGrpSpPr>
          <p:grpSpPr>
            <a:xfrm>
              <a:off x="-695160" y="1546200"/>
              <a:ext cx="142560" cy="139680"/>
              <a:chOff x="-695160" y="1546200"/>
              <a:chExt cx="142560" cy="139680"/>
            </a:xfrm>
          </p:grpSpPr>
          <p:sp>
            <p:nvSpPr>
              <p:cNvPr id="4741" name=""/>
              <p:cNvSpPr/>
              <p:nvPr/>
            </p:nvSpPr>
            <p:spPr>
              <a:xfrm>
                <a:off x="-622080" y="154620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-695160" y="1616040"/>
                <a:ext cx="14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3" name=""/>
            <p:cNvGrpSpPr/>
            <p:nvPr/>
          </p:nvGrpSpPr>
          <p:grpSpPr>
            <a:xfrm>
              <a:off x="468360" y="1177920"/>
              <a:ext cx="142920" cy="139680"/>
              <a:chOff x="468360" y="1177920"/>
              <a:chExt cx="142920" cy="139680"/>
            </a:xfrm>
          </p:grpSpPr>
          <p:sp>
            <p:nvSpPr>
              <p:cNvPr id="4744" name=""/>
              <p:cNvSpPr/>
              <p:nvPr/>
            </p:nvSpPr>
            <p:spPr>
              <a:xfrm>
                <a:off x="541440" y="1177920"/>
                <a:ext cx="0" cy="139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68360" y="1247760"/>
                <a:ext cx="142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6" name=""/>
            <p:cNvSpPr/>
            <p:nvPr/>
          </p:nvSpPr>
          <p:spPr>
            <a:xfrm>
              <a:off x="3349800" y="2124000"/>
              <a:ext cx="1440" cy="1171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335400" y="3309840"/>
              <a:ext cx="822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8" name=""/>
            <p:cNvGrpSpPr/>
            <p:nvPr/>
          </p:nvGrpSpPr>
          <p:grpSpPr>
            <a:xfrm>
              <a:off x="1033200" y="4319640"/>
              <a:ext cx="142920" cy="139680"/>
              <a:chOff x="1033200" y="4319640"/>
              <a:chExt cx="142920" cy="139680"/>
            </a:xfrm>
          </p:grpSpPr>
          <p:sp>
            <p:nvSpPr>
              <p:cNvPr id="4749" name=""/>
              <p:cNvSpPr/>
              <p:nvPr/>
            </p:nvSpPr>
            <p:spPr>
              <a:xfrm>
                <a:off x="1100160" y="43196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H="1">
                <a:off x="1033200" y="43894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1" name=""/>
            <p:cNvSpPr/>
            <p:nvPr/>
          </p:nvSpPr>
          <p:spPr>
            <a:xfrm>
              <a:off x="1240920" y="4191840"/>
              <a:ext cx="170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4 Sü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865080" y="42163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-2491560" y="4182120"/>
              <a:ext cx="18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4 Nord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4" name=""/>
            <p:cNvGrpSpPr/>
            <p:nvPr/>
          </p:nvGrpSpPr>
          <p:grpSpPr>
            <a:xfrm>
              <a:off x="-568440" y="4214880"/>
              <a:ext cx="342720" cy="344160"/>
              <a:chOff x="-568440" y="4214880"/>
              <a:chExt cx="342720" cy="344160"/>
            </a:xfrm>
          </p:grpSpPr>
          <p:sp>
            <p:nvSpPr>
              <p:cNvPr id="4755" name=""/>
              <p:cNvSpPr/>
              <p:nvPr/>
            </p:nvSpPr>
            <p:spPr>
              <a:xfrm>
                <a:off x="-568440" y="42148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-568440" y="4214880"/>
                <a:ext cx="342720" cy="344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7" name=""/>
            <p:cNvSpPr/>
            <p:nvPr/>
          </p:nvSpPr>
          <p:spPr>
            <a:xfrm flipV="1">
              <a:off x="-568440" y="4208040"/>
              <a:ext cx="34776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8" name=""/>
            <p:cNvGrpSpPr/>
            <p:nvPr/>
          </p:nvGrpSpPr>
          <p:grpSpPr>
            <a:xfrm>
              <a:off x="2895480" y="3369960"/>
              <a:ext cx="347760" cy="352440"/>
              <a:chOff x="2895480" y="3369960"/>
              <a:chExt cx="347760" cy="352440"/>
            </a:xfrm>
          </p:grpSpPr>
          <p:grpSp>
            <p:nvGrpSpPr>
              <p:cNvPr id="4759" name=""/>
              <p:cNvGrpSpPr/>
              <p:nvPr/>
            </p:nvGrpSpPr>
            <p:grpSpPr>
              <a:xfrm>
                <a:off x="2895480" y="3376440"/>
                <a:ext cx="342720" cy="344160"/>
                <a:chOff x="2895480" y="3376440"/>
                <a:chExt cx="342720" cy="344160"/>
              </a:xfrm>
            </p:grpSpPr>
            <p:sp>
              <p:nvSpPr>
                <p:cNvPr id="4760" name=""/>
                <p:cNvSpPr/>
                <p:nvPr/>
              </p:nvSpPr>
              <p:spPr>
                <a:xfrm>
                  <a:off x="2895480" y="337644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2895480" y="337644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2" name=""/>
              <p:cNvSpPr/>
              <p:nvPr/>
            </p:nvSpPr>
            <p:spPr>
              <a:xfrm flipV="1">
                <a:off x="2895480" y="336996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3" name=""/>
            <p:cNvGrpSpPr/>
            <p:nvPr/>
          </p:nvGrpSpPr>
          <p:grpSpPr>
            <a:xfrm>
              <a:off x="2898720" y="4208040"/>
              <a:ext cx="347760" cy="352440"/>
              <a:chOff x="2898720" y="4208040"/>
              <a:chExt cx="347760" cy="352440"/>
            </a:xfrm>
          </p:grpSpPr>
          <p:grpSp>
            <p:nvGrpSpPr>
              <p:cNvPr id="4764" name=""/>
              <p:cNvGrpSpPr/>
              <p:nvPr/>
            </p:nvGrpSpPr>
            <p:grpSpPr>
              <a:xfrm>
                <a:off x="2898720" y="4214520"/>
                <a:ext cx="342720" cy="344160"/>
                <a:chOff x="2898720" y="4214520"/>
                <a:chExt cx="342720" cy="344160"/>
              </a:xfrm>
            </p:grpSpPr>
            <p:sp>
              <p:nvSpPr>
                <p:cNvPr id="4765" name=""/>
                <p:cNvSpPr/>
                <p:nvPr/>
              </p:nvSpPr>
              <p:spPr>
                <a:xfrm>
                  <a:off x="2898720" y="421452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>
                  <a:off x="2898720" y="421452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7" name=""/>
              <p:cNvSpPr/>
              <p:nvPr/>
            </p:nvSpPr>
            <p:spPr>
              <a:xfrm flipV="1">
                <a:off x="2898720" y="420804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8" name=""/>
            <p:cNvGrpSpPr/>
            <p:nvPr/>
          </p:nvGrpSpPr>
          <p:grpSpPr>
            <a:xfrm>
              <a:off x="-2769120" y="3490920"/>
              <a:ext cx="142920" cy="139680"/>
              <a:chOff x="-2769120" y="3490920"/>
              <a:chExt cx="142920" cy="139680"/>
            </a:xfrm>
          </p:grpSpPr>
          <p:sp>
            <p:nvSpPr>
              <p:cNvPr id="4769" name=""/>
              <p:cNvSpPr/>
              <p:nvPr/>
            </p:nvSpPr>
            <p:spPr>
              <a:xfrm>
                <a:off x="-2702160" y="34909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H="1">
                <a:off x="-2769120" y="356076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1" name=""/>
            <p:cNvGrpSpPr/>
            <p:nvPr/>
          </p:nvGrpSpPr>
          <p:grpSpPr>
            <a:xfrm>
              <a:off x="-2769120" y="4319640"/>
              <a:ext cx="142920" cy="139680"/>
              <a:chOff x="-2769120" y="4319640"/>
              <a:chExt cx="142920" cy="139680"/>
            </a:xfrm>
          </p:grpSpPr>
          <p:sp>
            <p:nvSpPr>
              <p:cNvPr id="4772" name=""/>
              <p:cNvSpPr/>
              <p:nvPr/>
            </p:nvSpPr>
            <p:spPr>
              <a:xfrm>
                <a:off x="-2702160" y="43196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H="1">
                <a:off x="-2769120" y="43894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4" name=""/>
            <p:cNvSpPr/>
            <p:nvPr/>
          </p:nvSpPr>
          <p:spPr>
            <a:xfrm flipH="1">
              <a:off x="282240" y="5261040"/>
              <a:ext cx="3949560" cy="3240"/>
            </a:xfrm>
            <a:prstGeom prst="line">
              <a:avLst/>
            </a:prstGeom>
            <a:ln w="343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5" name=""/>
            <p:cNvGrpSpPr/>
            <p:nvPr/>
          </p:nvGrpSpPr>
          <p:grpSpPr>
            <a:xfrm>
              <a:off x="2892600" y="5084280"/>
              <a:ext cx="347400" cy="352440"/>
              <a:chOff x="2892600" y="5084280"/>
              <a:chExt cx="347400" cy="352440"/>
            </a:xfrm>
          </p:grpSpPr>
          <p:grpSp>
            <p:nvGrpSpPr>
              <p:cNvPr id="4776" name=""/>
              <p:cNvGrpSpPr/>
              <p:nvPr/>
            </p:nvGrpSpPr>
            <p:grpSpPr>
              <a:xfrm>
                <a:off x="2895480" y="5087880"/>
                <a:ext cx="342720" cy="344160"/>
                <a:chOff x="2895480" y="5087880"/>
                <a:chExt cx="342720" cy="344160"/>
              </a:xfrm>
            </p:grpSpPr>
            <p:sp>
              <p:nvSpPr>
                <p:cNvPr id="4777" name=""/>
                <p:cNvSpPr/>
                <p:nvPr/>
              </p:nvSpPr>
              <p:spPr>
                <a:xfrm>
                  <a:off x="2895480" y="508788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>
                  <a:off x="2895480" y="508788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9" name=""/>
              <p:cNvSpPr/>
              <p:nvPr/>
            </p:nvSpPr>
            <p:spPr>
              <a:xfrm flipV="1">
                <a:off x="2892600" y="5084280"/>
                <a:ext cx="34740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0" name=""/>
            <p:cNvSpPr/>
            <p:nvPr/>
          </p:nvSpPr>
          <p:spPr>
            <a:xfrm>
              <a:off x="1464120" y="50616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Times New Roman"/>
                </a:rPr>
                <a:t>Gleis 135</a:t>
              </a: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1" name=""/>
            <p:cNvGrpSpPr/>
            <p:nvPr/>
          </p:nvGrpSpPr>
          <p:grpSpPr>
            <a:xfrm>
              <a:off x="1190160" y="5202360"/>
              <a:ext cx="142920" cy="139680"/>
              <a:chOff x="1190160" y="5202360"/>
              <a:chExt cx="142920" cy="139680"/>
            </a:xfrm>
          </p:grpSpPr>
          <p:sp>
            <p:nvSpPr>
              <p:cNvPr id="4782" name=""/>
              <p:cNvSpPr/>
              <p:nvPr/>
            </p:nvSpPr>
            <p:spPr>
              <a:xfrm>
                <a:off x="1257120" y="52023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H="1">
                <a:off x="1190160" y="527220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4" name=""/>
            <p:cNvGrpSpPr/>
            <p:nvPr/>
          </p:nvGrpSpPr>
          <p:grpSpPr>
            <a:xfrm>
              <a:off x="-2666880" y="2707920"/>
              <a:ext cx="349200" cy="352440"/>
              <a:chOff x="-2666880" y="2707920"/>
              <a:chExt cx="349200" cy="352440"/>
            </a:xfrm>
          </p:grpSpPr>
          <p:sp>
            <p:nvSpPr>
              <p:cNvPr id="4785" name=""/>
              <p:cNvSpPr/>
              <p:nvPr/>
            </p:nvSpPr>
            <p:spPr>
              <a:xfrm>
                <a:off x="-2666880" y="271116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-2666880" y="2711160"/>
                <a:ext cx="342720" cy="344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V="1">
                <a:off x="-2665440" y="2707920"/>
                <a:ext cx="34776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8" name=""/>
            <p:cNvGrpSpPr/>
            <p:nvPr/>
          </p:nvGrpSpPr>
          <p:grpSpPr>
            <a:xfrm>
              <a:off x="-2981160" y="992160"/>
              <a:ext cx="142560" cy="139680"/>
              <a:chOff x="-2981160" y="992160"/>
              <a:chExt cx="142560" cy="139680"/>
            </a:xfrm>
          </p:grpSpPr>
          <p:sp>
            <p:nvSpPr>
              <p:cNvPr id="4789" name=""/>
              <p:cNvSpPr/>
              <p:nvPr/>
            </p:nvSpPr>
            <p:spPr>
              <a:xfrm>
                <a:off x="-2914200" y="99216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H="1">
                <a:off x="-2981160" y="1062000"/>
                <a:ext cx="142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-152280" y="1379520"/>
            <a:ext cx="9567720" cy="6143400"/>
            <a:chOff x="-152280" y="1379520"/>
            <a:chExt cx="9567720" cy="6143400"/>
          </a:xfrm>
        </p:grpSpPr>
        <p:grpSp>
          <p:nvGrpSpPr>
            <p:cNvPr id="512" name=""/>
            <p:cNvGrpSpPr/>
            <p:nvPr/>
          </p:nvGrpSpPr>
          <p:grpSpPr>
            <a:xfrm>
              <a:off x="936720" y="5078160"/>
              <a:ext cx="1415880" cy="352440"/>
              <a:chOff x="936720" y="5078160"/>
              <a:chExt cx="1415880" cy="352440"/>
            </a:xfrm>
          </p:grpSpPr>
          <p:sp>
            <p:nvSpPr>
              <p:cNvPr id="513" name=""/>
              <p:cNvSpPr/>
              <p:nvPr/>
            </p:nvSpPr>
            <p:spPr>
              <a:xfrm>
                <a:off x="936720" y="50817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36720" y="5081760"/>
                <a:ext cx="342720" cy="3441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938160" y="507816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1324080" y="5091120"/>
                <a:ext cx="1028520" cy="338400"/>
                <a:chOff x="1324080" y="5091120"/>
                <a:chExt cx="1028520" cy="338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2085840" y="5091120"/>
                  <a:ext cx="266760" cy="2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098800" y="5105520"/>
                  <a:ext cx="241200" cy="230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14360" y="5092920"/>
                  <a:ext cx="0" cy="253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1330200" y="5222880"/>
                  <a:ext cx="7444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324080" y="5143680"/>
                  <a:ext cx="0" cy="156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600920" y="51832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Hs 1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565280" y="52833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1498320" y="535320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5" name=""/>
            <p:cNvGrpSpPr/>
            <p:nvPr/>
          </p:nvGrpSpPr>
          <p:grpSpPr>
            <a:xfrm>
              <a:off x="2489040" y="5056200"/>
              <a:ext cx="1839960" cy="488880"/>
              <a:chOff x="2489040" y="5056200"/>
              <a:chExt cx="1839960" cy="488880"/>
            </a:xfrm>
          </p:grpSpPr>
          <p:sp>
            <p:nvSpPr>
              <p:cNvPr id="526" name=""/>
              <p:cNvSpPr/>
              <p:nvPr/>
            </p:nvSpPr>
            <p:spPr>
              <a:xfrm>
                <a:off x="2874600" y="5056200"/>
                <a:ext cx="0" cy="165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489040" y="5078160"/>
                <a:ext cx="1839960" cy="466920"/>
                <a:chOff x="2489040" y="5078160"/>
                <a:chExt cx="1839960" cy="466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873160" y="5129280"/>
                  <a:ext cx="1438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91120" y="5114880"/>
                  <a:ext cx="107640" cy="290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57640" y="5381640"/>
                  <a:ext cx="171360" cy="1634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551040" y="5140440"/>
                  <a:ext cx="473400" cy="1094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35760" y="5089680"/>
                  <a:ext cx="27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Times New Roman"/>
                    </a:rPr>
                    <a:t>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2489040" y="5081760"/>
                  <a:ext cx="342720" cy="344160"/>
                  <a:chOff x="2489040" y="5081760"/>
                  <a:chExt cx="342720" cy="344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2489040" y="508176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489040" y="508176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 flipV="1">
                  <a:off x="2490840" y="507816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144960" y="52689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3077640" y="5338800"/>
                  <a:ext cx="14292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-133200" y="6563160"/>
              <a:ext cx="6157800" cy="216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2074680" y="1499760"/>
              <a:ext cx="5848200" cy="585468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-152280" y="3231360"/>
              <a:ext cx="4003560" cy="3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0" y="1550880"/>
              <a:ext cx="219384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-128520" y="2396880"/>
              <a:ext cx="3173400" cy="36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-84240" y="5732640"/>
              <a:ext cx="9499680" cy="14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-143280" y="4062240"/>
              <a:ext cx="482436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-114480" y="4894200"/>
              <a:ext cx="7533000" cy="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97040" y="13795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2680" y="22154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954600" y="2800080"/>
              <a:ext cx="347400" cy="352440"/>
              <a:chOff x="3954600" y="2800080"/>
              <a:chExt cx="347400" cy="352440"/>
            </a:xfrm>
          </p:grpSpPr>
          <p:sp>
            <p:nvSpPr>
              <p:cNvPr id="550" name=""/>
              <p:cNvSpPr/>
              <p:nvPr/>
            </p:nvSpPr>
            <p:spPr>
              <a:xfrm>
                <a:off x="3956040" y="280368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56040" y="280368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954600" y="280008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flipH="1" flipV="1">
              <a:off x="5904000" y="6513120"/>
              <a:ext cx="1009440" cy="1009800"/>
            </a:xfrm>
            <a:prstGeom prst="line">
              <a:avLst/>
            </a:prstGeom>
            <a:ln w="343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147840" y="1991880"/>
              <a:ext cx="347400" cy="352440"/>
              <a:chOff x="3147840" y="1991880"/>
              <a:chExt cx="347400" cy="352440"/>
            </a:xfrm>
          </p:grpSpPr>
          <p:sp>
            <p:nvSpPr>
              <p:cNvPr id="555" name=""/>
              <p:cNvSpPr/>
              <p:nvPr/>
            </p:nvSpPr>
            <p:spPr>
              <a:xfrm>
                <a:off x="3149280" y="199548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49280" y="199548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3147840" y="199188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3529080" y="30344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41440" y="1679400"/>
              <a:ext cx="0" cy="14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274480" y="174960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22273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9240" y="2325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222640" y="239544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35240" y="3160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068280" y="323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38320" y="30607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84760" y="3607920"/>
              <a:ext cx="347760" cy="352440"/>
              <a:chOff x="4784760" y="3607920"/>
              <a:chExt cx="347760" cy="352440"/>
            </a:xfrm>
          </p:grpSpPr>
          <p:sp>
            <p:nvSpPr>
              <p:cNvPr id="568" name=""/>
              <p:cNvSpPr/>
              <p:nvPr/>
            </p:nvSpPr>
            <p:spPr>
              <a:xfrm>
                <a:off x="4786560" y="361152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86560" y="361152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784760" y="360792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4361040" y="3869640"/>
              <a:ext cx="4122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4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7295760" y="4842000"/>
              <a:ext cx="942840" cy="9396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67280" y="5737320"/>
              <a:ext cx="814680" cy="3380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13360" y="4898880"/>
              <a:ext cx="814320" cy="33840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600" y="4560840"/>
              <a:ext cx="814320" cy="3380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357800" y="4382640"/>
              <a:ext cx="347400" cy="354240"/>
              <a:chOff x="4357800" y="4382640"/>
              <a:chExt cx="347400" cy="354240"/>
            </a:xfrm>
          </p:grpSpPr>
          <p:sp>
            <p:nvSpPr>
              <p:cNvPr id="577" name=""/>
              <p:cNvSpPr/>
              <p:nvPr/>
            </p:nvSpPr>
            <p:spPr>
              <a:xfrm>
                <a:off x="4359240" y="439236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59240" y="439092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357800" y="438264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53200" y="5138280"/>
              <a:ext cx="349200" cy="352440"/>
              <a:chOff x="6253200" y="5138280"/>
              <a:chExt cx="349200" cy="352440"/>
            </a:xfrm>
          </p:grpSpPr>
          <p:sp>
            <p:nvSpPr>
              <p:cNvPr id="581" name=""/>
              <p:cNvSpPr/>
              <p:nvPr/>
            </p:nvSpPr>
            <p:spPr>
              <a:xfrm>
                <a:off x="6253200" y="51418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253200" y="5141880"/>
                <a:ext cx="34308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6255000" y="513828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645880" y="5511240"/>
              <a:ext cx="63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53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71440" y="4901400"/>
              <a:ext cx="72792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DKW 54 a/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16000" y="4669560"/>
              <a:ext cx="7218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DKW 54 c/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08800" y="5679360"/>
              <a:ext cx="64260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EKW 53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6927840" y="5312880"/>
              <a:ext cx="349200" cy="352440"/>
              <a:chOff x="6927840" y="5312880"/>
              <a:chExt cx="349200" cy="352440"/>
            </a:xfrm>
          </p:grpSpPr>
          <p:sp>
            <p:nvSpPr>
              <p:cNvPr id="589" name=""/>
              <p:cNvSpPr/>
              <p:nvPr/>
            </p:nvSpPr>
            <p:spPr>
              <a:xfrm>
                <a:off x="6927840" y="531648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27840" y="531648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6929280" y="53128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7284240" y="5398200"/>
              <a:ext cx="85248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1" lang="de-DE" sz="800" spc="-1" strike="noStrike">
                  <a:solidFill>
                    <a:srgbClr val="ffffff"/>
                  </a:solidFill>
                  <a:latin typeface="Times New Roman"/>
                </a:rPr>
                <a:t>W 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18320" y="50846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551360" y="51544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10040" y="3983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943080" y="40528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13280" y="48229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946680" y="489276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97600" y="4827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830640" y="48974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15080" y="51786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748480" y="524844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75280" y="568152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008320" y="57513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42360" y="56484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475040" y="57182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42240" y="62960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875640" y="636588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36880" y="389088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38320" y="472284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03200" y="421956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927000" y="4250880"/>
              <a:ext cx="1839960" cy="467280"/>
              <a:chOff x="927000" y="4250880"/>
              <a:chExt cx="1839960" cy="467280"/>
            </a:xfrm>
          </p:grpSpPr>
          <p:sp>
            <p:nvSpPr>
              <p:cNvPr id="613" name=""/>
              <p:cNvSpPr/>
              <p:nvPr/>
            </p:nvSpPr>
            <p:spPr>
              <a:xfrm>
                <a:off x="1311120" y="4302000"/>
                <a:ext cx="1438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29080" y="4287960"/>
                <a:ext cx="10764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95600" y="4554360"/>
                <a:ext cx="171360" cy="163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989000" y="431316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69760" y="4262400"/>
                <a:ext cx="27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27000" y="425448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27000" y="4254480"/>
                <a:ext cx="34308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928800" y="4250880"/>
                <a:ext cx="34740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82920" y="444168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515600" y="451152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933480" y="3381480"/>
              <a:ext cx="1839960" cy="498240"/>
              <a:chOff x="933480" y="3381480"/>
              <a:chExt cx="1839960" cy="49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1317960" y="3463920"/>
                <a:ext cx="143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635560" y="3449520"/>
                <a:ext cx="108000" cy="290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02080" y="3716280"/>
                <a:ext cx="171360" cy="163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995840" y="3475080"/>
                <a:ext cx="473040" cy="10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19400" y="3381480"/>
                <a:ext cx="0" cy="16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80200" y="34243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33480" y="3416400"/>
                <a:ext cx="34308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33480" y="3416400"/>
                <a:ext cx="343080" cy="34452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935280" y="3412800"/>
                <a:ext cx="347760" cy="35244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589400" y="3603600"/>
                <a:ext cx="0" cy="13968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522080" y="3673440"/>
                <a:ext cx="142920" cy="0"/>
              </a:xfrm>
              <a:prstGeom prst="line">
                <a:avLst/>
              </a:prstGeom>
              <a:ln w="1260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-663480" y="137520"/>
            <a:ext cx="9113400" cy="7160040"/>
            <a:chOff x="-663480" y="137520"/>
            <a:chExt cx="9113400" cy="7160040"/>
          </a:xfrm>
        </p:grpSpPr>
        <p:sp>
          <p:nvSpPr>
            <p:cNvPr id="636" name=""/>
            <p:cNvSpPr/>
            <p:nvPr/>
          </p:nvSpPr>
          <p:spPr>
            <a:xfrm flipV="1">
              <a:off x="-663480" y="5731200"/>
              <a:ext cx="2544840" cy="72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762200" y="5683320"/>
              <a:ext cx="1614240" cy="1614240"/>
            </a:xfrm>
            <a:prstGeom prst="line">
              <a:avLst/>
            </a:prstGeom>
            <a:ln w="34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8280" y="5560920"/>
              <a:ext cx="0" cy="344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011240" y="5559480"/>
              <a:ext cx="349200" cy="347760"/>
              <a:chOff x="1011240" y="5559480"/>
              <a:chExt cx="349200" cy="34776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1012680" y="5562720"/>
                <a:ext cx="343080" cy="344520"/>
                <a:chOff x="1012680" y="5562720"/>
                <a:chExt cx="343080" cy="344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012680" y="55627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012680" y="55627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 flipV="1">
                <a:off x="1011240" y="5559480"/>
                <a:ext cx="349200" cy="34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H="1">
              <a:off x="2050920" y="5972040"/>
              <a:ext cx="247680" cy="244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4440" y="559584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181 No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36960" y="635040"/>
              <a:ext cx="3597480" cy="1415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6960" y="2098800"/>
              <a:ext cx="3597480" cy="14158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36960" y="3564000"/>
              <a:ext cx="3597480" cy="1415880"/>
            </a:xfrm>
            <a:prstGeom prst="rect">
              <a:avLst/>
            </a:prstGeom>
            <a:solidFill>
              <a:srgbClr val="4d4d4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89080" y="635040"/>
              <a:ext cx="3597120" cy="1415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89080" y="2098800"/>
              <a:ext cx="3597120" cy="14158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89080" y="3562200"/>
              <a:ext cx="3597120" cy="141624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72160" y="180648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Ostseite West-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73600" y="3267000"/>
              <a:ext cx="134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Ostseite Ost-W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72520" y="4726080"/>
              <a:ext cx="121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Ostseite Bw 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70680" y="326556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estseite Nord-Sü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70680" y="180648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estseite Süd-N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59480" y="4729320"/>
              <a:ext cx="108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Westseite Gb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4360" y="137520"/>
              <a:ext cx="24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Reglerauswah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51240" y="5029200"/>
              <a:ext cx="1434960" cy="81288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35520" y="5029200"/>
              <a:ext cx="1434960" cy="812880"/>
            </a:xfrm>
            <a:prstGeom prst="rect">
              <a:avLst/>
            </a:prstGeom>
            <a:solidFill>
              <a:srgbClr val="4d4d4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36480" y="557928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Times New Roman"/>
                </a:rPr>
                <a:t>Hilfsreg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01800" y="55825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Hilfsreg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89320" y="52498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89320" y="5249880"/>
              <a:ext cx="343080" cy="3445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191120" y="5246280"/>
              <a:ext cx="347400" cy="3524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87880" y="524196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87880" y="5241960"/>
              <a:ext cx="343080" cy="34452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089680" y="5238360"/>
              <a:ext cx="347400" cy="3524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64760" y="5189400"/>
              <a:ext cx="1402200" cy="360360"/>
              <a:chOff x="464760" y="5189400"/>
              <a:chExt cx="1402200" cy="360360"/>
            </a:xfrm>
          </p:grpSpPr>
          <p:sp>
            <p:nvSpPr>
              <p:cNvPr id="670" name=""/>
              <p:cNvSpPr/>
              <p:nvPr/>
            </p:nvSpPr>
            <p:spPr>
              <a:xfrm rot="10800000">
                <a:off x="464760" y="5271480"/>
                <a:ext cx="266760" cy="2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0800000">
                <a:off x="477720" y="5282640"/>
                <a:ext cx="241200" cy="230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03360" y="5273280"/>
                <a:ext cx="0" cy="253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41240" y="5397480"/>
                <a:ext cx="744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1493640" y="5317560"/>
                <a:ext cx="0" cy="157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68880" y="51894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ff"/>
                    </a:solidFill>
                    <a:latin typeface="Times New Roman"/>
                  </a:rPr>
                  <a:t>Hs 18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1518120" y="5197320"/>
                <a:ext cx="348840" cy="352440"/>
                <a:chOff x="1518120" y="5197320"/>
                <a:chExt cx="348840" cy="35244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524240" y="5202000"/>
                  <a:ext cx="342720" cy="344160"/>
                  <a:chOff x="1524240" y="5202000"/>
                  <a:chExt cx="342720" cy="3441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10800000">
                    <a:off x="1524240" y="5202000"/>
                    <a:ext cx="342720" cy="34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 flipV="1">
                    <a:off x="1524240" y="5202000"/>
                    <a:ext cx="342720" cy="344160"/>
                  </a:xfrm>
                  <a:prstGeom prst="line">
                    <a:avLst/>
                  </a:prstGeom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0" name=""/>
                <p:cNvSpPr/>
                <p:nvPr/>
              </p:nvSpPr>
              <p:spPr>
                <a:xfrm flipH="1">
                  <a:off x="1518120" y="5197320"/>
                  <a:ext cx="347400" cy="35244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1200240" y="5198760"/>
                <a:ext cx="142560" cy="139680"/>
                <a:chOff x="1200240" y="5198760"/>
                <a:chExt cx="142560" cy="139680"/>
              </a:xfrm>
            </p:grpSpPr>
            <p:sp>
              <p:nvSpPr>
                <p:cNvPr id="682" name=""/>
                <p:cNvSpPr/>
                <p:nvPr/>
              </p:nvSpPr>
              <p:spPr>
                <a:xfrm flipV="1">
                  <a:off x="1276200" y="5198760"/>
                  <a:ext cx="0" cy="13968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200240" y="5268600"/>
                  <a:ext cx="14256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4" name=""/>
            <p:cNvGrpSpPr/>
            <p:nvPr/>
          </p:nvGrpSpPr>
          <p:grpSpPr>
            <a:xfrm>
              <a:off x="220320" y="5659560"/>
              <a:ext cx="142920" cy="139680"/>
              <a:chOff x="220320" y="5659560"/>
              <a:chExt cx="142920" cy="139680"/>
            </a:xfrm>
          </p:grpSpPr>
          <p:sp>
            <p:nvSpPr>
              <p:cNvPr id="685" name=""/>
              <p:cNvSpPr/>
              <p:nvPr/>
            </p:nvSpPr>
            <p:spPr>
              <a:xfrm>
                <a:off x="287280" y="5659560"/>
                <a:ext cx="0" cy="139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220320" y="5729400"/>
                <a:ext cx="1429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5074920" y="500292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a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73480" y="501264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a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88240" y="557928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87880" y="558108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Times New Roman"/>
                </a:rPr>
                <a:t>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1301760" y="1411200"/>
            <a:ext cx="9063000" cy="7122960"/>
            <a:chOff x="1301760" y="1411200"/>
            <a:chExt cx="9063000" cy="7122960"/>
          </a:xfrm>
        </p:grpSpPr>
        <p:sp>
          <p:nvSpPr>
            <p:cNvPr id="692" name=""/>
            <p:cNvSpPr/>
            <p:nvPr/>
          </p:nvSpPr>
          <p:spPr>
            <a:xfrm>
              <a:off x="2743200" y="326556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828800" y="4123800"/>
              <a:ext cx="0" cy="26290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778040" y="2720880"/>
              <a:ext cx="1523880" cy="1524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373280" y="1582560"/>
              <a:ext cx="19047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970000" y="1531800"/>
              <a:ext cx="1523880" cy="1524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56160" y="2428920"/>
              <a:ext cx="19015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265800" y="1581840"/>
              <a:ext cx="19051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526000" y="2424960"/>
              <a:ext cx="1905120" cy="3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646520" y="3263040"/>
              <a:ext cx="190836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51640" y="3261600"/>
              <a:ext cx="1908000" cy="3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429680" y="2424960"/>
              <a:ext cx="1904760" cy="3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69120" y="158436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59640" y="3262320"/>
              <a:ext cx="1903680" cy="1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706840" y="5769720"/>
              <a:ext cx="194292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1771560" y="5229000"/>
              <a:ext cx="1524240" cy="3305160"/>
              <a:chOff x="1771560" y="5229000"/>
              <a:chExt cx="1524240" cy="3305160"/>
            </a:xfrm>
          </p:grpSpPr>
          <p:sp>
            <p:nvSpPr>
              <p:cNvPr id="707" name=""/>
              <p:cNvSpPr/>
              <p:nvPr/>
            </p:nvSpPr>
            <p:spPr>
              <a:xfrm flipV="1">
                <a:off x="1828800" y="6629400"/>
                <a:ext cx="0" cy="190476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1771560" y="5229000"/>
                <a:ext cx="1524240" cy="152424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 flipH="1">
              <a:off x="4360680" y="4094280"/>
              <a:ext cx="19047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960280" y="4040280"/>
              <a:ext cx="1523880" cy="15238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621240" y="4929840"/>
              <a:ext cx="19015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6261120" y="4091760"/>
              <a:ext cx="190512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522760" y="4929840"/>
              <a:ext cx="19069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648320" y="5769720"/>
              <a:ext cx="190656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6553080" y="5768280"/>
              <a:ext cx="1906560" cy="3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427880" y="4929840"/>
              <a:ext cx="190656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8164440" y="4091760"/>
              <a:ext cx="191160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8459640" y="5768280"/>
              <a:ext cx="1905120" cy="32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15080" y="14112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16520" y="22575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05360" y="30924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05360" y="392256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05360" y="47610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05360" y="5600880"/>
              <a:ext cx="0" cy="34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15160" y="141120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21640" y="1417680"/>
              <a:ext cx="323640" cy="325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15160" y="225756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15160" y="225756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15160" y="309240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15160" y="309564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15160" y="392256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15160" y="392256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15160" y="476100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15160" y="475776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15160" y="559908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721640" y="5597640"/>
              <a:ext cx="336600" cy="336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357440" y="6599160"/>
              <a:ext cx="19047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6224760" y="6595200"/>
              <a:ext cx="399096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98880" y="642780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99320" y="6427800"/>
              <a:ext cx="343080" cy="34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99320" y="6434280"/>
              <a:ext cx="343080" cy="344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954160" y="6548400"/>
              <a:ext cx="1524240" cy="15238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25680" y="23360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84360" y="31568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31800" y="48092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09560" y="56300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39800" y="63698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128680" y="3014640"/>
              <a:ext cx="342720" cy="344520"/>
              <a:chOff x="2128680" y="3014640"/>
              <a:chExt cx="342720" cy="344520"/>
            </a:xfrm>
          </p:grpSpPr>
          <p:sp>
            <p:nvSpPr>
              <p:cNvPr id="749" name=""/>
              <p:cNvSpPr/>
              <p:nvPr/>
            </p:nvSpPr>
            <p:spPr>
              <a:xfrm>
                <a:off x="2128680" y="301464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28680" y="301464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2130120" y="3021120"/>
                <a:ext cx="33336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2965320" y="2176560"/>
              <a:ext cx="344520" cy="347040"/>
              <a:chOff x="2965320" y="2176560"/>
              <a:chExt cx="344520" cy="347040"/>
            </a:xfrm>
          </p:grpSpPr>
          <p:sp>
            <p:nvSpPr>
              <p:cNvPr id="753" name=""/>
              <p:cNvSpPr/>
              <p:nvPr/>
            </p:nvSpPr>
            <p:spPr>
              <a:xfrm>
                <a:off x="2967120" y="217656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7120" y="217656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2965320" y="2188800"/>
                <a:ext cx="336600" cy="334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963880" y="4653000"/>
              <a:ext cx="352440" cy="347400"/>
              <a:chOff x="2963880" y="4653000"/>
              <a:chExt cx="352440" cy="347400"/>
            </a:xfrm>
          </p:grpSpPr>
          <p:sp>
            <p:nvSpPr>
              <p:cNvPr id="757" name=""/>
              <p:cNvSpPr/>
              <p:nvPr/>
            </p:nvSpPr>
            <p:spPr>
              <a:xfrm>
                <a:off x="2973240" y="4656240"/>
                <a:ext cx="34308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3880" y="465300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981160" y="4667040"/>
                <a:ext cx="32400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 flipV="1">
              <a:off x="7724880" y="1417680"/>
              <a:ext cx="323640" cy="325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715160" y="2257560"/>
              <a:ext cx="343080" cy="342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728120" y="3095640"/>
              <a:ext cx="330120" cy="3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7715160" y="3928680"/>
              <a:ext cx="336600" cy="338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301760" y="6307200"/>
              <a:ext cx="342720" cy="344520"/>
              <a:chOff x="1301760" y="6307200"/>
              <a:chExt cx="342720" cy="344520"/>
            </a:xfrm>
          </p:grpSpPr>
          <p:sp>
            <p:nvSpPr>
              <p:cNvPr id="765" name=""/>
              <p:cNvSpPr/>
              <p:nvPr/>
            </p:nvSpPr>
            <p:spPr>
              <a:xfrm>
                <a:off x="1301760" y="6307200"/>
                <a:ext cx="342720" cy="34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01760" y="6307200"/>
                <a:ext cx="342720" cy="344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1311120" y="6308280"/>
                <a:ext cx="333360" cy="3337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147760" y="5477040"/>
              <a:ext cx="342720" cy="344160"/>
              <a:chOff x="2147760" y="5477040"/>
              <a:chExt cx="342720" cy="344160"/>
            </a:xfrm>
          </p:grpSpPr>
          <p:sp>
            <p:nvSpPr>
              <p:cNvPr id="769" name=""/>
              <p:cNvSpPr/>
              <p:nvPr/>
            </p:nvSpPr>
            <p:spPr>
              <a:xfrm>
                <a:off x="2147760" y="5477040"/>
                <a:ext cx="342720" cy="34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147760" y="5477040"/>
                <a:ext cx="342720" cy="3441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2158560" y="5484240"/>
                <a:ext cx="324000" cy="325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 flipV="1">
              <a:off x="7715160" y="4764240"/>
              <a:ext cx="341280" cy="34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723080" y="5606640"/>
              <a:ext cx="330480" cy="328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696080" y="6419880"/>
              <a:ext cx="343080" cy="342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432040" y="4857840"/>
              <a:ext cx="142920" cy="139680"/>
              <a:chOff x="5432040" y="4857840"/>
              <a:chExt cx="142920" cy="139680"/>
            </a:xfrm>
          </p:grpSpPr>
          <p:sp>
            <p:nvSpPr>
              <p:cNvPr id="776" name=""/>
              <p:cNvSpPr/>
              <p:nvPr/>
            </p:nvSpPr>
            <p:spPr>
              <a:xfrm>
                <a:off x="5499000" y="4857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5432040" y="4927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5430600" y="4016520"/>
              <a:ext cx="142920" cy="139680"/>
              <a:chOff x="5430600" y="4016520"/>
              <a:chExt cx="142920" cy="139680"/>
            </a:xfrm>
          </p:grpSpPr>
          <p:sp>
            <p:nvSpPr>
              <p:cNvPr id="779" name=""/>
              <p:cNvSpPr/>
              <p:nvPr/>
            </p:nvSpPr>
            <p:spPr>
              <a:xfrm>
                <a:off x="5497560" y="4016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5430600" y="40863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5432040" y="3201840"/>
              <a:ext cx="142920" cy="139680"/>
              <a:chOff x="5432040" y="3201840"/>
              <a:chExt cx="142920" cy="139680"/>
            </a:xfrm>
          </p:grpSpPr>
          <p:sp>
            <p:nvSpPr>
              <p:cNvPr id="782" name=""/>
              <p:cNvSpPr/>
              <p:nvPr/>
            </p:nvSpPr>
            <p:spPr>
              <a:xfrm>
                <a:off x="5499000" y="3201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5432040" y="3271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5432040" y="2363760"/>
              <a:ext cx="142920" cy="139680"/>
              <a:chOff x="5432040" y="2363760"/>
              <a:chExt cx="142920" cy="139680"/>
            </a:xfrm>
          </p:grpSpPr>
          <p:sp>
            <p:nvSpPr>
              <p:cNvPr id="785" name=""/>
              <p:cNvSpPr/>
              <p:nvPr/>
            </p:nvSpPr>
            <p:spPr>
              <a:xfrm>
                <a:off x="5499000" y="2363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5432040" y="243360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5432040" y="1521000"/>
              <a:ext cx="142920" cy="139680"/>
              <a:chOff x="5432040" y="1521000"/>
              <a:chExt cx="142920" cy="139680"/>
            </a:xfrm>
          </p:grpSpPr>
          <p:sp>
            <p:nvSpPr>
              <p:cNvPr id="788" name=""/>
              <p:cNvSpPr/>
              <p:nvPr/>
            </p:nvSpPr>
            <p:spPr>
              <a:xfrm>
                <a:off x="5499000" y="1521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5432040" y="15908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432040" y="5716440"/>
              <a:ext cx="142920" cy="139680"/>
              <a:chOff x="5432040" y="5716440"/>
              <a:chExt cx="142920" cy="139680"/>
            </a:xfrm>
          </p:grpSpPr>
          <p:sp>
            <p:nvSpPr>
              <p:cNvPr id="791" name=""/>
              <p:cNvSpPr/>
              <p:nvPr/>
            </p:nvSpPr>
            <p:spPr>
              <a:xfrm>
                <a:off x="5499000" y="5716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432040" y="57862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5432040" y="6543720"/>
              <a:ext cx="142920" cy="139680"/>
              <a:chOff x="5432040" y="6543720"/>
              <a:chExt cx="142920" cy="139680"/>
            </a:xfrm>
          </p:grpSpPr>
          <p:sp>
            <p:nvSpPr>
              <p:cNvPr id="794" name=""/>
              <p:cNvSpPr/>
              <p:nvPr/>
            </p:nvSpPr>
            <p:spPr>
              <a:xfrm>
                <a:off x="5499000" y="65437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432040" y="661356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7051320" y="6535800"/>
              <a:ext cx="142920" cy="139680"/>
              <a:chOff x="7051320" y="6535800"/>
              <a:chExt cx="142920" cy="139680"/>
            </a:xfrm>
          </p:grpSpPr>
          <p:sp>
            <p:nvSpPr>
              <p:cNvPr id="797" name=""/>
              <p:cNvSpPr/>
              <p:nvPr/>
            </p:nvSpPr>
            <p:spPr>
              <a:xfrm>
                <a:off x="7118280" y="65358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51320" y="660564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7051320" y="5710320"/>
              <a:ext cx="142920" cy="139680"/>
              <a:chOff x="7051320" y="5710320"/>
              <a:chExt cx="142920" cy="139680"/>
            </a:xfrm>
          </p:grpSpPr>
          <p:sp>
            <p:nvSpPr>
              <p:cNvPr id="800" name=""/>
              <p:cNvSpPr/>
              <p:nvPr/>
            </p:nvSpPr>
            <p:spPr>
              <a:xfrm>
                <a:off x="7118280" y="571032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051320" y="578016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050240" y="4863960"/>
              <a:ext cx="142560" cy="139680"/>
              <a:chOff x="7050240" y="4863960"/>
              <a:chExt cx="142560" cy="139680"/>
            </a:xfrm>
          </p:grpSpPr>
          <p:sp>
            <p:nvSpPr>
              <p:cNvPr id="803" name=""/>
              <p:cNvSpPr/>
              <p:nvPr/>
            </p:nvSpPr>
            <p:spPr>
              <a:xfrm>
                <a:off x="7116480" y="48639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7050240" y="493380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050240" y="4032360"/>
              <a:ext cx="142560" cy="139680"/>
              <a:chOff x="7050240" y="4032360"/>
              <a:chExt cx="142560" cy="139680"/>
            </a:xfrm>
          </p:grpSpPr>
          <p:sp>
            <p:nvSpPr>
              <p:cNvPr id="806" name=""/>
              <p:cNvSpPr/>
              <p:nvPr/>
            </p:nvSpPr>
            <p:spPr>
              <a:xfrm>
                <a:off x="7116480" y="403236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7050240" y="410220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7051320" y="3201840"/>
              <a:ext cx="142920" cy="139680"/>
              <a:chOff x="7051320" y="3201840"/>
              <a:chExt cx="142920" cy="139680"/>
            </a:xfrm>
          </p:grpSpPr>
          <p:sp>
            <p:nvSpPr>
              <p:cNvPr id="809" name=""/>
              <p:cNvSpPr/>
              <p:nvPr/>
            </p:nvSpPr>
            <p:spPr>
              <a:xfrm>
                <a:off x="7118280" y="320184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7051320" y="327168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051320" y="2359080"/>
              <a:ext cx="142920" cy="139680"/>
              <a:chOff x="7051320" y="2359080"/>
              <a:chExt cx="142920" cy="139680"/>
            </a:xfrm>
          </p:grpSpPr>
          <p:sp>
            <p:nvSpPr>
              <p:cNvPr id="812" name=""/>
              <p:cNvSpPr/>
              <p:nvPr/>
            </p:nvSpPr>
            <p:spPr>
              <a:xfrm>
                <a:off x="7118280" y="235908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51320" y="2428920"/>
                <a:ext cx="1429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7050240" y="1519200"/>
              <a:ext cx="142560" cy="139680"/>
              <a:chOff x="7050240" y="1519200"/>
              <a:chExt cx="142560" cy="139680"/>
            </a:xfrm>
          </p:grpSpPr>
          <p:sp>
            <p:nvSpPr>
              <p:cNvPr id="815" name=""/>
              <p:cNvSpPr/>
              <p:nvPr/>
            </p:nvSpPr>
            <p:spPr>
              <a:xfrm>
                <a:off x="7116480" y="1519200"/>
                <a:ext cx="0" cy="13968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50240" y="1589040"/>
                <a:ext cx="14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-4680" y="1243800"/>
            <a:ext cx="7839000" cy="6741360"/>
            <a:chOff x="-4680" y="1243800"/>
            <a:chExt cx="7839000" cy="6741360"/>
          </a:xfrm>
        </p:grpSpPr>
        <p:sp>
          <p:nvSpPr>
            <p:cNvPr id="818" name=""/>
            <p:cNvSpPr/>
            <p:nvPr/>
          </p:nvSpPr>
          <p:spPr>
            <a:xfrm flipH="1" flipV="1">
              <a:off x="4717800" y="1498320"/>
              <a:ext cx="2647800" cy="2647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3536640" y="4012920"/>
              <a:ext cx="895320" cy="8953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0" y="3232800"/>
              <a:ext cx="190512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0" y="155088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05120" y="1550880"/>
              <a:ext cx="190476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843200" y="3231720"/>
              <a:ext cx="223200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0" y="2399400"/>
              <a:ext cx="190188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866960" y="2399400"/>
              <a:ext cx="189540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06720" y="2401200"/>
              <a:ext cx="1447920" cy="1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766960" y="1550520"/>
              <a:ext cx="2075040" cy="72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0" y="5738040"/>
              <a:ext cx="194328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0" y="406224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0" y="4898160"/>
              <a:ext cx="190188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1752480" y="4060080"/>
              <a:ext cx="1905120" cy="1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897200" y="4898160"/>
              <a:ext cx="191268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1855800" y="5738040"/>
              <a:ext cx="2344680" cy="14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800520" y="4898160"/>
              <a:ext cx="1873080" cy="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8080" y="4727520"/>
              <a:ext cx="0" cy="34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0" y="6567480"/>
              <a:ext cx="1905120" cy="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4680" y="6564240"/>
              <a:ext cx="3797280" cy="36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71520" y="482688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318440" y="4026960"/>
              <a:ext cx="0" cy="292428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4076280" y="5689080"/>
              <a:ext cx="1505160" cy="1967400"/>
              <a:chOff x="4076280" y="5689080"/>
              <a:chExt cx="1505160" cy="196740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5533920" y="7075440"/>
                <a:ext cx="0" cy="58104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 flipV="1">
                <a:off x="4076280" y="5689080"/>
                <a:ext cx="1505160" cy="1505160"/>
              </a:xfrm>
              <a:prstGeom prst="line">
                <a:avLst/>
              </a:prstGeom>
              <a:ln w="343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4302000" y="5051160"/>
              <a:ext cx="349200" cy="352440"/>
              <a:chOff x="4302000" y="5051160"/>
              <a:chExt cx="349200" cy="3524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4302000" y="5054760"/>
                <a:ext cx="342720" cy="344520"/>
                <a:chOff x="4302000" y="5054760"/>
                <a:chExt cx="342720" cy="3445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4302000" y="5054760"/>
                  <a:ext cx="34272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302000" y="5054760"/>
                  <a:ext cx="34272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 flipV="1">
                <a:off x="4303440" y="505116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 flipH="1" flipV="1">
              <a:off x="4334040" y="2349000"/>
              <a:ext cx="2124000" cy="21243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3956040" y="3180960"/>
              <a:ext cx="3333600" cy="33339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407280" y="4351320"/>
              <a:ext cx="0" cy="124776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635360" y="7404120"/>
              <a:ext cx="0" cy="58104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3673080" y="6513120"/>
              <a:ext cx="1009800" cy="1009800"/>
            </a:xfrm>
            <a:prstGeom prst="line">
              <a:avLst/>
            </a:prstGeom>
            <a:ln w="343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771000" y="4246920"/>
              <a:ext cx="248760" cy="245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770440" y="4509720"/>
              <a:ext cx="349200" cy="352440"/>
              <a:chOff x="5770440" y="4509720"/>
              <a:chExt cx="349200" cy="352440"/>
            </a:xfrm>
          </p:grpSpPr>
          <p:grpSp>
            <p:nvGrpSpPr>
              <p:cNvPr id="855" name=""/>
              <p:cNvGrpSpPr/>
              <p:nvPr/>
            </p:nvGrpSpPr>
            <p:grpSpPr>
              <a:xfrm>
                <a:off x="5770440" y="4513320"/>
                <a:ext cx="343080" cy="344520"/>
                <a:chOff x="5770440" y="4513320"/>
                <a:chExt cx="343080" cy="34452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770440" y="451332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770440" y="451332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V="1">
                <a:off x="5772240" y="450972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5815080" y="5535360"/>
              <a:ext cx="348840" cy="352440"/>
              <a:chOff x="5815080" y="5535360"/>
              <a:chExt cx="348840" cy="35244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5815080" y="5538960"/>
                <a:ext cx="342720" cy="344160"/>
                <a:chOff x="5815080" y="5538960"/>
                <a:chExt cx="342720" cy="34416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5815080" y="5538960"/>
                  <a:ext cx="342720" cy="344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815080" y="5538960"/>
                  <a:ext cx="342720" cy="344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 flipV="1">
                <a:off x="5816520" y="5535360"/>
                <a:ext cx="34740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7485120" y="6135480"/>
              <a:ext cx="349200" cy="352440"/>
              <a:chOff x="7485120" y="6135480"/>
              <a:chExt cx="349200" cy="3524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7485120" y="6139080"/>
                <a:ext cx="343080" cy="344520"/>
                <a:chOff x="7485120" y="6139080"/>
                <a:chExt cx="343080" cy="3445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7485120" y="6139080"/>
                  <a:ext cx="343080" cy="3445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485120" y="6139080"/>
                  <a:ext cx="343080" cy="344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"/>
              <p:cNvSpPr/>
              <p:nvPr/>
            </p:nvSpPr>
            <p:spPr>
              <a:xfrm flipV="1">
                <a:off x="7486560" y="6135480"/>
                <a:ext cx="347760" cy="3524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5290920" y="47743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59080" y="530964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005240" y="6253920"/>
              <a:ext cx="464040" cy="2156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Times New Roman"/>
                </a:rPr>
                <a:t>W 70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992840" y="4217400"/>
              <a:ext cx="249840" cy="248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178320" y="4195440"/>
              <a:ext cx="246240" cy="245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105320" y="3885480"/>
              <a:ext cx="243000" cy="244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240" y="12438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12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49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440" y="209808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11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43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240" y="292824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10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3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8240" y="37569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9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240" y="459180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8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240" y="543636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7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5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240" y="6265080"/>
              <a:ext cx="18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Gleis 706</a:t>
              </a:r>
              <a:r>
                <a:rPr b="1" lang="de-DE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(NL 84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694400" y="1494000"/>
              <a:ext cx="142560" cy="139680"/>
              <a:chOff x="4694400" y="1494000"/>
              <a:chExt cx="142560" cy="139680"/>
            </a:xfrm>
          </p:grpSpPr>
          <p:sp>
            <p:nvSpPr>
              <p:cNvPr id="883" name=""/>
              <p:cNvSpPr/>
              <p:nvPr/>
            </p:nvSpPr>
            <p:spPr>
              <a:xfrm>
                <a:off x="4761000" y="14940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4694400" y="1563840"/>
                <a:ext cx="142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4296960" y="2341440"/>
              <a:ext cx="142920" cy="139680"/>
              <a:chOff x="4296960" y="2341440"/>
              <a:chExt cx="142920" cy="139680"/>
            </a:xfrm>
          </p:grpSpPr>
          <p:sp>
            <p:nvSpPr>
              <p:cNvPr id="886" name=""/>
              <p:cNvSpPr/>
              <p:nvPr/>
            </p:nvSpPr>
            <p:spPr>
              <a:xfrm>
                <a:off x="4364280" y="23414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4296960" y="24112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927240" y="3174840"/>
              <a:ext cx="142920" cy="139680"/>
              <a:chOff x="3927240" y="3174840"/>
              <a:chExt cx="142920" cy="139680"/>
            </a:xfrm>
          </p:grpSpPr>
          <p:sp>
            <p:nvSpPr>
              <p:cNvPr id="889" name=""/>
              <p:cNvSpPr/>
              <p:nvPr/>
            </p:nvSpPr>
            <p:spPr>
              <a:xfrm>
                <a:off x="3994560" y="317484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927240" y="32446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3501720" y="3994200"/>
              <a:ext cx="142920" cy="139680"/>
              <a:chOff x="3501720" y="3994200"/>
              <a:chExt cx="142920" cy="139680"/>
            </a:xfrm>
          </p:grpSpPr>
          <p:sp>
            <p:nvSpPr>
              <p:cNvPr id="892" name=""/>
              <p:cNvSpPr/>
              <p:nvPr/>
            </p:nvSpPr>
            <p:spPr>
              <a:xfrm>
                <a:off x="3569040" y="399420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501720" y="406404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3034800" y="4832280"/>
              <a:ext cx="142920" cy="139680"/>
              <a:chOff x="3034800" y="4832280"/>
              <a:chExt cx="142920" cy="139680"/>
            </a:xfrm>
          </p:grpSpPr>
          <p:sp>
            <p:nvSpPr>
              <p:cNvPr id="895" name=""/>
              <p:cNvSpPr/>
              <p:nvPr/>
            </p:nvSpPr>
            <p:spPr>
              <a:xfrm>
                <a:off x="3102120" y="48322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034800" y="490212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6:04:21Z</dcterms:created>
  <dc:creator>EckhardHuwald</dc:creator>
  <dc:description/>
  <dc:language>en-US</dc:language>
  <cp:lastModifiedBy>EckhardHuwald</cp:lastModifiedBy>
  <cp:lastPrinted>2005-02-02T17:12:32Z</cp:lastPrinted>
  <dcterms:modified xsi:type="dcterms:W3CDTF">2005-02-02T17:32:36Z</dcterms:modified>
  <cp:revision>130</cp:revision>
  <dc:subject/>
  <dc:title>Kein Folientitel</dc:title>
</cp:coreProperties>
</file>